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5D6B-4255-4F1B-BE01-352C5CA6DA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724D-F7CA-4D92-9170-B398EF5787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7C4B-9F72-4BCD-B58D-5AFFDA33A7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787-138A-490D-927D-5B2361A7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5E6-2397-4095-814F-882D1321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3C3-A477-426B-8D99-53AE70EC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B70-EDEC-4BE5-9364-1FF055A1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F6D-1E03-427A-98D8-38315E4D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A410-0E63-4CA5-B29C-1A00CA20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AE8C-4CA6-4E0D-B912-C06327EC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F143-7731-4247-903B-CA506C42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566B-709F-4D62-AF77-64B6E81F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C7F9-8BBD-4C94-9944-31568FD0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DBB-B85E-43BE-B0AF-267ED89F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1444-97EF-4F26-A9ED-7E0593EA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6AEE-A206-4579-8AFE-51A68BF3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DAE8-0D33-4F80-9A23-D1EC5BBC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49B3-C602-4D57-A2A3-AD5E76BD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B686-4070-4D09-BF55-267A4AED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D596-6544-44C8-8B52-850D740C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A844-E2A0-4C15-B4E4-6F3526D1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D43A-3B10-4559-915A-032D2248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39C9-38CA-449B-B17E-39EA2D8C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3830-90E7-4D1F-B436-4CC55EE2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772-33B2-4203-9997-3BD13205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C0D9-53A9-479C-AEF9-87B27708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5121-1A90-4C74-A4A3-DF835E0F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CFA1-3687-448F-8276-142E1C71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6AD27-4D4D-45A7-9613-9A9A7121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2D1C-9897-49D1-897E-B4E6492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E173-CCA0-4DA1-89BE-5E8D92A0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DD95-0B7B-4985-BAC1-9EADA3F2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DDFA-5BE2-4D0E-8912-3E8ADE4C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8A10-2909-4F20-A666-C7BBC2C6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2B370-E1F3-4169-B565-1C5E2560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99E-841F-4C51-B4E0-E7AA8E8A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9982-1057-4C11-84DA-C53FD0F0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C4D11-174C-4239-AC15-3B9B0AB8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D93A-6EE4-452E-AA9D-9AA17B83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235D9-8FE2-4597-A27B-05C6FD9E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B9F0-06D9-402F-A083-22F32620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7CD7C-2E1B-4E74-B9D9-35ABB9D0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F0287-2243-46A9-AB2A-F65364FB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D2CEC-81A0-4685-9CE7-A3F057D4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604C-22BB-437D-8A98-BCD8C285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0FC21-7E84-4A23-AD96-199A3FC3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10B-83F7-4E14-A6CC-72267D03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E4FFA-19AE-413A-8452-0B48AEB1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84A-B559-402D-8371-8129C5F0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28A-8C0B-497F-AEC3-E5FC2C16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562-190B-4D65-98EF-20033FB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CC52-BCA2-4E98-B555-71A3F62C82C9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B410-F858-4A9B-919D-B32BDBD21CFC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EE23-04B1-4935-90B5-DE76D8DAB4B1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8624-773B-469F-AF85-42E635603500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5280" y="271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rgus Authorization Service</a:t>
            </a:r>
            <a:br>
              <a:rPr sz="4400"/>
            </a:br>
            <a:r>
              <a:rPr b="0" i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Security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Valery Tschopp (SWITCH)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Argus P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Documenta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orizationFramework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implified Policy Languag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SimplifiedPolicyLanguag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AP admin CLI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ttps://twiki.cern.ch/twiki/bin/view/EGEE/AuthZPAPCL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Contact: </a:t>
            </a: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argus-support@cern.ch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6A45-1F07-49A4-BD7E-1DF4C1AB156C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Documentations &amp; 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389F-07A8-4870-881D-49083AAF7DEA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17F8-5E01-4781-AD86-95519248D4AE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Authorizatio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915840" y="795240"/>
            <a:ext cx="78742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s authorization decisions based on XACML poli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user X perform action Y on resource Z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n user by DN, FQAN, issuing CA, …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ArgusAuthorizationService.png"/>
          <p:cNvPicPr/>
          <p:nvPr/>
        </p:nvPicPr>
        <p:blipFill>
          <a:blip r:embed="rId1"/>
          <a:stretch/>
        </p:blipFill>
        <p:spPr>
          <a:xfrm>
            <a:off x="1954080" y="2065320"/>
            <a:ext cx="5457960" cy="2952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1"/>
          <p:cNvSpPr/>
          <p:nvPr/>
        </p:nvSpPr>
        <p:spPr>
          <a:xfrm>
            <a:off x="1104840" y="5543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828720" y="5057640"/>
            <a:ext cx="8183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nages and publishes the authoriza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es the authorization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solves the user execution environment e.g. UID, GID, pool accoun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P dae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cesses the PEP thin client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ontent Placeholder 6" descr="ArgusIntegration.png"/>
          <p:cNvPicPr/>
          <p:nvPr/>
        </p:nvPicPr>
        <p:blipFill>
          <a:blip r:embed="rId1"/>
          <a:srcRect l="0" t="-6279" r="0" b="-6279"/>
          <a:stretch/>
        </p:blipFill>
        <p:spPr>
          <a:xfrm>
            <a:off x="1198440" y="1317600"/>
            <a:ext cx="7480440" cy="5381640"/>
          </a:xfrm>
          <a:prstGeom prst="rect">
            <a:avLst/>
          </a:prstGeom>
          <a:ln w="0">
            <a:noFill/>
          </a:ln>
        </p:spPr>
      </p:pic>
      <p:sp>
        <p:nvSpPr>
          <p:cNvPr id="223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92A1-271D-4903-AF0C-6DDA3019FF2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De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ontent Placeholder 4"/>
          <p:cNvSpPr/>
          <p:nvPr/>
        </p:nvSpPr>
        <p:spPr>
          <a:xfrm>
            <a:off x="920880" y="758880"/>
            <a:ext cx="8030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gus as a site service to manage consistent authorization policy bas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33120" y="1074240"/>
            <a:ext cx="8210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Open ports (firewall):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AP: 8150 (pap-admin, policies publishing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EP daemon: 8154 (PEP client connection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og and audit fil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opt/argus/(pap|pdp|pepd)/logs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nit script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ap-standalone {start|stop|status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dp {start|stop|status|reloadpolicy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ourier New"/>
                <a:ea typeface="Courier New"/>
              </a:rPr>
              <a:t>/etc/init.d/pepd {start|stop|status|clearcache}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  <a:ea typeface="Courier New"/>
              </a:rPr>
              <a:t>Nagios plugins available to monitor the PAP, PDP and PEP daemon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71AC-EB86-499C-8CC5-49006536CD7B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rgus Op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Argus is designed to answer the questio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920"/>
                </a:solidFill>
                <a:latin typeface="Calibri"/>
              </a:rPr>
              <a:t>Can user X perform action Y on resource Z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authorize users to perform an action on a resour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Deny Decision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llow to ban user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oth can be express with XACML polici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0E9B-E804-416F-ACB7-806911CF0BA1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Authorization Deci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33120" y="1074240"/>
            <a:ext cx="7813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Set xmlns:xacml="urn:oasis:names:tc:xacml:2.0:policy:schema:os" PolicyCombiningAlgId="urn:oasis:names:tc:xacml:1.0:policy-combining-algorithm:first-applicable" PolicySetId="9784d9ce-16a9-41b9-9d26-b81a97f93616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esourceAttributeDesignator AttributeId="urn:oasis:names:tc:xacml:1.0:resource:resource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Resource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IdReference&gt;public_2d8346b8-5cd2-44ad-9ad1-0eff5d8a6ef1&lt;/xacml:PolicyIdReferenc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PolicyS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Policy xmlns:xacml="urn:oasis:names:tc:xacml:2.0:policy:schema:os" PolicyId="public_2d8346b8-5cd2-44ad-9ad1-0eff5d8a6ef1" RuleCombiningAlgId="urn:oasis:names:tc:xacml:1.0:rule-combining-algorithm:first-applicable" Version="1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Match MatchId="urn:oasis:names:tc:xacml:1.0:function:string-regexp-match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ttributeValue DataType="http://www.w3.org/2001/XMLSchema#string"&gt;.*&lt;/xacml:AttributeValue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ActionAttributeDesignator AttributeId="urn:oasis:names:tc:xacml:1.0:action:action-id" DataType="http://www.w3.org/2001/XMLSchema#string" MustBePresent="false"/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Match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Actions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/xacml:Target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&lt;xacml:Rule Effect="Deny" RuleId="43c15124-6635-47ee-b13c-53f672d0de77"&gt;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10920"/>
                </a:solidFill>
                <a:latin typeface="Courier New"/>
                <a:ea typeface="Courier New"/>
              </a:rPr>
              <a:t>...</a:t>
            </a:r>
            <a:endParaRPr b="0" lang="en-US" sz="9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B8E4-2FA8-4FB4-AE35-E23EC2A72B6E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roblem?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understan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Not easy to read or writ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Hide the XACML language complexity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Introduce a Simplified Policy Language (SPL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Provide tools to manage the polic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to create, edit, delete permit/deny policy rul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1735-4430-4E2D-8ADC-95264B888CC9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XACML Policy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33120" y="1074240"/>
            <a:ext cx="748044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Permit Atlas users (FQAN) to execute a job on a worker node (WN)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http://grid.switch.ch/wn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http://glite.org/xacml/action/execute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permit { fqan="/atlas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Ban a particular user by DN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esource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action ".*" {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rule deny { 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subject="/C=CH/O=SWITCH/CN=Valery Tschopp" 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92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9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5EAA-FDF6-4502-BA16-39B9F752D344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Simplified Policy Language (SP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933480" y="839520"/>
            <a:ext cx="8045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List active policie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list-policie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Import policies, in SPL format, from a file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ies-from-file      my-policies.sp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Easily ban/un-ban VOs, users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un-ban vo testVO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920"/>
                </a:solidFill>
                <a:latin typeface="Calibri"/>
                <a:ea typeface="Courier New"/>
              </a:rPr>
              <a:t>Add a generic policy: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ap-admin add-policy --resource "ce_1" --action ".*" permit 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Courier New"/>
                <a:ea typeface="Courier New"/>
              </a:rPr>
              <a:t>pfqan="/testVO/Role=pilot"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4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ecurity Training, EGI Technical Forum 2010, Amsterd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9C05-0230-4C15-A9A4-0EC0427253E5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3120" y="140760"/>
            <a:ext cx="65134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4694"/>
                </a:solidFill>
                <a:latin typeface="Calibri"/>
              </a:rPr>
              <a:t>pap-admin Command Line T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1:02:51Z</dcterms:created>
  <dc:creator>Valery Tschopp</dc:creator>
  <dc:description/>
  <dc:language>en-US</dc:language>
  <cp:lastModifiedBy>Valery Tschopp</cp:lastModifiedBy>
  <dcterms:modified xsi:type="dcterms:W3CDTF">2010-09-16T11:56:39Z</dcterms:modified>
  <cp:revision>48</cp:revision>
  <dc:subject/>
  <dc:title>Argus Authorization Service Security Training</dc:title>
</cp:coreProperties>
</file>