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3BE-3986-4CA3-BFC4-14FF2245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9FD-0C1B-4D1E-BC36-0D43324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2DD-0C1C-426A-AF16-A9E9A613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CF9-9582-4344-B07A-3E0E1AF4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82CC-D9B8-4125-92ED-553D1169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17C5-0667-43D7-96F5-E013123D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B94E-14E0-4E67-9321-BB08840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533-2A0A-4576-8BB7-F9AC886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EB8F-2988-428E-8705-B705302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08E-A3F8-400C-A045-58339E7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7280-D70A-4D22-90AD-0186C36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96E-B825-433E-ACEC-1C7EFDC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9AA8-9FFB-4556-A04E-AC48B80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CF5-7B67-4359-A8E9-639298A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6537-E41A-4879-A8CF-99EE5252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45B-C6F0-427A-A8A1-E686CF4A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5713-7958-415F-9495-3596ABB4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0E7B-99EB-43A6-8FAC-676B9ED5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F309-8381-414A-B645-0905F446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7BD0-D54B-4959-8A5D-C4E907A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0077-DE4C-436A-AC83-15FB1D8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15D9-8DDE-4E74-8EB8-49E9382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720-7415-4DFA-9F72-3FBD32EA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25FA-1DAB-404F-96AD-2378E9A5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AFA7-C2AC-4198-A10F-57AC5D0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680C-5DBA-4E9C-B409-9003E67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28B4-2FDF-4834-AB1A-05DAF2E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3375-332F-4802-B563-25BED778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BA2A-08E3-4E94-B11D-B088108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4BBA-5A81-4B11-AB44-87726108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A18-1530-4178-B112-3ADFE8F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DF0-2ECE-4C2F-B40F-53687CD7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D49-CB01-4046-B102-8EAE341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2A9-781D-4C72-84D2-1DF5392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241-3ACF-4CF2-9546-4334EC5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92F-E3DC-4EE7-AF2E-FFC29A0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ADE-1A9E-488E-AD31-A97387D2B6D6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A12-EDC7-403F-A8D8-DD5D1929613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365-D450-4A1C-BEE7-4EF55862A8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4000" spc="-1" strike="noStrike">
                <a:solidFill>
                  <a:srgbClr val="10253f"/>
                </a:solidFill>
                <a:latin typeface="Arial"/>
              </a:rPr>
              <a:t>EMI Authorization Integration</a:t>
            </a:r>
            <a:endParaRPr b="1" lang="en-US" sz="4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84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  <p:sp>
        <p:nvSpPr>
          <p:cNvPr id="185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82E-982D-4626-A809-4748D2ED64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0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114-DF47-430E-A35F-32BA59FA5C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Argus-EMI_Deployment.png"/>
          <p:cNvPicPr/>
          <p:nvPr/>
        </p:nvPicPr>
        <p:blipFill>
          <a:blip r:embed="rId1"/>
          <a:stretch/>
        </p:blipFill>
        <p:spPr>
          <a:xfrm>
            <a:off x="1816200" y="1562040"/>
            <a:ext cx="6468840" cy="43830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C62-BA6A-495E-9BE2-008EADF3A0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PilotJobAuthZ.png"/>
          <p:cNvPicPr/>
          <p:nvPr/>
        </p:nvPicPr>
        <p:blipFill>
          <a:blip r:embed="rId1"/>
          <a:stretch/>
        </p:blipFill>
        <p:spPr>
          <a:xfrm>
            <a:off x="1590840" y="2319480"/>
            <a:ext cx="6719760" cy="3536640"/>
          </a:xfrm>
          <a:prstGeom prst="rect">
            <a:avLst/>
          </a:prstGeom>
          <a:ln w="0">
            <a:noFill/>
          </a:ln>
        </p:spPr>
      </p:pic>
      <p:sp>
        <p:nvSpPr>
          <p:cNvPr id="198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1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(EMI-1 release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ck-compatible with gLite 3.2 Argus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Next Argus release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</a:t>
            </a:r>
            <a:r>
              <a:rPr b="0" i="1" lang="en-US" sz="2800" spc="-1" strike="noStrike">
                <a:solidFill>
                  <a:srgbClr val="010920"/>
                </a:solidFill>
                <a:latin typeface="Calibri"/>
              </a:rPr>
              <a:t>EMI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egration with UNICORE and A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Releas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CD26-1F96-4631-A8E4-74D7C2175B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 ongo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EMI middleware stack (CE, WN, SE, UNICORE, ARC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easy to manage and distribute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725F-C2CA-4507-931A-D1529A76A9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gus.eu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7BC4-F43C-4D95-A7A4-D63DEB2785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6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9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6DB-3DCF-4193-A5E6-29EF6596CF0F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0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11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mmon XACML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Authorization Integr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Releas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0F2-4336-4E03-B3BC-E8CB479C4EA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148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8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315-840E-4A2F-819B-53F9AB1045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9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0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e Policy Languag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C52-F2F2-4926-B06C-C8C5381EAF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policies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decision requests from the PEP Server or other components (UNICORE PDP, …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decis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770-2F99-4066-B8C3-99B0AE7F7E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07680" y="824040"/>
            <a:ext cx="85359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nforcement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API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decis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nds authorization decision (with obligations) back to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7404-E06D-4B32-BDB3-67DCDD353A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 common authorization profil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Define a common set of XACML authorization attribut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omogenous and consistent authorization decisions across the EMI middlewa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file released, but still need to be implemented f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ttps://twiki.cern.ch/twiki/bin/view/EMI/EmiJra1T4XACM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ommon XACML Authorization Profil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82EE-FB7C-43A0-B5F9-AF7012A134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MI-1 release authorization statu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uting Element (C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CREAM CE integrated with Argu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orker Node (WN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gLExec with LCMAPS PEP plugin for pilot job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: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PM/LFC banning engin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dCache authorization plugin (available in EMI-1, not enabled by default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12AA-F0B0-4920-870B-A1675D4FEB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9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uture work (EMI Year 2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mplement the common XACML authorization profil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gus update to support new profil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Extend the simple policy language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Define the new XACML attributes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UNICORE PDP integration in XACML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ARC SecHandler integration with PEP client API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age Element (S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StoRM authorization (banning)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MI Execution Service (ES) integration??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MI Authorization Integr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945-5A2C-479D-A898-59DDDAECE3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31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, EMI All Hands Meeting 2011, L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7:44:16Z</dcterms:created>
  <dc:creator>Valery Tschopp</dc:creator>
  <dc:description/>
  <cp:keywords/>
  <dc:language>en-US</dc:language>
  <cp:lastModifiedBy>Valery Tschopp</cp:lastModifiedBy>
  <dcterms:modified xsi:type="dcterms:W3CDTF">2011-05-31T07:58:15Z</dcterms:modified>
  <cp:revision>222</cp:revision>
  <dc:subject/>
  <dc:title>Argus - EMI Authorization Integration</dc:title>
</cp:coreProperties>
</file>