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3"/>
          </p:nvPr>
        </p:nvSpPr>
        <p:spPr>
          <a:xfrm>
            <a:off x="382284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612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4"/>
          </p:nvPr>
        </p:nvSpPr>
        <p:spPr>
          <a:xfrm>
            <a:off x="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5"/>
          </p:nvPr>
        </p:nvSpPr>
        <p:spPr>
          <a:xfrm>
            <a:off x="3822840" y="93736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8547-EA8C-4E46-8952-504391562C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0D85-A100-4D32-9D71-A95E55C0E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A682-898E-4291-9CDC-8B6872CF72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F6CE-7E78-4BFC-95DC-2B776F7EA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D37C-36CE-4225-8C49-2CA45E478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F7F4-C9EC-4494-9A7F-5AF117B2F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60F7-FD8A-4F16-BE83-C44527EA99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37CA-B6D1-41ED-A6D3-38512F1E4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CC22-92DD-47FB-9315-57E1FF5877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A363-DDB0-4169-8C7E-9323A343F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6501-32D4-458B-94E8-C9A176E741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F50D-DFC2-4330-82FD-BE099525F6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97F1-AE6A-49CA-8BC4-6C1CCD84B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A8AC-F309-452C-ADC5-5386A18EC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75EC-1C2F-441F-BC15-3CA5964280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22840" y="9374040"/>
            <a:ext cx="2922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7E56-5A4C-4F44-A761-3C7F8EFAC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4280" y="4687560"/>
            <a:ext cx="53974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481B-65CE-4336-9E94-79E6FAC1E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34CF-75B3-4A63-A4AE-92330B1F1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BDFB-F28E-4327-B78E-AA8678C2B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DD0B0-DAD1-41DC-ACD9-A995A0375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623B-23A8-4CD0-AD96-C7DAC3A00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2EB1-76E6-4029-B898-8C8919F39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1BA2-1522-4467-A363-B9617E08D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A6C8-82A5-49FA-AA22-5E7398291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A6FA-DAAD-445F-9087-707A49F6E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899A-18DE-41C9-A4F0-D96332BC0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19C8-4216-418E-B796-F8CA17F35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3421-9E01-4CB4-A960-7B94728C0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ROD Workshop June 2,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248B-AF41-4DA5-9DD4-7231D430800C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Rectangle 120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" name="Oval 121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grpSp>
        <p:nvGrpSpPr>
          <p:cNvPr id="7" name="Group 123"/>
          <p:cNvGrpSpPr/>
          <p:nvPr/>
        </p:nvGrpSpPr>
        <p:grpSpPr>
          <a:xfrm>
            <a:off x="255600" y="644400"/>
            <a:ext cx="3652920" cy="327240"/>
            <a:chOff x="255600" y="644400"/>
            <a:chExt cx="3652920" cy="32724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325faf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0"/>
          <p:cNvSpPr/>
          <p:nvPr/>
        </p:nvSpPr>
        <p:spPr>
          <a:xfrm>
            <a:off x="0" y="649116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1" name="Picture 136" descr="egee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0" name="Rectangle 31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52" name="Oval 40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3" name="Picture 46" descr="eu_logo2"/>
          <p:cNvPicPr/>
          <p:nvPr/>
        </p:nvPicPr>
        <p:blipFill>
          <a:blip r:embed="rId2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8"/>
          <p:cNvSpPr/>
          <p:nvPr/>
        </p:nvSpPr>
        <p:spPr>
          <a:xfrm>
            <a:off x="0" y="6491160"/>
            <a:ext cx="29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EGEE-III INFSO-RI-222667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5" name="Picture 53" descr="egee_bigger"/>
          <p:cNvPicPr/>
          <p:nvPr/>
        </p:nvPicPr>
        <p:blipFill>
          <a:blip r:embed="rId3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6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7" name="Picture 59" descr="EGEE 30y"/>
          <p:cNvPicPr/>
          <p:nvPr/>
        </p:nvPicPr>
        <p:blipFill>
          <a:blip r:embed="rId4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2"/>
          <p:cNvSpPr/>
          <p:nvPr/>
        </p:nvSpPr>
        <p:spPr>
          <a:xfrm>
            <a:off x="576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59" name="Picture 63" descr="InfsoMedia_EN_RGB_Hi"/>
          <p:cNvPicPr/>
          <p:nvPr/>
        </p:nvPicPr>
        <p:blipFill>
          <a:blip r:embed="rId5"/>
          <a:stretch/>
        </p:blipFill>
        <p:spPr>
          <a:xfrm>
            <a:off x="6329520" y="5592600"/>
            <a:ext cx="1336680" cy="858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4"/>
          <p:cNvSpPr/>
          <p:nvPr/>
        </p:nvSpPr>
        <p:spPr>
          <a:xfrm>
            <a:off x="5643720" y="6491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5faf"/>
                </a:solidFill>
                <a:latin typeface="Verdana"/>
              </a:rPr>
              <a:t>EGEE and gLite are registered trademarks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b519a"/>
                </a:solidFill>
                <a:latin typeface="Arial"/>
              </a:rPr>
              <a:t>Argus: </a:t>
            </a:r>
            <a:br>
              <a:rPr sz="3600"/>
            </a:br>
            <a:r>
              <a:rPr b="1" lang="en-GB" sz="2800" spc="-1" strike="noStrike">
                <a:solidFill>
                  <a:srgbClr val="2b519a"/>
                </a:solidFill>
                <a:latin typeface="Arial"/>
              </a:rPr>
              <a:t>General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60720" y="4019400"/>
            <a:ext cx="65181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Christoph Witzig, SWITC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(christoph.witzig@switch.ch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08" name="Picture 3" descr="argus_logo.png"/>
          <p:cNvPicPr/>
          <p:nvPr/>
        </p:nvPicPr>
        <p:blipFill>
          <a:blip r:embed="rId1"/>
          <a:stretch/>
        </p:blipFill>
        <p:spPr>
          <a:xfrm>
            <a:off x="6721560" y="2562120"/>
            <a:ext cx="1270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1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enables access for administr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YAIM Variable PAP_ADMIN_DN in site-info.def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Listing ACLs of Argus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[witzig@chaos ~]$ pap-admin  list-acl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"/DC=ch/DC=switch/DC=slcs/O=Switch - Teleinformatikdienste fuer Lehre und Forschung/CN=Christoph Witzig 8CA3021D" 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OLICY_READ_LOCAL|POLICY_READ_REMOTE|POLICY_WRITE|CONFIGURATION_READ|CONFIGURATION_WRI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Note: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assphrase for private key will have to be enter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very command supports –h option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F34A-832A-4CB5-9845-E3C944DA2AD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guring Administrator Access (2/2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dding a DN or FQAN to gain full acces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1. Add a D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‘/DC=ch/DC=switch/DC=slcs/O=Switch - Teleinformatikdienste fuer Lehre und Forschung/CN=Christoph Witzig 8CA3021D'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2. Add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3. Remove an FQA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[witzig@chaos ~]$ pap-admin  add-ace '/atlas/Role=VO-Admin’ 'ALL’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A42D-CCF5-4FF9-8B7B-BB5ECF59646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guring User Ma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-mapfile and groupmapfile determines the user mapping to username and groupname(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ame format as LCMAPS, same functionalit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e configured through the mandatory YAIM vari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SER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ROUPS_CONF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te: If manual configuration, then these directories and files have to be created manual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7E2F-4BF0-464D-A7ED-700605CC0C8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ing Ar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agios plug-ins are availabl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https://twiki.cern.ch/twiki/bin/view/EGEE/AuthZNagio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2F01-B66D-4A05-B75A-6169B4000EF6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31BA-941F-4F77-B59B-6E62D1C9BAA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mmand line interfac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4F34-8CD6-48B0-8610-D188352A1B82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gus C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is operated from the command line (YAIM installed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tarting / stopping / query status of the service compon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hree components PAP, PDP, PEPd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/etc/init.d/&lt;component&gt;  &lt;start&gt;&lt;stop&gt;&lt;status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Configure admin access righ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/remove polici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olicies eithe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Added/removed from command lin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mport/export of file in simplified policy languag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ep in mind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 use-case simply uses site global banning/unbanning of DNs, FQANs, VOs, CA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4A9D-6F13-457E-BD24-99097732802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nning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un-ban a user on the entire sit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subject &lt;d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pap-admin un-ban fqan &lt;fqan&gt;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o ban a user on a specific resource: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pap-admin ban -r resource_id –a action subject &lt;dn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Decisions are taken for a given resource and a given action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.g. A WN has a resource id and the action may be “execute_pilot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licies are formulated for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dividual resource and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roups of resources and groups of ac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ll resources and all ac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te global enable/disable of a VO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resources and actions permit all users of a given VO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ny a user on all WNs for glexec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all WN resources and all actions deny user D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ermit VOs only on certain 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1” permit VO “ATLA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or resource “CE_2” permit VO “CMS”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2636-2F91-4350-8961-7908056F8B9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mplified Policy Language (SPL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llows to create more complex policies using a custom syntax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Policies are loaded into Argus through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[witzig@chaos ~]$ more test_policy.txt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esource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obligation "http://glite.org/xacml/obligation/local-environment-map" { 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action ".*" {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atla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rule permit {vo="cms"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2b519a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ap-admin add-policies-from-file test_policy.tx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72C7-FB8E-421A-8041-D20C1EEA6EE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orization Decis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ist polic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Please enter the passphrase for the private key file /home/witzig/.globus/userkey.pem: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"http://glite.org/xacml/obligation/local-environment-map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197A-A291-489A-A83A-DB10AADF893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78CC-96DB-40C0-9970-D3961D8D5B7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stallation and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dering of Poli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 ordering matters: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applicable rule determines the resul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witzig@chaos ~]$ pap-admin list-polici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default (local):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esource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obligation http://glite.org/xacml/obligation/local-environment-map {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action ".*" {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rule deny { subject="CN=Christoph Witzig 8CA3021D,O=Switch -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Teleinformatikdienste fuer Lehre und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  <a:ea typeface="ＭＳ Ｐゴシック"/>
              </a:rPr>
              <a:t>Forschung,DC=slcs,DC=switch,DC=ch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atla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rule permit { vo="cms"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B7EC-C763-4163-B5EB-961A51B104E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5600" y="84096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figure glExec on WN to call-out to Ar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twiki.cern.ch/twiki/bin/view/EGEE/AuthZPEPgLExecInstal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53760" indent="-2512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ample test on WN:</a:t>
            </a:r>
            <a:br>
              <a:rPr sz="2400"/>
            </a:b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# pilot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X509_USER_PROXY=${X509_USER_PROXY:-"/tmp/x509up_`id -u`"} 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ayload job prox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export GLEXEC_CLIENT_CERT=${GLEXEC_CLIENT_CERT:-$X509_USER_PROXY}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opt/glite/sbin/glexec /usr/bin/id; echo $?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uid=40205(testuseraccount) gid=2013(testusergroup) 0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1C78-58C3-4E97-88F7-32A0A39F76F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ing Argus Setu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 simple standalone client is also available: pepcli</a:t>
            </a:r>
            <a:br>
              <a:rPr sz="2400"/>
            </a:b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Needs to be installed separately – tool for testing/debugging </a:t>
            </a:r>
            <a:r>
              <a:rPr b="1" i="1" lang="en-US" sz="1800" spc="-1" strike="noStrike" u="sng">
                <a:solidFill>
                  <a:srgbClr val="2b519a"/>
                </a:solidFill>
                <a:uFillTx/>
                <a:latin typeface="Arial"/>
              </a:rPr>
              <a:t>only</a:t>
            </a:r>
            <a:br>
              <a:rPr sz="1800"/>
            </a:b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https://twiki.cern.ch/twiki/bin/view/EGEE/AuthZPEPCCL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olicy: </a:t>
            </a:r>
            <a:br>
              <a:rPr sz="24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ap-admin ap --resource ".*" --action  ".*" permit vo="switch”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est: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pepcli -p https://chaos.switch.ch:8154/authz -r my_res  -a my_action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c /tmp/x509up_u964  --cert .globus/usercert.pem \</a:t>
            </a:r>
            <a:br>
              <a:rPr sz="2000"/>
            </a:br>
            <a:r>
              <a:rPr b="0" i="1" lang="en-US" sz="2000" spc="-1" strike="noStrike">
                <a:solidFill>
                  <a:srgbClr val="2b519a"/>
                </a:solidFill>
                <a:latin typeface="Arial"/>
              </a:rPr>
              <a:t> --key .globus/userkey.pem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Resource: my_r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Decision: Permi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Obligation: http://glite.org/xacml/obligation/local-environment-map/posix (caller should resolve POSIX account mapping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Username: dteam026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Group: dteam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76AA-70A0-44CA-90ED-A692AF8C225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updates the policies in regular intervals and caches results for performance reas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onsequence: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hen modifying policies you must execute the following two commands to make sure they are valid immediately: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# policy is effective immediately</a:t>
            </a:r>
            <a:br>
              <a:rPr sz="2400"/>
            </a:br>
            <a:r>
              <a:rPr b="0" i="1" lang="en-US" sz="2400" spc="-1" strike="noStrike">
                <a:solidFill>
                  <a:srgbClr val="2b519a"/>
                </a:solidFill>
                <a:latin typeface="Arial"/>
              </a:rPr>
              <a:t>/etc/init.d/pdp reloadpolic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# clear 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8f"/>
                </a:solidFill>
                <a:latin typeface="Arial"/>
              </a:rPr>
              <a:t>/etc/init.d/pepd clearcache</a:t>
            </a:r>
            <a:endParaRPr b="0" lang="en-US" sz="24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D9F0-5F22-4AB7-8638-791FC8426D9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ling list: argus-support@cern.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rgus support unit in GG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Wiki: </a:t>
            </a:r>
            <a:r>
              <a:rPr b="1" lang="en-US" sz="24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https://twiki.cern.ch/twiki/bin/view/EGEE/AuthorizationFramework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F691-390F-421E-937D-7BF3F3A31DC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9DC-2CFB-47C9-9F2B-246E5BE22B12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bout Argu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uthZ service design document: https://edms.cern.ch/document/944192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ployment plan: https://edms.cern.ch/document/984088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eneral EGEE grid securit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Authorization study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887174/1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gLite security: architecture: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ttps://edms.cern.ch/document/935451/2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6D56-E2DC-4246-8A8B-06C7A3279B7C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ndix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tivation for Argus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4A15-9547-4E79-BAC9-67A13807947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28320" y="66240"/>
            <a:ext cx="6859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Different Services use different authorization mechanism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me services even use internally more than one authorization framewor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do not have simple debugging tools to check and understand their authorization configur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dministrators must configure the authorization for each service at their site separatel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1: At a site, there is no single point to ban users/groups of users for the entire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 2: many site administrators don’t know how to ban user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re should be a command line tool for banning and un-banning users at a si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A97D-AFB2-4368-94BF-C7816A16132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Problems Are We Trying to Solv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re is no central grid-wide banning list to be used during incid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sequence: Urgent ban cannot be taken for granted during incid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s cannot publish their complete authorization policy to the outside worl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urrently only assignment of FQANS (experience of DENY tag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Fixing this problem does not mean that sites MUST publish their authorization polic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o monitoring on authorization decis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0197-DBEC-4562-B562-CBF7C290B66B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1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in benefit within EGEE-III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ressing the above list of short-coming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sistance to failure and simple means for scaling the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lexible deployment mod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 dependency on a shared file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High availability op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lient component is very lightweigh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mall amount of cod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ew dependencies (especially on WN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ortability: support on other OS and languages eas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FABF-7C03-4C2A-AA87-C2AFAA8B037D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gLite Authorization Servic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veloped in EGEE-III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ssed staged rollout in April 2010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 EMI: Argus P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esponsible for maintenance and support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stitutions: CNAF, HIP, NIKHEF, SWITCH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rgus = Attribute-based Authorization servic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ttributes = DN, CA, FQAN, …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ternal engine that determines whether a request containing a set of attributes shall be authorized or no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Note abbreviation: authZ = authorizat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10D6-3A43-4DE1-A1BC-83463E180035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: 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 of the Authorization Service (2/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 addition (cont.)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s/eases various authorization tasks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anning of users (VO, WMS, site, or grid wide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osition of policies – CERN policy + experiment policy + CE policy + OCST policy + NGI policy=&gt; Effective polic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more detailed information about the job, action, and execution environme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authorization based on attributes other than FQA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upport for multiple credential formats (not just X.509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upport for multiple types of execution environ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Virtual machines, workspaces, …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agios plug-ins provided for monitoring of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Exec on WN (multi-user pilot job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44CE-D309-413A-AF6F-313089B7ACF0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21" name="Picture 1030" descr="wn-use-case"/>
          <p:cNvPicPr/>
          <p:nvPr/>
        </p:nvPicPr>
        <p:blipFill>
          <a:blip r:embed="rId1"/>
          <a:stretch/>
        </p:blipFill>
        <p:spPr>
          <a:xfrm>
            <a:off x="1174680" y="1417680"/>
            <a:ext cx="67946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Use-Cas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lobal Banning li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SCT / EGI CSIRT operates a global banning list (for incidents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rgus can be configured to import this global banning li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ote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is by default disabl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19680" indent="-44316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lobal banning (if activated) can be overruled by local admi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FTP (GSI call out)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43160" indent="-443160">
              <a:spcBef>
                <a:spcPts val="349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REAM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(see next slide)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tegration Argus – CREAM currently in develop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ther services are planned in EMI </a:t>
            </a:r>
            <a:r>
              <a:rPr b="1" lang="en-US" sz="2400" spc="-1" strike="noStrike">
                <a:solidFill>
                  <a:srgbClr val="2b519a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single point for authorization decisions at a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31240" indent="-44316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B063-5BA5-4F9E-BA05-F9D9C9533A51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00B9-E50B-4D74-A5D0-FBEFC2176C52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service_components_ce"/>
          <p:cNvPicPr/>
          <p:nvPr/>
        </p:nvPicPr>
        <p:blipFill>
          <a:blip r:embed="rId1"/>
          <a:stretch/>
        </p:blipFill>
        <p:spPr>
          <a:xfrm>
            <a:off x="588960" y="888840"/>
            <a:ext cx="77389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E327-3097-4A05-AA2A-F6A8EBCB3E5F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Compon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600" y="5216040"/>
            <a:ext cx="858996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Administration Point: Formulating the rules through command line interface and/or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file-based inpu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Decision Point:           Evaluating a request from a client based on the rules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Enforcement Point:    Thin client part and server part: all complexity in server pa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Runtime Execution Environment: Under which env. must I run? (UID, GID)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9960" y="1749600"/>
            <a:ext cx="1317600" cy="84132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rules: 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Banning unbanning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Pilot job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  <p:pic>
        <p:nvPicPr>
          <p:cNvPr id="135" name="Picture 8" descr="service_components"/>
          <p:cNvPicPr/>
          <p:nvPr/>
        </p:nvPicPr>
        <p:blipFill>
          <a:blip r:embed="rId1"/>
          <a:stretch/>
        </p:blipFill>
        <p:spPr>
          <a:xfrm>
            <a:off x="1832040" y="843120"/>
            <a:ext cx="4976640" cy="4414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6281640" y="4226040"/>
            <a:ext cx="2444760" cy="442800"/>
          </a:xfrm>
          <a:prstGeom prst="rect">
            <a:avLst/>
          </a:prstGeom>
          <a:noFill/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Initial default deployment: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All components on one host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Introduc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tallation and Configuration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ommand line interf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2FD8-8463-434E-AF51-59E6035145A7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5600" y="83484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YAIM Installation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ation and configuration of Argus on one host (default configuration) using YAIM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(resp. LCMAPS) on WN to call out to Arg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global banning list (if desired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anual installa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stall three components (PAP, PDP, PEP daemon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nfigure compon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062720" indent="-2124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cluding administrator access configur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heck out functionality  using CL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dd polic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nfigure glexec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690840" indent="-26568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1736640" y="6559560"/>
            <a:ext cx="6702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ROD Workshop June 2, 2010, Amsterdam</a:t>
            </a:r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521560" y="656280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D154-FAF4-4B5A-A6AC-E9BC1997761A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25f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2:54:21Z</dcterms:created>
  <dc:creator/>
  <dc:description/>
  <dc:language>en-US</dc:language>
  <cp:lastModifiedBy>Christoph Witzig</cp:lastModifiedBy>
  <cp:lastPrinted>2006-09-26T11:39:25Z</cp:lastPrinted>
  <dcterms:modified xsi:type="dcterms:W3CDTF">2010-06-02T08:45:55Z</dcterms:modified>
  <cp:revision>1293</cp:revision>
  <dc:subject/>
  <dc:title>Title</dc:title>
</cp:coreProperties>
</file>