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C8B-749F-4755-BA8D-23602963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31A-78B9-4F32-9BB5-6820068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1C5-4AD2-4DA7-AB83-E9C971E7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7A2-7FDB-4EC8-B4E4-74D34E7E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2BC2-1F18-4050-BDF5-91BCB9C7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0482-196F-449F-A14B-13D69198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8B50-D6EB-4F95-9153-EA78AD89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22D7-0A34-4AF3-940E-785FCEF6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0139-C350-4EBF-9E03-1AFB5530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1C51-EC73-4645-B5E3-312D03A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1E6D-5FD1-47A3-BB5B-915CAF58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B43-8D1B-4333-9076-D248C168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70DE-0F6B-4E98-AB47-C779B6A2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6346-0299-49C0-959F-7BA4173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1353-75C4-4556-AF4E-94D1964E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93C5-DD21-438E-A527-8DEEE31B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0ADF-6BB4-443C-9121-E3B1C5BB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543B-78E5-4DE2-B5F2-2F1AB1F6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07BDB-DC08-49DC-80E6-74BB5CBE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2244-77D6-461E-9DC3-CBE85CB4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4564-D4EE-4521-B1BB-88D0276B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7A1A-7472-493E-AEC5-50886C6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9D2-81CD-4CDF-A9DC-DECA272D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31B0-972A-4A06-9519-6687CBCC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8FC1-5B46-41D9-8000-774290C8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0241-DFC3-451F-B0FA-163BDD72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E7D7-7989-473E-8AB9-1AA866D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B3D4-A837-4383-AA3B-4249585A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B9D9-B8A4-49F1-A47A-53EB52B5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73428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63640" y="84132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0456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73428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63640" y="3601800"/>
            <a:ext cx="24087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E89E-52B9-482F-8A1F-CB7EDAEB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2AB-A431-4B60-86E6-B40017B7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A04-9294-4E27-9968-044BEA06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757-AD6B-4D88-9131-D69B4A3D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641-7FF8-432B-81CF-CC769CC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8560" y="360180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D93-1A2D-4658-969C-59B39FB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4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8560" y="841320"/>
            <a:ext cx="3651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4560" y="3601800"/>
            <a:ext cx="7481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4D3-D961-4E86-A2D5-3AFE7FD7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29BD-72EB-4599-B752-6B59FABFF5B7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0" y="0"/>
            <a:ext cx="1049400" cy="6858000"/>
          </a:xfrm>
          <a:prstGeom prst="rect">
            <a:avLst/>
          </a:prstGeom>
          <a:solidFill>
            <a:srgbClr val="01092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1912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E97A-6026-4768-9384-8841369BF6C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0"/>
          <p:cNvSpPr/>
          <p:nvPr/>
        </p:nvSpPr>
        <p:spPr>
          <a:xfrm rot="10800000">
            <a:off x="0" y="4220640"/>
            <a:ext cx="369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-36360" y="0"/>
            <a:ext cx="676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 rot="10800000">
            <a:off x="75960" y="509436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 rot="16200000">
            <a:off x="-173520" y="4502880"/>
            <a:ext cx="836640" cy="352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04560" y="841320"/>
            <a:ext cx="74818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109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0456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BBF1-5B2F-4390-92E4-63EDEA8886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twiki.cern.ch/twiki/bin/view/EGEE/AuthorizationFramework" TargetMode="External"/><Relationship Id="rId2" Type="http://schemas.openxmlformats.org/officeDocument/2006/relationships/hyperlink" Target="https://twiki.cern.ch/twiki/bin/view/EMI/ArgusSRC" TargetMode="External"/><Relationship Id="rId3" Type="http://schemas.openxmlformats.org/officeDocument/2006/relationships/hyperlink" Target="https://twiki.cern.ch/twiki/bin/view/EGEE/AuthZPAPCLI" TargetMode="External"/><Relationship Id="rId4" Type="http://schemas.openxmlformats.org/officeDocument/2006/relationships/hyperlink" Target="https://twiki.cern.ch/twiki/bin/view/EGEE/SimplifiedPolicyLanguage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EMI-Euro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0253f"/>
                </a:solidFill>
                <a:latin typeface="Arial"/>
              </a:rPr>
              <a:t>Argus</a:t>
            </a:r>
            <a:br>
              <a:rPr sz="4400"/>
            </a:br>
            <a:r>
              <a:rPr b="1" lang="en-GB" sz="3600" spc="-1" strike="noStrike">
                <a:solidFill>
                  <a:srgbClr val="10253f"/>
                </a:solidFill>
                <a:latin typeface="Arial"/>
              </a:rPr>
              <a:t>The EMI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462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0253f"/>
                </a:solidFill>
                <a:latin typeface="Calibri"/>
              </a:rPr>
              <a:t>Argus Product Team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pic>
        <p:nvPicPr>
          <p:cNvPr id="140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3022560" y="1106640"/>
            <a:ext cx="30988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47880" y="824040"/>
            <a:ext cx="79516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distributio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: 8154 (PEP client connections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var/log/argus/(pap|pdp|pepd)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ap {start|stop|status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dp {start|stop|status|reloadpolicy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argus-pepd {start|stop|status|clearcache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servi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Service Operat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96B7-3782-49A3-A46F-E50F8758C3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4560" y="824040"/>
            <a:ext cx="7767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s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Is user X banned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ed with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96D-4AFD-494C-9654-9C34C17634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XACML policies !?!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56AA-DD57-48AB-B64C-F14F489CA9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1"/>
          <p:cNvSpPr/>
          <p:nvPr/>
        </p:nvSpPr>
        <p:spPr>
          <a:xfrm>
            <a:off x="933480" y="1555920"/>
            <a:ext cx="7813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”PolicyCombiningAlgId="urn:oasis:names:tc:xacml:1.0:policy-combining-algorithm:first-applicable" PolicySetId="9784d9ce-16a9-41b9-9d26-b81a97f93616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” PolicyId="public_2d8346b8-5cd2-44ad-9ad1-0eff5d8a6ef1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CombiningAlgId="urn:oasis:names:tc:xacml:1.0:rule-combining-algorithm:first-applicable" Version="1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read and/or understand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XACML not easy to write, prone to error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administrators with simple tool to manage the polici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thorization Policies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8ECB-D163-4740-99AA-09BCC5A598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implified Policy Languag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C685-3910-40A1-81BD-88AB041C194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dministrator’s tool to manage the PAP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ies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server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uthorization management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ban user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way to create, edit and dele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53A5-BFF9-44E4-B161-46AFAFB2D9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rea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a user by distinguished name (D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dd-policy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subject="CN=Valery Tschopp,O=SWITCH,C=ch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rmit users by primary FQA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ap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resource “http://grid.switch.ch/wn” 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--action “http://glite.org/xacml/action/execute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permit pfqan=”/atlas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an a user for any action and resourc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ban subject "CN=John Doe,O=ACME,C=org”</a:t>
            </a: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D9D-FEB1-4BFC-9AB4-94847326D5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25320" y="824040"/>
            <a:ext cx="82915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ing existing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$ pap-admin lp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Enter the passphrase for the private key /home/tschopp/.globus/userkey.pem: 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default (local):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.*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subject="CN=John Doe,O=ACME,C=org”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atlas-cluster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pfqan="/atlas" 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CN=Valery Tschopp,O=SWITCH,C=ch”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92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ap-admin Tool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71EB-2A14-454B-83C2-F5565F767E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yload is downloaded on the W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Exec runs it under the end-user identit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s Authoriz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266C-09D2-4A8F-811B-626FA317DC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PilotJobAuthZ.png"/>
          <p:cNvPicPr/>
          <p:nvPr/>
        </p:nvPicPr>
        <p:blipFill>
          <a:blip r:embed="rId1"/>
          <a:stretch/>
        </p:blipFill>
        <p:spPr>
          <a:xfrm>
            <a:off x="1469880" y="2290680"/>
            <a:ext cx="6737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36560" y="824040"/>
            <a:ext cx="819000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 Policy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”http://grid.switch.ch/wn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obligation "http://glite.org/xacml/obligation/local-environment-map" { 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”http://glite.org/xacml/action/execute" {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atlas/Role=pilot"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fqan=”/atlas/analysis”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Pilot Job Authorization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553A-9576-4357-A14F-E0B2BE81B3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uthorization Servic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ervice Deployme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-admin Tool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 EMI-1 Release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clu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E1B9-D9B3-45B7-9BD4-F028FE86B0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204560" y="824040"/>
            <a:ext cx="77216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1.3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ompatible with gLite 3.2 Argus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upport for LFC/DPM banning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Bug fixe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Will be released for EMI-1 (end April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s it a problem for gLite 3.2 site ?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stall the Argus 1.3 EMI-1 service (standalone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Keep the existing gLite 3.2 application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1.3 EMI-1 Releas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D075-ABDD-446E-9C41-26269628FCC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te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sistent authorization decisions across the whole middleware stack (CE, WN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ilot Jobs authorization and mapping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e tool to manage authorization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194C-E466-44D4-A6D3-B7D9451112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5" name="Date Placeholder 6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General documentation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twiki.cern.ch/twiki/bin/view/EGEE/AuthorizationFramework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ervice Reference Card </a:t>
            </a: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twiki.cern.ch/twiki/bin/view/EMI/ArgusSRC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 admin CL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twiki.cern.ch/twiki/bin/view/EGEE/AuthZPAPCLI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implified Policy Languag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twiki.cern.ch/twiki/bin/view/EGEE/SimplifiedPolicyLanguage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87F3-371C-40C7-BB1F-FE08BD2DC8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GUS Tickets (ARGUS Support Unit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https://gus.fzk.de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upport mailing list (e-group):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uppor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556D-D34F-4605-87BF-B382E6F3E5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5400" y="4188960"/>
            <a:ext cx="734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2230-E1D7-4094-879B-7102AB084415}" type="slidenum">
              <a:rPr b="0" lang="en-GB" sz="12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319480" y="6357960"/>
            <a:ext cx="38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3"/>
          <p:cNvSpPr/>
          <p:nvPr/>
        </p:nvSpPr>
        <p:spPr>
          <a:xfrm>
            <a:off x="979560" y="5002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EMI is partially funded by the European Commission under Grant Agreement INFSO-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:\Dokumente und Einstellungen\nl\Eigene Dateien\Aufträge 2009-JSC\EMI-PPT-Template\EMI_Logo_newest.png"/>
          <p:cNvPicPr/>
          <p:nvPr/>
        </p:nvPicPr>
        <p:blipFill>
          <a:blip r:embed="rId1"/>
          <a:stretch/>
        </p:blipFill>
        <p:spPr>
          <a:xfrm>
            <a:off x="1006560" y="785880"/>
            <a:ext cx="7572240" cy="3179520"/>
          </a:xfrm>
          <a:prstGeom prst="rect">
            <a:avLst/>
          </a:prstGeom>
          <a:ln w="0">
            <a:noFill/>
          </a:ln>
        </p:spPr>
      </p:pic>
      <p:sp>
        <p:nvSpPr>
          <p:cNvPr id="261" name="Date Placeholder 8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a6a6a6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64720" y="824040"/>
            <a:ext cx="782172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Renders consistent authorization decisions based on XACML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920"/>
                </a:solidFill>
                <a:latin typeface="Calibri"/>
              </a:rPr>
              <a:t>Ban user by DN, FQAN, issuing CA, … !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4C3F-AF94-4B42-8618-CCE744B536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6" descr="ARGUS_Components-EMI.png"/>
          <p:cNvPicPr/>
          <p:nvPr/>
        </p:nvPicPr>
        <p:blipFill>
          <a:blip r:embed="rId1"/>
          <a:srcRect l="0" t="-42712" r="0" b="-42712"/>
          <a:stretch/>
        </p:blipFill>
        <p:spPr>
          <a:xfrm>
            <a:off x="865080" y="1670040"/>
            <a:ext cx="852012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AP: Policy Administra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site administrators with the tools for authoring policies (pap-admin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Stores and manages authored XACML policies 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s managed authorization policies to other authorization service components (other PAPs or PD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5530-D219-4727-A7E2-50F77E412E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DP: Policy Decis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olicy evaluation engin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ceives authorization requests from the PE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valuates the authorization requests against the XACML policies retrieved from the PAP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Renders the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39EF-72DC-4394-8352-49D63E4ED1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PEP: Policy Execution Point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Client/Server architecture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Lightweight PEP client libraries (C and Java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Server receives the authorization requests from the PEP clients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additional filters to the requests (PIP)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sks the PDP to render an authorization decision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pplies the obligation handler (OH) to determine the user mapping</a:t>
            </a:r>
            <a:endParaRPr b="0" lang="en-US" sz="28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rgus Authorization Service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46E9-EE17-456C-922C-F16FAE385A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746280" y="824040"/>
            <a:ext cx="824544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as a service to manage consistent authorization policy based decision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57C-B170-45C0-A1F0-6302DBE3D4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658880" y="2023920"/>
            <a:ext cx="64850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Hierarchical distribution of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DDD6-FC37-4C7F-B2EC-18AC5CD55E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6" descr="Argus-EMI_Deployment.png"/>
          <p:cNvPicPr/>
          <p:nvPr/>
        </p:nvPicPr>
        <p:blipFill>
          <a:blip r:embed="rId1"/>
          <a:srcRect l="0" t="-3086" r="0" b="-3086"/>
          <a:stretch/>
        </p:blipFill>
        <p:spPr>
          <a:xfrm>
            <a:off x="1908000" y="1650960"/>
            <a:ext cx="63104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04560" y="824040"/>
            <a:ext cx="74818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Global banning list (EGI, NGI, …)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cal site authorization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xperiment specific policies</a:t>
            </a: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92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solidFill>
            <a:srgbClr val="01092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Service Deployment (cont.)</a:t>
            </a:r>
            <a:endParaRPr b="1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120492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Calibri"/>
              </a:rPr>
              <a:t>12/04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319480" y="6357960"/>
            <a:ext cx="440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gus Authorization Service, EGI User Forum 2011, Vil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259840" y="6356520"/>
            <a:ext cx="41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AA61-4568-4575-9C2B-DA17B14626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7:49:34Z</dcterms:created>
  <dc:creator>Valery Tschopp</dc:creator>
  <dc:description/>
  <dc:language>en-US</dc:language>
  <cp:lastModifiedBy>Valery Tschopp</cp:lastModifiedBy>
  <dcterms:modified xsi:type="dcterms:W3CDTF">2011-04-12T08:28:33Z</dcterms:modified>
  <cp:revision>144</cp:revision>
  <dc:subject/>
  <dc:title>Argus The EMI Authorization Service</dc:title>
</cp:coreProperties>
</file>