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F9C9-5DF3-4A84-81F4-D8E954A7B8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7F52-D3A3-4D68-967F-0FF13C73C2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DF04-F9C7-4AE1-9759-C542281199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46F-9CBA-43A4-968A-BAD22519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C99-0973-48CB-8277-B6F0BBE9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D6D-F4CB-4B62-A3E0-3FC23746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676-BC37-468C-9338-057ED461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BCA-24DB-42E5-BE38-73FAFAE8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DE98-64BF-4957-AC3D-93FE754F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AA9B-E54C-4E91-9F3D-359644FB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98E8-3D84-490B-A877-39CD9E73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D1E8-66BB-4E60-9FB3-F1FB5BD3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4554-EA49-4EE1-88ED-E122D43C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5E9-812C-4C5C-98C1-0FC39A12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654B-B799-40FC-B935-D1DDE948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3960-A4B0-4B2E-90E4-DA5BBCB3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2239-D5F8-481B-93A1-676C4ECF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47B2-BC32-4F6C-9B4D-8FBA569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3F64-35FB-4A5D-A4A9-A4439CE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8B70-E35F-4BDA-AA46-208166C2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1431-68B7-4955-9133-DB076763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3437-FF71-4854-8F38-BD81B710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6320-862E-4E51-B6FE-5778CCCB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D3F1-1D56-4972-B713-70728ECA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FC5-FE5A-43C7-AF05-F4ED3B4C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319D-4BA2-452C-A45C-074CF406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154B-E11E-4863-89F7-D0AC1322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6073C-53E5-438D-BB15-0FB69CB2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CE0E-886C-407B-9C25-F4E9C7B1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3C21-6DEC-4984-A1DD-6E2EE02D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D57C-D940-49A9-9CCB-6BBDFB14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2224A-6E1A-4CEE-A631-263A8048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C09F-AE35-4B96-A9A9-97D399FA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70BC-E7C8-421E-910C-5308A5D5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2481B-CE4F-43FF-9DE1-A1A65E8D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2FD-ED5D-4B28-B3E4-F787E67C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F1F18-9A7A-44A9-9FCD-2E035D23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F56B2-2FF5-45B0-B0A2-8E2D8558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B3EFF-F4EC-467B-84EB-5F4978E5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FA31-5564-45DE-ACAD-87D4E84A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8533E-487A-4A5E-988B-4921CDD9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A206-967A-4656-BFDD-F4B4547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0F08-859C-440E-8E59-E8DEE38B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C452-FDE0-4429-8FF4-2C2B6236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35394-4DC1-4F40-B510-D7FC7002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2C0F-E373-44F1-8CA0-4E128EC5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5B5-7A50-48DC-A86A-674E70DD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710A3-CCEB-4D22-B6B6-A469BAF2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F96-9724-4AF8-93DE-C2A10CB8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085-CD0A-42F9-99A9-C460B7E1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51C-1C04-4A03-A522-D2B6E361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6EEC-F4C9-482E-BA24-02256ADD8A61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F049-CEB7-46B0-8E0A-29B17F33A248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7734-3B62-49AA-AA16-5F65765F1FF2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291D-47CC-4BDC-A152-A9FBDDD0D00E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5280" y="271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rgus Authorization Service</a:t>
            </a:r>
            <a:br>
              <a:rPr sz="4400"/>
            </a:br>
            <a:r>
              <a:rPr b="0" i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Security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Argus P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Documenta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SimplifiedPolicyLanguag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 admin CLI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ZPAPCL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tact: 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18E6-2224-4D8F-8EDC-CD961634059E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Documentations &amp; 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5584-93EE-46BB-AA08-56C9A6B274EC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64EF-F67E-435C-95F3-A901EDEBFC4A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Authorizatio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915840" y="795240"/>
            <a:ext cx="78742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s authorization decisions based on XACML poli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user X perform action Y on resource Z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n user by DN, FQAN, issuing CA, …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ArgusAuthorizationService.png"/>
          <p:cNvPicPr/>
          <p:nvPr/>
        </p:nvPicPr>
        <p:blipFill>
          <a:blip r:embed="rId1"/>
          <a:stretch/>
        </p:blipFill>
        <p:spPr>
          <a:xfrm>
            <a:off x="1954080" y="2065320"/>
            <a:ext cx="5457960" cy="2952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1"/>
          <p:cNvSpPr/>
          <p:nvPr/>
        </p:nvSpPr>
        <p:spPr>
          <a:xfrm>
            <a:off x="1104840" y="5543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828720" y="5057640"/>
            <a:ext cx="8183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nages and publishes the authoriza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es the authorization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olves the user execution environment e.g. UID, GID, pool accoun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P dae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the PEP thin client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198440" y="1317600"/>
            <a:ext cx="7480440" cy="5381640"/>
          </a:xfrm>
          <a:prstGeom prst="rect">
            <a:avLst/>
          </a:prstGeom>
          <a:ln w="0">
            <a:noFill/>
          </a:ln>
        </p:spPr>
      </p:pic>
      <p:sp>
        <p:nvSpPr>
          <p:cNvPr id="223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C150-100C-4B52-BCEA-004C93D9BFF5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De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920880" y="758880"/>
            <a:ext cx="8030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gus as a site service to manage consistent authorization policy bas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33120" y="1074240"/>
            <a:ext cx="8210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publishing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daemon: 8154 (PEP client connection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opt/argus/(pap|pdp|pepd)/logs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ap-standalone {start|stop|status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dp {start|stop|status|reloadpolicy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epd {start|stop|status|clearcache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PAP, PDP and PEP daemon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263B-B434-4415-93C7-530D2FE14135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Op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 with XACML polici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B295-BCE9-432B-B401-B95D2B68AC4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uthorization Deci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33120" y="1074240"/>
            <a:ext cx="7813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" PolicyCombiningAlgId="urn:oasis:names:tc:xacml:1.0:policy-combining-algorithm:first-applicable" PolicySetId="9784d9ce-16a9-41b9-9d26-b81a97f93616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" PolicyId="public_2d8346b8-5cd2-44ad-9ad1-0eff5d8a6ef1" RuleCombiningAlgId="urn:oasis:names:tc:xacml:1.0:rule-combining-algorithm:first-applicable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C0C6-7856-4597-B5FA-38DA9F72F3C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understan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read or writ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tools to manage the polic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D314-9CA3-4FC2-AE3F-3E2459F16228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6315-6E5A-4B85-BCC2-12B2B4C0A87E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Simplified Policy Language (SP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933480" y="839520"/>
            <a:ext cx="8045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 active polici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list-polici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mport policies, in SPL format, from a fil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ies-from-file      my-policies.sp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asily ban/un-ban VOs, user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un-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  <a:ea typeface="Courier New"/>
              </a:rPr>
              <a:t>Add a generic policy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y --resource "ce_1" --action ".*" permit 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testVO/Role=pilot"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7CD7-57CC-4C61-9500-393A53CC274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pap-admin Command Line T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1:02:51Z</dcterms:created>
  <dc:creator>Valery Tschopp</dc:creator>
  <dc:description/>
  <dc:language>en-US</dc:language>
  <cp:lastModifiedBy>Valery Tschopp</cp:lastModifiedBy>
  <dcterms:modified xsi:type="dcterms:W3CDTF">2010-09-16T11:56:39Z</dcterms:modified>
  <cp:revision>48</cp:revision>
  <dc:subject/>
  <dc:title>Argus Authorization Service Security Training</dc:title>
</cp:coreProperties>
</file>