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485C-02E8-400E-BB32-ECB1996D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075F-4778-498A-AFF8-E1980791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127C-6AF7-4692-A457-D9A7C044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8EC-0B92-4FC9-8392-70AE0D82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6F0F-622D-4E15-AA52-26436C22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D852-51F1-4D79-B169-D924F2DC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534B-4896-4811-916B-7AB6B3E9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E88B-1BFE-4325-BC00-11A21003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9E44-08D8-40ED-B8C2-643F86AD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FB25-9347-44D5-AA68-3535443F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DA56-D9AB-4D40-9C2A-0B6B3720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072-3F41-4B45-B498-B570BAEE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C50F-0811-4FD6-A7C3-2F5C8212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B606-B139-4847-B228-1D9ABF4F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7E98-E01D-4116-B5F9-893E412A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B0C5-2065-4329-9461-CAD7D4DB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25A7-77A7-4CAD-B25D-19256CC5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7C471-B287-4463-8BD3-B7DDF4C4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72E95-7F97-422D-8FC8-0B70106B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063F6-545D-47D3-A9A4-A32DB6ED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C0056-5B11-431D-9E58-8B32F030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36A86-55AD-4000-8A92-C0C9D1C0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2F55-A3A1-47EF-B7A8-00D60B7A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6C33C-E912-40D7-87E6-92B4EF41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3F775-B019-4E64-9DDC-FF782E68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3B555-4514-4E01-A49F-7EDB5A98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73BBA-5CCB-4555-BA7A-1574C84E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DC277-C342-4215-A460-8E7DB468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D95E8-3C88-43DE-A4F8-2A819486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B41CA-A078-4034-9C16-DAA4602D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D32-C4E2-4AEE-AB5E-C456D53B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315-8D6A-45A0-BD11-7F46485D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0D8-945F-48B7-905F-D1116CC5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CA1D-C11B-4C6C-A393-EF0336A8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656-CD20-409D-B415-ABAFE836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A758-A7CC-46F3-997B-115FB79E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2A32-179D-4752-99E7-27A74AA6AC29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0" y="0"/>
            <a:ext cx="1049400" cy="6858000"/>
          </a:xfrm>
          <a:prstGeom prst="rect">
            <a:avLst/>
          </a:prstGeom>
          <a:solidFill>
            <a:srgbClr val="0109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C133-87A5-4D5C-95E4-6C388E30AAB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220C-0DBE-48B5-A647-7B38A79AF50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EMI-Euro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253f"/>
                </a:solidFill>
                <a:latin typeface="Arial"/>
              </a:rPr>
              <a:t>Argus</a:t>
            </a:r>
            <a:br>
              <a:rPr sz="4400"/>
            </a:br>
            <a:r>
              <a:rPr b="1" lang="en-GB" sz="4000" spc="-1" strike="noStrike">
                <a:solidFill>
                  <a:srgbClr val="10253f"/>
                </a:solidFill>
                <a:latin typeface="Arial"/>
              </a:rPr>
              <a:t>EMI Authorization Integration</a:t>
            </a:r>
            <a:endParaRPr b="1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4462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Argus Product Team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pic>
        <p:nvPicPr>
          <p:cNvPr id="140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3022560" y="1106640"/>
            <a:ext cx="30988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46280" y="824040"/>
            <a:ext cx="82454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s a service to manage consistent authorization policy based deci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184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658880" y="2023920"/>
            <a:ext cx="6485040" cy="4665960"/>
          </a:xfrm>
          <a:prstGeom prst="rect">
            <a:avLst/>
          </a:prstGeom>
          <a:ln w="0">
            <a:noFill/>
          </a:ln>
        </p:spPr>
      </p:pic>
      <p:sp>
        <p:nvSpPr>
          <p:cNvPr id="185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ABD5-59E8-4A61-A99C-7C72DBDF39E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ierarchical distribution of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0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6162-5806-4D06-9BAD-6A8324BE759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Argus-EMI_Deployment.png"/>
          <p:cNvPicPr/>
          <p:nvPr/>
        </p:nvPicPr>
        <p:blipFill>
          <a:blip r:embed="rId1"/>
          <a:stretch/>
        </p:blipFill>
        <p:spPr>
          <a:xfrm>
            <a:off x="1816200" y="1562040"/>
            <a:ext cx="6468840" cy="4383000"/>
          </a:xfrm>
          <a:prstGeom prst="rect">
            <a:avLst/>
          </a:prstGeom>
          <a:ln w="0">
            <a:noFill/>
          </a:ln>
        </p:spPr>
      </p:pic>
      <p:sp>
        <p:nvSpPr>
          <p:cNvPr id="192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11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yload is downloaded on the W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Exec runs it under the end-user identit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s Authoriz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6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01BB-1524-4231-ACEF-B87FA5C5124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PilotJobAuthZ.png"/>
          <p:cNvPicPr/>
          <p:nvPr/>
        </p:nvPicPr>
        <p:blipFill>
          <a:blip r:embed="rId1"/>
          <a:stretch/>
        </p:blipFill>
        <p:spPr>
          <a:xfrm>
            <a:off x="1590840" y="2319480"/>
            <a:ext cx="6719760" cy="3536640"/>
          </a:xfrm>
          <a:prstGeom prst="rect">
            <a:avLst/>
          </a:prstGeom>
          <a:ln w="0">
            <a:noFill/>
          </a:ln>
        </p:spPr>
      </p:pic>
      <p:sp>
        <p:nvSpPr>
          <p:cNvPr id="198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11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204560" y="824040"/>
            <a:ext cx="77216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 (EMI-1 release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ack-compatible with gLite 3.2 Argus PEP client API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upport for LFC/DPM banning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ug fix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Next Argus release (EMI Year 2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mplement the </a:t>
            </a:r>
            <a:r>
              <a:rPr b="0" i="1" lang="en-US" sz="2800" spc="-1" strike="noStrike">
                <a:solidFill>
                  <a:srgbClr val="010920"/>
                </a:solidFill>
                <a:latin typeface="Calibri"/>
              </a:rPr>
              <a:t>EMI Common XACML Authorization Profil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egration with UNICORE and ARC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Release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2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6C1C-313D-499A-854A-9A29B7A71DA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mmon XACML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authorization integration ongoing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sistent authorization decisions across the whole EMI middleware stack (CE, WN, SE, UNICORE, ARC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easy to manage and distribute 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7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D7F9-B6EE-4E4A-901E-91FE2F969E3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GUS Tickets (ARGUS Support Unit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https://ggus.eu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upport mailing list (e-group)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eneral documentation </a:t>
            </a:r>
            <a:br>
              <a:rPr sz="3200"/>
            </a:b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ttps://twiki.cern.ch/twiki/bin/view/EGEE/AuthorizationFramework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Suppor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25A6-99E2-41D9-B01A-B75F99D2045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55400" y="4188960"/>
            <a:ext cx="734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6" name="Title 13"/>
          <p:cNvSpPr/>
          <p:nvPr/>
        </p:nvSpPr>
        <p:spPr>
          <a:xfrm>
            <a:off x="979560" y="5002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EMI is partially funded by the European Commission under Grant Agreement INFSO-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C:\Dokumente und Einstellungen\nl\Eigene Dateien\Aufträge 2009-JSC\EMI-PPT-Template\EMI_Logo_newest.png"/>
          <p:cNvPicPr/>
          <p:nvPr/>
        </p:nvPicPr>
        <p:blipFill>
          <a:blip r:embed="rId1"/>
          <a:stretch/>
        </p:blipFill>
        <p:spPr>
          <a:xfrm>
            <a:off x="1006560" y="785880"/>
            <a:ext cx="7572240" cy="317952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9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E15F-0E60-4549-814C-2025ECBCAB40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11"/>
          <p:cNvSpPr/>
          <p:nvPr/>
        </p:nvSpPr>
        <p:spPr>
          <a:xfrm>
            <a:off x="231948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uthorization Servic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mmon XACML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Authorization Integr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rvice Deployme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Releas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7AC8-B753-4F1F-8C63-2E96784B268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64720" y="824040"/>
            <a:ext cx="7821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Renders consistent authorization decisions based on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Ban user by DN, FQAN, issuing CA, … !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148" name="Content Placeholder 6" descr="ARGUS_Components-EMI.png"/>
          <p:cNvPicPr/>
          <p:nvPr/>
        </p:nvPicPr>
        <p:blipFill>
          <a:blip r:embed="rId1"/>
          <a:srcRect l="0" t="-42712" r="0" b="-42712"/>
          <a:stretch/>
        </p:blipFill>
        <p:spPr>
          <a:xfrm>
            <a:off x="865080" y="1670040"/>
            <a:ext cx="8520120" cy="612936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8B75-9348-4740-962E-E2A61790D24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AP: Policy Administra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site administrators with the tools for authoring polici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es and manages authored XACML policies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managed authorization policies to other authorization service components (other PAPs or PD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-admin too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imple Policy Languag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4FC8-9520-4602-8058-470A802C7D1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DP: Policy Decis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policies evaluation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ceives authorization decision requests from the PEP Server or other components (UNICORE PDP, …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valuates the authorization decision requests against the XACML policies retrieved from the PA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nders the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9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06A8-CCBE-4D22-AF65-1A278C944C0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07680" y="824040"/>
            <a:ext cx="853596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EP: Policy Enforcement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lient/Server architectu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Lightweight PEP client API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 receives the authorization decision requests from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additional filters to the requests (PI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sks the PDP to render an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the obligation handler (OH) to determine the user mapping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ends authorization decision (with obligations) back to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B4D5-B06C-44C1-B0BE-F6444D992C8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common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Define a common set of XACML authorization attribut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omogenous and consistent authorization decisions across the EMI middlewa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file released, but still need to be implemented for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UNICORE PDP integration in XACML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C SecHandler integration with PEP client API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ttps://twiki.cern.ch/twiki/bin/view/EMI/EmiJra1T4XACM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ommon XACML Authorization Profil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9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55C9-F9F7-41F3-82A5-04CBAD2D275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-1 release authorization statu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omputing Element (CE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CREAM CE integrated with Argu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Worker Node (WN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gLExec with LCMAPS PEP plugin for pilot job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age Element (SE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DPM/LFC banning engin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dCache authorization plugin (available in EMI-1, not enabled by default)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MI Authorization Integr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640A-6B5E-4209-A8FC-10EA63034B7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uture work (EMI Year 2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mplement the common XACML authorization profil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gus update to support new profil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Extend the simple policy language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Define the new XACML attributes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UNICORE PDP integration in XACML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C SecHandler integration with PEP client API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age Element (SE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StoRM authorization (banning)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MI Execution Service (ES) integration??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MI Authorization Integration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E876-EB12-4A2D-AF96-E863335A9AA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ate Placeholder 4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5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7:44:16Z</dcterms:created>
  <dc:creator>Valery Tschopp</dc:creator>
  <dc:description/>
  <cp:keywords/>
  <dc:language>en-US</dc:language>
  <cp:lastModifiedBy>Valery Tschopp</cp:lastModifiedBy>
  <dcterms:modified xsi:type="dcterms:W3CDTF">2011-05-31T07:58:15Z</dcterms:modified>
  <cp:revision>222</cp:revision>
  <dc:subject/>
  <dc:title>Argus - EMI Authorization Integration</dc:title>
</cp:coreProperties>
</file>