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2284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BDB6-0B2C-495A-ACF5-FEB8BB5198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08C7-12AA-4B93-80DD-C7832AE48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23AC-CB6A-48FE-B7B0-466BB5E3F8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437E-E345-4C25-98D9-79829B076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D266-4DF1-4DB3-8768-4DE01265B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B92-BB4D-439D-8697-C38F7097F6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A16-1882-45AA-B57F-FACBCA0E5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38E4-6AD3-4D08-9387-03BB2C42E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36DE-79ED-4270-A0D7-0594D5E48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DAB-B46A-4069-B291-8C92B3B53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1426-8A60-4CA2-9DD5-E95868DE4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67B4-FBC9-4911-80D0-81CD0691F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6046-DE9A-4614-8A5A-6BC51043B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C524-CAF0-48C3-90F9-66DC7D7E5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FAAB-06D7-48D4-A6A6-1C1422C28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1829-E68E-4D28-B945-E6BD988F9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2342-4B6B-49C1-AE97-1951E1ECE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1F3E-AC11-4C59-8C60-D93C1B3E5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5456-2DAD-46BD-8868-D9DF40730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75BD-3D6A-42D9-AC12-3F55EF41C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1196-8B4C-48EA-AB68-3C25CEF6E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698F-C5D8-4500-B223-19C0E6C62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4795-EDBD-4F8B-9CD5-DBC424F15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B5FE-9324-4D32-82F2-F52D4B90D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18F3-ECB7-4FEC-BDD6-78B02EC80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6148-833F-48D2-A41D-A762D22EA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9505-A8C3-4137-8446-35B6CCC7F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4F38-B155-4C95-9A87-D7C0816F3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ROD Workshop June 2,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D240-8948-4BC8-A4DB-75EC63395E4F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576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3" descr="InfsoMedia_EN_RGB_Hi"/>
          <p:cNvPicPr/>
          <p:nvPr/>
        </p:nvPicPr>
        <p:blipFill>
          <a:blip r:embed="rId5"/>
          <a:stretch/>
        </p:blipFill>
        <p:spPr>
          <a:xfrm>
            <a:off x="6329520" y="5592600"/>
            <a:ext cx="13366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4"/>
          <p:cNvSpPr/>
          <p:nvPr/>
        </p:nvSpPr>
        <p:spPr>
          <a:xfrm>
            <a:off x="5643720" y="64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5faf"/>
                </a:solidFill>
                <a:latin typeface="Verdana"/>
              </a:rPr>
              <a:t>EGEE and gLite are registered trademarks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b519a"/>
                </a:solidFill>
                <a:latin typeface="Arial"/>
              </a:rPr>
              <a:t>Argus: </a:t>
            </a:r>
            <a:br>
              <a:rPr sz="3600"/>
            </a:b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Genera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60720" y="4019400"/>
            <a:ext cx="6518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Christoph Witzig, SWI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(christoph.witzig@switch.c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8" name="Picture 3" descr="argus_logo.png"/>
          <p:cNvPicPr/>
          <p:nvPr/>
        </p:nvPicPr>
        <p:blipFill>
          <a:blip r:embed="rId1"/>
          <a:stretch/>
        </p:blipFill>
        <p:spPr>
          <a:xfrm>
            <a:off x="6721560" y="2562120"/>
            <a:ext cx="1270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1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enables access for administr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Variable PAP_ADMIN_DN in site-info.def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Listing ACLs of Argus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[witzig@chaos ~]$ pap-admin  list-acl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"/DC=ch/DC=switch/DC=slcs/O=Switch - Teleinformatikdienste fuer Lehre und Forschung/CN=Christoph Witzig 8CA3021D" 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OLICY_READ_LOCAL|POLICY_READ_REMOTE|POLICY_WRITE|CONFIGURATION_READ|CONFIGURATION_WRI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ote: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assphrase for private key will have to be enter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very command supports –h optio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AD6D-81B8-4807-87C9-0D015FAFB0B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2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dding a DN or FQAN to gain full acces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1. Add a D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‘/DC=ch/DC=switch/DC=slcs/O=Switch - Teleinformatikdienste fuer Lehre und Forschung/CN=Christoph Witzig 8CA3021D'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2. Add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. Remove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E1AA-AC86-43DF-9096-96F8603FFEE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guring User M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-mapfile and groupmapfile determines the user mapping to username and groupname(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ame format as LCMAPS, same functionalit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e configured through the mandatory YAIM vari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OUP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te: If manual configuration, then these directories and files have to be created manual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9AE-3BF6-44D3-A3E1-AF2541CDC62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Ar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gios plug-ins are availab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ttps://twiki.cern.ch/twiki/bin/view/EGEE/AuthZNagi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11A7-A17F-4462-B7A3-DAFE02A24A4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753D-6231-4D62-AD6F-A0CCF6C28BE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mand line interfac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8BC6-76C2-4542-924B-83454525C1D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s C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is operated from the command line (YAIM installed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tarting / stopping / query status of the service compon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ree components PAP, PDP, PEP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/etc/init.d/&lt;component&gt;  &lt;start&gt;&lt;stop&gt;&lt;status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onfigure admin access righ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/remove polici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olicies eith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ed/removed from command lin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mport/export of file in simplified policy languag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ep in mind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use-case simply uses site global banning/unbanning of DNs, FQANs, VOs, C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E908-13AF-4B44-A64B-60D7A5E68D3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ning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un-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a specific resourc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pap-admin ban -r resource_id –a action subject &lt;dn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cisions are taken for a given resource and a given actio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A WN has a resource id and the action may be “execute_pilot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licies are formulated for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ividual resource and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oups of resources and groups of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l resources and all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te global enable/disable of a VO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resources and actions permit all users of a given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ny a user on all WNs for glexec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WN resources and all actions deny user D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ermit VOs only on certain 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1” permit VO “ATLA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2” permit VO “CM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018D-059A-4821-9BAC-FD160D7B885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mplified Policy Language (SPL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llows to create more complex policies using a custom synta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olicies are loaded into Argus through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[witzig@chaos ~]$ more test_policy.tx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esource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obligation "http://glite.org/xacml/obligation/local-environment-map" { 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action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atla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cm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ap-admin add-policies-from-file test_policy.tx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937B-FC66-46D9-B87B-5FA9BE98430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st polic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Please enter the passphrase for the private key file /home/witzig/.globus/userkey.pem: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"http://glite.org/xacml/obligation/local-environment-map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81FC-82F3-4340-AD6B-D67F3721D36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A9C3-4B74-45C3-A379-91DA6E891B8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ing of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 ordering matters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applicable rule determines the resul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http://glite.org/xacml/obligation/local-environment-map {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rule deny { subject="CN=Christoph Witzig 8CA3021D,O=Switch -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Teleinformatikdienste fuer Lehre und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Forschung,DC=slcs,DC=switch,DC=ch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12F-A529-435E-ADE1-DD04E155580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5600" y="84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figure glExec on WN to call-out to Ar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twiki.cern.ch/twiki/bin/view/EGEE/AuthZPEPgLExecInst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 test on WN:</a:t>
            </a:r>
            <a:br>
              <a:rPr sz="2400"/>
            </a:b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# pilot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X509_USER_PROXY=${X509_USER_PROXY:-"/tmp/x509up_`id -u`"} 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ayload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GLEXEC_CLIENT_CERT=${GLEXEC_CLIENT_CERT:-$X509_USER_PROXY}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opt/glite/sbin/glexec /usr/bin/id; echo $?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uid=40205(testuseraccount) gid=2013(testusergroup) 0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C4B-EB02-4F61-9231-ED2021C0C74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mple standalone client is also available: pepcli</a:t>
            </a:r>
            <a:br>
              <a:rPr sz="24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s to be installed separately – tool for testing/debugging </a:t>
            </a:r>
            <a:r>
              <a:rPr b="1" i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only</a:t>
            </a:r>
            <a:br>
              <a:rPr sz="1800"/>
            </a:b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s://twiki.cern.ch/twiki/bin/view/EGEE/AuthZPEPCCL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licy: </a:t>
            </a:r>
            <a:br>
              <a:rPr sz="24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ap-admin ap --resource ".*" --action  ".*" permit vo="switch”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est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epcli -p https://chaos.switch.ch:8154/authz -r my_res  -a my_action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c /tmp/x509up_u964  --cert .globus/usercert.pem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-key .globus/userkey.pem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Resource: my_r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Decision: Permi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Obligation: http://glite.org/xacml/obligation/local-environment-map/posix (caller should resolve POSIX account mapp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Username: dteam026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Group: dtea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9FB5-2CCA-4115-8878-343A7FDAFCB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updates the policies in regular intervals and caches results for performance reas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sequence: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modifying policies you must execute the following two commands to make sure they are valid immediately: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olicy is effective immediatel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etc/init.d/pdp reloadpolic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# clear 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/etc/init.d/pepd clear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6A98-B30A-48E8-BE3F-AF5E2DE8A6F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ling list: argus-support@cern.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support unit in G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Wiki: </a:t>
            </a: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ttps://twiki.cern.ch/twiki/bin/view/EGEE/AuthorizationFramework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36F7-4017-45AA-8E83-086305AF856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A492-26AB-428D-8239-ED2F8C887AB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bout Argu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thZ service design document: https://edms.cern.ch/document/944192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ployment plan: https://edms.cern.ch/document/984088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neral EGEE grid securit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uthorization study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887174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gLite security: architecture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935451/2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3265-421C-4D38-9080-C2EE0334105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ndix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tivation for Argu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5693-D1E6-43D2-968F-815BD76C9FC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8320" y="66240"/>
            <a:ext cx="685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fferent Services use different authorization mechanism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me services even use internally more than one authorization framewor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do not have simple debugging tools to check and understand their authorization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must configure the authorization for each service at their site separate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1: At a site, there is no single point to ban users/groups of users for the entire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2: many site administrators don’t know how to ban use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re should be a command line tool for banning and un-banning users at a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230A-51D3-46D5-A9A0-62AB7EE4591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re is no central grid-wide banning list to be used during incid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: Urgent ban cannot be taken for granted during incid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s cannot publish their complete authorization policy to the outside worl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rrently only assignment of FQANS (experience of DENY tag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Fixing this problem does not mean that sites MUST publish their authorization polic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 monitoring on authorization decis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83A9-7F66-42F3-969D-59BEA8F6D4B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n benefit within EGEE-III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ressing the above list of short-coming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istance to failure and simple means for scaling the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lexible deployment mod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 dependency on a shared file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High availability op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ient component is very lightweigh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mall amount of co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ew dependencies (especially on W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rtability: support on other OS and languages eas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38FA-1AD2-4A96-975C-E367C63009F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gLite Authorization Serv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ed in EGEE-III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ssed staged rollout in April 2010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 EMI: Argus P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sponsible for maintenance and suppor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stitutions: CNAF, HIP, NIKHEF, SWITCH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Attribute-based Authorization servic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ttributes = DN, CA, FQAN, …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nal engine that determines whether a request containing a set of attributes shall be authorized or no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Note abbreviation: authZ = authoriz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BA99-AB1C-4D30-BF7E-18922FE596C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 (cont.)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s/eases various authorization tasks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nning of users (VO, WMS, site, or grid wid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osition of policies – CERN policy + experiment policy + CE policy + OCST policy + NGI policy=&gt; Effective polic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more detailed information about the job, action, and execution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attributes other than FQA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multiple credential formats (not just X.509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pport for multiple types of execution environ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rtual machines, workspaces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gios plug-ins provided for monitoring of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Exec on WN (multi-user pilot job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A6E7-57F8-47C6-B5DA-1EEBC37C75F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21" name="Picture 1030" descr="wn-use-case"/>
          <p:cNvPicPr/>
          <p:nvPr/>
        </p:nvPicPr>
        <p:blipFill>
          <a:blip r:embed="rId1"/>
          <a:stretch/>
        </p:blipFill>
        <p:spPr>
          <a:xfrm>
            <a:off x="1174680" y="1417680"/>
            <a:ext cx="6794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obal Banning li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SCT / EGI CSIRT operates a global banning list (for incident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rgus can be configured to import this global banning l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is by default disabl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(if activated) can be overruled by local admi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FTP (GSI call out)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349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M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(see next slide)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tegration Argus – CREAM currently in develop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ther services are planned in EMI </a:t>
            </a:r>
            <a:r>
              <a:rPr b="1" lang="en-US" sz="2400" spc="-1" strike="noStrike">
                <a:solidFill>
                  <a:srgbClr val="2b519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ingle point for authorization decisions at a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29F4-17E9-41BC-B26D-10CE8406F39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FE9D-BB0E-472E-B1D4-C65EE8500C1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service_components_ce"/>
          <p:cNvPicPr/>
          <p:nvPr/>
        </p:nvPicPr>
        <p:blipFill>
          <a:blip r:embed="rId1"/>
          <a:stretch/>
        </p:blipFill>
        <p:spPr>
          <a:xfrm>
            <a:off x="588960" y="888840"/>
            <a:ext cx="77389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DBB8-228B-42E9-B83C-D6FC3065B2D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5216040"/>
            <a:ext cx="858996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Administration Point: Formulating the rules through command line interface and/or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file-based inpu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Decision Point:           Evaluating a request from a client based on the rules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nforcement Point:    Thin client part and server part: all complexity in server pa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Runtime Execution Environment: Under which env. must I run? (UID, GID)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9960" y="1749600"/>
            <a:ext cx="1317600" cy="8413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rules: 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Banning unbann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Pilot job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35" name="Picture 8" descr="service_components"/>
          <p:cNvPicPr/>
          <p:nvPr/>
        </p:nvPicPr>
        <p:blipFill>
          <a:blip r:embed="rId1"/>
          <a:stretch/>
        </p:blipFill>
        <p:spPr>
          <a:xfrm>
            <a:off x="1832040" y="843120"/>
            <a:ext cx="4976640" cy="4414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6281640" y="4226040"/>
            <a:ext cx="2444760" cy="44280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default deployment: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All components on one host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allation and Configuration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E803-255C-4CAD-91A1-FE46E404D8C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5600" y="83484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YAIM Installation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ation and configuration of Argus on one host (default configuration) using YAI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(resp. LCMAPS) on WN to call out to Arg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global banning list (if desire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nual install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 three components (PAP, PDP, PEP daemo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figure compon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062720" indent="-2124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administrator access configur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7DA-14A3-4CB9-8059-CEB0E68BCA2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54:21Z</dcterms:created>
  <dc:creator/>
  <dc:description/>
  <dc:language>en-US</dc:language>
  <cp:lastModifiedBy>Christoph Witzig</cp:lastModifiedBy>
  <cp:lastPrinted>2006-09-26T11:39:25Z</cp:lastPrinted>
  <dcterms:modified xsi:type="dcterms:W3CDTF">2010-06-02T08:45:55Z</dcterms:modified>
  <cp:revision>1293</cp:revision>
  <dc:subject/>
  <dc:title>Title</dc:title>
</cp:coreProperties>
</file>