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B8FD-A5DD-4357-9E21-DBEB7EFD21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CDE0-F2D7-4F85-AB8B-A212404BEE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0255-4525-4E78-9030-06FCAB8DBC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DCB-62B9-401F-A115-7894BEE3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B89-81EA-4D0F-B4F8-C4706395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F05-C4B2-4298-934F-18FA8EEE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92B-39CB-4623-AD7B-529D4B78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DF0-BC16-4BB3-BA9E-BB4323E9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B7F4-465D-4781-82B2-5AE2D8FC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4B63-18E0-486B-8AE2-90DF0205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A78B-8135-4393-A9C1-0801875A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F773-43B5-4931-A39A-AFB39FED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A6E8-1FCD-4556-B9DA-07FF53CC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61C-E3E7-4D36-9497-1EEADF46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1681-E72B-460B-B937-82C09A3B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BBC9-42AE-4CC9-BDF6-4C41DB47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FD61-FE2E-4214-841C-8815FC4B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1167-BE69-4667-91B9-82C3E187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2D0C-5519-4F82-8740-25BF2217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6EFB-C1E8-4EF1-AD3A-0034D918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9078-3F11-4B28-A28A-B87DB608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8E230-163E-4E81-A7DD-0142D0A4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FD8C-544F-4866-B311-75C97904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ABE6-50E8-424E-A0F4-AAD3E49A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A42-7316-4722-8515-F7C6D638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DE02-402F-4729-8FD8-E11047A6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DC87-E2BA-4319-8178-2BB38FA7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D977-4B0A-42A3-A49D-49758313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0895A-278F-4DC4-BC55-7EB056E5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BA02B-379F-4493-9CEC-3792DB75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99CD-50E9-436E-812B-BEFF4006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F175-181F-4AEC-AF4A-B97EF1AE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4D73-A8D2-4AF9-A0EE-76A6F535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A3EF9-6891-43CD-9AAD-FB00D2DB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F621-F279-4B93-8143-6DD84C6E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4A9-5AE0-45D6-A599-ABA05013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13FCA-2E3C-4A54-8B52-1691CFB3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4216E-46E4-4986-89AE-FCABAF62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E3DB6-3E0B-46DE-9D65-E62B9404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F3B4-DD41-4D5C-BBB1-50CCE60F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A7830-20C8-4623-8609-1309B5C6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19584-BCE1-4929-A148-85CE6DF1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3D53A-80CD-4787-A25C-A46FD3AE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CC7C-2E46-4BE5-880A-6803174F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7583F-3155-4115-801F-7F167FE1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1047-9FB0-4482-B847-739BD7D6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A6F-2190-4235-A178-4F819103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C98CA-BE93-455F-B46B-748F5450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FD9-E9BD-4FB2-8EB9-18F8CDD0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C3E-3CD7-4DBE-999C-4AEC8344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430C-1C30-4375-8055-078AF57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96200"/>
            <a:ext cx="11048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571760" y="6481800"/>
            <a:ext cx="661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191440" y="647964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2BE4-23EC-42DE-8C94-2C04192F12EF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kumente und Einstellungen\nl\Eigene Dateien\Aufträge 2009-JSC\EMI-PPT-Template\hintergrund.jpg"/>
          <p:cNvPicPr/>
          <p:nvPr/>
        </p:nvPicPr>
        <p:blipFill>
          <a:blip r:embed="rId2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2703600" y="700200"/>
            <a:ext cx="384336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E2BA-F2C3-46A8-BE6A-348C10FB3169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kumente und Einstellungen\nl\Eigene Dateien\Aufträge 2009-JSC\EMI-PPT-Template\streifen_50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8CE6-76E6-4FFC-BB02-19D474645C87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13"/>
          <p:cNvSpPr/>
          <p:nvPr/>
        </p:nvSpPr>
        <p:spPr>
          <a:xfrm>
            <a:off x="506520" y="48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MI is partially funded by the European Commission under Grant Agreement 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1527120" y="1216080"/>
            <a:ext cx="6094440" cy="2558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F8FE-EF86-4AFE-839E-6AB2B2FBED07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946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946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5280" y="271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Argus Authorization Service</a:t>
            </a:r>
            <a:br>
              <a:rPr sz="4400"/>
            </a:br>
            <a:r>
              <a:rPr b="0" i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Security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240" y="4462560"/>
            <a:ext cx="642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Argus P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Documenta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SimplifiedPolicyLanguag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 admin CLI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ZPAPCLI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tact: 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1190-306E-40ED-99C9-4C471D600AE1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Documentations &amp; 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4152600"/>
            <a:ext cx="914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A803-B9E9-4105-9734-B8535A4B1BB8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287C-018A-452B-808E-314068E91839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Authorizatio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915840" y="795240"/>
            <a:ext cx="78742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s authorization decisions based on XACML poli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user X perform action Y on resource Z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n user by DN, FQAN, issuing CA, …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ArgusAuthorizationService.png"/>
          <p:cNvPicPr/>
          <p:nvPr/>
        </p:nvPicPr>
        <p:blipFill>
          <a:blip r:embed="rId1"/>
          <a:stretch/>
        </p:blipFill>
        <p:spPr>
          <a:xfrm>
            <a:off x="1954080" y="2065320"/>
            <a:ext cx="5457960" cy="2952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1"/>
          <p:cNvSpPr/>
          <p:nvPr/>
        </p:nvSpPr>
        <p:spPr>
          <a:xfrm>
            <a:off x="1104840" y="5543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828720" y="5057640"/>
            <a:ext cx="8183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nages and publishes the authorizatio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es the authorization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solves the user execution environment e.g. UID, GID, pool account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P dae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es the PEP thin client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198440" y="1317600"/>
            <a:ext cx="7480440" cy="5381640"/>
          </a:xfrm>
          <a:prstGeom prst="rect">
            <a:avLst/>
          </a:prstGeom>
          <a:ln w="0">
            <a:noFill/>
          </a:ln>
        </p:spPr>
      </p:pic>
      <p:sp>
        <p:nvSpPr>
          <p:cNvPr id="223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C4CE-F6A6-4B2B-B5BE-681908986CD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De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tent Placeholder 4"/>
          <p:cNvSpPr/>
          <p:nvPr/>
        </p:nvSpPr>
        <p:spPr>
          <a:xfrm>
            <a:off x="920880" y="758880"/>
            <a:ext cx="8030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gus as a site service to manage consistent authorization policy bas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33120" y="1074240"/>
            <a:ext cx="82105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publishing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daemon: 8154 (PEP client connections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opt/argus/(pap|pdp|pepd)/logs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ap-standalone {start|stop|status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dp {start|stop|status|reloadpolicy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epd {start|stop|status|clearcache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PAP, PDP and PEP daemon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2FFC-29B9-42F3-B193-37E44AFA406D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Op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 with XACML polici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EDB3-FB80-4889-87BB-0821278FA653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uthorization Deci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33120" y="1074240"/>
            <a:ext cx="78138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" PolicyCombiningAlgId="urn:oasis:names:tc:xacml:1.0:policy-combining-algorithm:first-applicable" PolicySetId="9784d9ce-16a9-41b9-9d26-b81a97f93616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" PolicyId="public_2d8346b8-5cd2-44ad-9ad1-0eff5d8a6ef1" RuleCombiningAlgId="urn:oasis:names:tc:xacml:1.0:rule-combining-algorithm:first-applicable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0AC8-DCC8-4AEF-B090-199DAD5FAF7C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understand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read or writ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tools to manage the polic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D225-4789-4B30-96AA-A297D39E944C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3C7F-1613-4C64-8046-44F96672D960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Simplified Policy Language (SP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933480" y="839520"/>
            <a:ext cx="80452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 active polici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list-polici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mport policies, in SPL format, from a fil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ies-from-file      my-policies.sp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asily ban/un-ban VOs, user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un-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  <a:ea typeface="Courier New"/>
              </a:rPr>
              <a:t>Add a generic policy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y --resource "ce_1" --action ".*" permit </a:t>
            </a:r>
            <a:br>
              <a:rPr sz="2400"/>
            </a:b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testVO/Role=pilot"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1051-96F4-4D10-9820-E4E34B551A64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pap-admin Command Line T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1:02:51Z</dcterms:created>
  <dc:creator>Valery Tschopp</dc:creator>
  <dc:description/>
  <dc:language>en-US</dc:language>
  <cp:lastModifiedBy>Valery Tschopp</cp:lastModifiedBy>
  <dcterms:modified xsi:type="dcterms:W3CDTF">2010-09-16T11:56:39Z</dcterms:modified>
  <cp:revision>48</cp:revision>
  <dc:subject/>
  <dc:title>Argus Authorization Service Security Training</dc:title>
</cp:coreProperties>
</file>