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B76-4CEB-4D72-AE7A-0FC1A69A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A5C3-4469-466E-A5BE-77E7F2EF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940-61CE-493D-A098-D64E0DA2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273A-729A-4B31-A184-3EC3AADA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F928-D2E7-4617-9948-A92E8FBD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F8A9-BDC2-4F3A-9959-CC23F924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C9DA-B656-4C52-8E36-31BC483D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E4B7-41F6-4D5B-AD2C-46751C97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CA74-696A-4193-AB03-37ADBD45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E8CF-CD38-447C-B0BE-2A3F3CDF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5594-EFFA-4E8A-B3EE-1BF92BE9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F97D-D4E9-46EF-8C5F-829CF75F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FABB-CA1A-4A11-964D-23F6CAE7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8751-4340-44CF-B767-5B8238B3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A0B3-5579-4315-8157-817587EF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8D88-5907-46A0-9815-11E58048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7D69-A7BB-46A2-9DCA-C2E10DA5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A650A-6A07-4659-9736-CF471500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B3F7F-66DE-4E89-A0B7-76B92E3D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31CDA-DCEB-4AD5-9E36-3141970F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5354C-2CDD-41DF-8111-EE69769D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4B470-E71B-4F52-9E7E-6C29049C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113-3B9B-441E-BA8E-7CF8F560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219E2-D543-44CA-914D-6DE5509B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ADAAD-173D-4011-8C73-899AE5B8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0D231-252D-4616-AA62-5A0CBC3C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FB95B-C2F6-4723-B923-2A9AD280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84096-30F8-48F5-8AD3-D925E49F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BF679-9A8C-4334-A422-05B480FA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E8654-C7F1-4763-9D66-AF8974B4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D626-FA2C-433C-8FA6-E7BDDDFA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41CB-858D-41D9-9B00-F5494BB0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9F2-8194-46DC-9E93-70991875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FA43-DA57-4067-9DB3-EE44799D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30E-1EBA-4AF4-8ED9-5A262C42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565-F628-4F27-BFB5-0009441D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838F-8699-4679-A85D-0E677CE793CE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0" y="0"/>
            <a:ext cx="1049400" cy="6858000"/>
          </a:xfrm>
          <a:prstGeom prst="rect">
            <a:avLst/>
          </a:prstGeom>
          <a:solidFill>
            <a:srgbClr val="01092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9783-DB12-4EDB-A8F8-6B3D35F5995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139C-7403-41BB-81E4-275AE9A6B14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EMI-Euro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253f"/>
                </a:solidFill>
                <a:latin typeface="Arial"/>
              </a:rPr>
              <a:t>Argus</a:t>
            </a:r>
            <a:br>
              <a:rPr sz="4400"/>
            </a:br>
            <a:r>
              <a:rPr b="1" lang="en-GB" sz="4000" spc="-1" strike="noStrike">
                <a:solidFill>
                  <a:srgbClr val="10253f"/>
                </a:solidFill>
                <a:latin typeface="Arial"/>
              </a:rPr>
              <a:t>EMI Authorization Integration</a:t>
            </a:r>
            <a:endParaRPr b="1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4462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Argus Product Team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pic>
        <p:nvPicPr>
          <p:cNvPr id="140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3022560" y="1106640"/>
            <a:ext cx="30988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46280" y="824040"/>
            <a:ext cx="82454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s a service to manage consistent authorization policy based deci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184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658880" y="2023920"/>
            <a:ext cx="6485040" cy="4665960"/>
          </a:xfrm>
          <a:prstGeom prst="rect">
            <a:avLst/>
          </a:prstGeom>
          <a:ln w="0">
            <a:noFill/>
          </a:ln>
        </p:spPr>
      </p:pic>
      <p:sp>
        <p:nvSpPr>
          <p:cNvPr id="185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FC2B-D47F-4A7D-8D21-2730B885CB4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ierarchical distribution of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0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56C6-0329-4931-959F-ECE7DA15309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Argus-EMI_Deployment.png"/>
          <p:cNvPicPr/>
          <p:nvPr/>
        </p:nvPicPr>
        <p:blipFill>
          <a:blip r:embed="rId1"/>
          <a:stretch/>
        </p:blipFill>
        <p:spPr>
          <a:xfrm>
            <a:off x="1816200" y="1562040"/>
            <a:ext cx="6468840" cy="4383000"/>
          </a:xfrm>
          <a:prstGeom prst="rect">
            <a:avLst/>
          </a:prstGeom>
          <a:ln w="0">
            <a:noFill/>
          </a:ln>
        </p:spPr>
      </p:pic>
      <p:sp>
        <p:nvSpPr>
          <p:cNvPr id="192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11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yload is downloaded on the W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Exec runs it under the end-user identit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s Authoriz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6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A64C-A061-4360-BB6F-BF0A22D8DC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PilotJobAuthZ.png"/>
          <p:cNvPicPr/>
          <p:nvPr/>
        </p:nvPicPr>
        <p:blipFill>
          <a:blip r:embed="rId1"/>
          <a:stretch/>
        </p:blipFill>
        <p:spPr>
          <a:xfrm>
            <a:off x="1590840" y="2319480"/>
            <a:ext cx="6719760" cy="3536640"/>
          </a:xfrm>
          <a:prstGeom prst="rect">
            <a:avLst/>
          </a:prstGeom>
          <a:ln w="0">
            <a:noFill/>
          </a:ln>
        </p:spPr>
      </p:pic>
      <p:sp>
        <p:nvSpPr>
          <p:cNvPr id="198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11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204560" y="824040"/>
            <a:ext cx="77216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 (EMI-1 release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ack-compatible with gLite 3.2 Argus PEP client API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upport for LFC/DPM banning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ug fix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Next Argus release (EMI Year 2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mplement the </a:t>
            </a:r>
            <a:r>
              <a:rPr b="0" i="1" lang="en-US" sz="2800" spc="-1" strike="noStrike">
                <a:solidFill>
                  <a:srgbClr val="010920"/>
                </a:solidFill>
                <a:latin typeface="Calibri"/>
              </a:rPr>
              <a:t>EMI Common XACML Authorization Profil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egration with UNICORE and ARC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Release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2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366B-7D01-4AAE-A94F-7B91725BC52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mmon XACML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authorization integration ongoing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sistent authorization decisions across the whole EMI middleware stack (CE, WN, SE, UNICORE, ARC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easy to manage and distribute 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7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6D48-1E03-4114-A31B-9737A7B2DAB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GUS Tickets (ARGUS Support Unit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https://ggus.eu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upport mailing list (e-group)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eneral documentation </a:t>
            </a:r>
            <a:br>
              <a:rPr sz="3200"/>
            </a:b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ttps://twiki.cern.ch/twiki/bin/view/EGEE/AuthorizationFramework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Suppor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2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BC51-2F52-4E66-8E1F-30B972FD19D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55400" y="4188960"/>
            <a:ext cx="734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6" name="Title 13"/>
          <p:cNvSpPr/>
          <p:nvPr/>
        </p:nvSpPr>
        <p:spPr>
          <a:xfrm>
            <a:off x="979560" y="5002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EMI is partially funded by the European Commission under Grant Agreement INFSO-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C:\Dokumente und Einstellungen\nl\Eigene Dateien\Aufträge 2009-JSC\EMI-PPT-Template\EMI_Logo_newest.png"/>
          <p:cNvPicPr/>
          <p:nvPr/>
        </p:nvPicPr>
        <p:blipFill>
          <a:blip r:embed="rId1"/>
          <a:stretch/>
        </p:blipFill>
        <p:spPr>
          <a:xfrm>
            <a:off x="1006560" y="785880"/>
            <a:ext cx="7572240" cy="3179520"/>
          </a:xfrm>
          <a:prstGeom prst="rect">
            <a:avLst/>
          </a:prstGeom>
          <a:ln w="0">
            <a:noFill/>
          </a:ln>
        </p:spPr>
      </p:pic>
      <p:sp>
        <p:nvSpPr>
          <p:cNvPr id="218" name="Slide Number Placeholder 9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8609-21C2-499B-B912-1B8DDF7D9302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11"/>
          <p:cNvSpPr/>
          <p:nvPr/>
        </p:nvSpPr>
        <p:spPr>
          <a:xfrm>
            <a:off x="231948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uthorization Servic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mmon XACML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Authorization Integr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rvice Deployme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Releas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B0FE-F14F-45A2-AB26-3401C5CC5CA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64720" y="824040"/>
            <a:ext cx="7821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Renders consistent authorization decisions based on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Ban user by DN, FQAN, issuing CA, … !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148" name="Content Placeholder 6" descr="ARGUS_Components-EMI.png"/>
          <p:cNvPicPr/>
          <p:nvPr/>
        </p:nvPicPr>
        <p:blipFill>
          <a:blip r:embed="rId1"/>
          <a:srcRect l="0" t="-42712" r="0" b="-42712"/>
          <a:stretch/>
        </p:blipFill>
        <p:spPr>
          <a:xfrm>
            <a:off x="865080" y="1670040"/>
            <a:ext cx="8520120" cy="612936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BC6F-D232-4047-B0E8-6C863DED035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AP: Policy Administra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site administrators with the tools for authoring polici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es and manages authored XACML policies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managed authorization policies to other authorization service components (other PAPs or PD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-admin too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imple Policy Languag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C9C8-8A67-40D1-92ED-5693B1051A8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DP: Policy Decis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policies evaluation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ceives authorization decision requests from the PEP Server or other components (UNICORE PDP, …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valuates the authorization decision requests against the XACML policies retrieved from the PA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nders the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9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8E57-A345-492F-B299-ACD88066F53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07680" y="824040"/>
            <a:ext cx="853596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EP: Policy Enforcement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lient/Server architectu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Lightweight PEP client API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 receives the authorization decision requests from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additional filters to the requests (PI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sks the PDP to render an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the obligation handler (OH) to determine the user mapping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ends authorization decision (with obligations) back to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1788-6483-45CB-BB39-15910FC0D9A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common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Define a common set of XACML authorization attribut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omogenous and consistent authorization decisions across the EMI middlewa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file released, but still need to be implemented for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UNICORE PDP integration in XACML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C SecHandler integration with PEP client API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ttps://twiki.cern.ch/twiki/bin/view/EMI/EmiJra1T4XACM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ommon XACML Authorization Profil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9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EC97-CB2A-40BC-B27E-C48B380D2B5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-1 release authorization statu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omputing Element (CE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CREAM CE integrated with Argu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Worker Node (WN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gLExec with LCMAPS PEP plugin for pilot job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age Element (SE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DPM/LFC banning engin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dCache authorization plugin (available in EMI-1, not enabled by default)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MI Authorization Integr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1701-2F50-4793-A53A-CDC9A21B11E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uture work (EMI Year 2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mplement the common XACML authorization profil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gus update to support new profil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Extend the simple policy language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Define the new XACML attributes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UNICORE PDP integration in XACML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C SecHandler integration with PEP client API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age Element (SE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StoRM authorization (banning)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MI Execution Service (ES) integration??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MI Authorization Integration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63E7-9D45-41D6-87DB-4187FCE8A1C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ate Placeholder 4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5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7:44:16Z</dcterms:created>
  <dc:creator>Valery Tschopp</dc:creator>
  <dc:description/>
  <cp:keywords/>
  <dc:language>en-US</dc:language>
  <cp:lastModifiedBy>Valery Tschopp</cp:lastModifiedBy>
  <dcterms:modified xsi:type="dcterms:W3CDTF">2011-05-31T07:58:15Z</dcterms:modified>
  <cp:revision>222</cp:revision>
  <dc:subject/>
  <dc:title>Argus - EMI Authorization Integration</dc:title>
</cp:coreProperties>
</file>