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EA19-3D77-4CC5-B11A-C0C04ADE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ED9C-52FB-44C3-97E6-7F10E51C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C14A-D73B-4D81-8CCA-BF64C99C8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7392-C567-467F-A276-AD5CE82D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CE3C-C872-44BA-950E-75C2E3A3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72BF-135B-416F-959E-29922BDE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4395-CB16-4040-BEFF-DFA4B7D6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7E5F-4BD6-407F-837E-7A107091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979C-6C88-4883-B145-AA35AC8B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C284-A25B-48D9-87DB-45CB5D3F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DA27-6271-4C09-A63C-EFA001F7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8A42-6D9E-4A29-B865-A69ACC31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7269-A79A-4419-BEDD-67459C6B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81F2-2C2C-4474-B3F1-0C5B0521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A41F-61B8-47C3-96C8-A36821B6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A191-A0EE-4652-A2FC-1EED3F92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4933-BADE-4012-8784-760FCE85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01365-382B-485E-BD1C-0D66040B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02F8F-2938-452B-9FDE-4DB6662F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2CC9E-2368-462D-A357-74BCD0DB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8C082-EFE5-4B2A-B2AE-C02DCDF2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31570-786D-4FC8-8811-61F0C213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A441-7D98-4590-8D08-D15D5ECF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58291-C725-4A94-888F-1277AC75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C3BCA-BD26-4F8B-A00F-22403374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A09BB-D295-41B9-9DA8-571BA993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8466C-9FFA-4029-A61C-5405D41E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7828D-6CC9-43AF-AC2F-3E3453B7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3898F-DD15-4D85-8EF8-6429381A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5A99E-0D85-4B38-86EE-34BB6E75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281E-64B2-461B-93E6-AA86E74A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04DB-1BB1-4D8A-8E80-E074046C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4C68-71CB-4594-B605-C8816718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53E8-6733-4690-A60E-7FD10343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9659-9513-4BA3-ABA9-4088AA1B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85EC-9D09-428B-8CBC-329DA51B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4DCE-8CA2-4BE9-AE4B-20E0E123118B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0" y="0"/>
            <a:ext cx="1049400" cy="6858000"/>
          </a:xfrm>
          <a:prstGeom prst="rect">
            <a:avLst/>
          </a:prstGeom>
          <a:solidFill>
            <a:srgbClr val="01092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9C1A-5CF8-4A3E-B800-32FC5D4F4A5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6DCF-A784-45F7-885F-B2108C9E105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twiki.cern.ch/twiki/bin/view/EGEE/AuthorizationFramework" TargetMode="External"/><Relationship Id="rId2" Type="http://schemas.openxmlformats.org/officeDocument/2006/relationships/hyperlink" Target="https://twiki.cern.ch/twiki/bin/view/EMI/ArgusSRC" TargetMode="External"/><Relationship Id="rId3" Type="http://schemas.openxmlformats.org/officeDocument/2006/relationships/hyperlink" Target="https://twiki.cern.ch/twiki/bin/view/EGEE/AuthZPAPCLI" TargetMode="External"/><Relationship Id="rId4" Type="http://schemas.openxmlformats.org/officeDocument/2006/relationships/hyperlink" Target="https://twiki.cern.ch/twiki/bin/view/EGEE/SimplifiedPolicyLanguage" TargetMode="External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EMI-Europ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571680" y="407880"/>
            <a:ext cx="8001000" cy="602136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706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0253f"/>
                </a:solidFill>
                <a:latin typeface="Arial"/>
              </a:rPr>
              <a:t>Argus</a:t>
            </a:r>
            <a:br>
              <a:rPr sz="4400"/>
            </a:br>
            <a:r>
              <a:rPr b="1" lang="en-GB" sz="3600" spc="-1" strike="noStrike">
                <a:solidFill>
                  <a:srgbClr val="10253f"/>
                </a:solidFill>
                <a:latin typeface="Arial"/>
              </a:rPr>
              <a:t>The EMI Authorization Servic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4462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Valery Tschopp (SWITCH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Argus Product Team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pic>
        <p:nvPicPr>
          <p:cNvPr id="140" name="Picture 5" descr="C:\Dokumente und Einstellungen\nl\Eigene Dateien\Aufträge 2009-JSC\EMI-PPT-Template\EMI_Logo_newest.png"/>
          <p:cNvPicPr/>
          <p:nvPr/>
        </p:nvPicPr>
        <p:blipFill>
          <a:blip r:embed="rId2"/>
          <a:stretch/>
        </p:blipFill>
        <p:spPr>
          <a:xfrm>
            <a:off x="3022560" y="1106640"/>
            <a:ext cx="309888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947880" y="824040"/>
            <a:ext cx="79516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Open ports (firewall): 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: 8150 (pap-admin, policies distribution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Server: 8154 (PEP client connections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og and audit files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var/log/argus/(pap|pdp|pepd)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nit scripts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argus-pap {start|stop|status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argus-pdp {start|stop|status|reloadpolicy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argus-pepd {start|stop|status|clearcache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  <a:ea typeface="Courier New"/>
              </a:rPr>
              <a:t>Nagios plugins available to monitor the servic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Service Operation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D143-B888-4277-AED7-8CBA8ECD864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204560" y="824040"/>
            <a:ext cx="77677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is designed to answer the questions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920"/>
                </a:solidFill>
                <a:latin typeface="Calibri"/>
              </a:rPr>
              <a:t>Is user X banned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decis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authorize users to perform an action on a resourc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DENY decis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ban user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oth can be expressed with XACML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uthorization Policie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1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023E-81D0-4BBD-828B-0C716938106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XACML policies !?!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uthorization Policies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1D69-8586-46F4-9DB3-77791BDD663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ontent Placeholder 1"/>
          <p:cNvSpPr/>
          <p:nvPr/>
        </p:nvSpPr>
        <p:spPr>
          <a:xfrm>
            <a:off x="933480" y="1555920"/>
            <a:ext cx="78138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Set xmlns:xacml="urn:oasis:names:tc:xacml:2.0:policy:schema:os”PolicyCombiningAlgId="urn:oasis:names:tc:xacml:1.0:policy-combining-algorithm:first-applicable" PolicySetId="9784d9ce-16a9-41b9-9d26-b81a97f93616" Version="1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Match MatchId="urn:oasis:names:tc:xacml:1.0:function:string-regexp-match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AttributeDesignator AttributeId="urn:oasis:names:tc:xacml:1.0:resource:resource-id" DataType="http://www.w3.org/2001/XMLSchema#string" MustBePresent="fals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Matc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IdReference&gt;public_2d8346b8-5cd2-44ad-9ad1-0eff5d8a6ef1&lt;/xacml:PolicyIdReferen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PolicyS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 xmlns:xacml="urn:oasis:names:tc:xacml:2.0:policy:schema:os” PolicyId="public_2d8346b8-5cd2-44ad-9ad1-0eff5d8a6ef1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CombiningAlgId="urn:oasis:names:tc:xacml:1.0:rule-combining-algorithm:first-applicable" Version="1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Match MatchId="urn:oasis:names:tc:xacml:1.0:function:string-regexp-match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AttributeDesignator AttributeId="urn:oasis:names:tc:xacml:1.0:action:action-id" DataType="http://www.w3.org/2001/XMLSchema#string" MustBePresent="fals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Matc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ule Effect="Deny" RuleId="43c15124-6635-47ee-b13c-53f672d0de77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roblem?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XACML not easy to read and/or understand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XACML not easy to write, prone to error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ide the XACML language complexity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troduce a Simplified Policy Language (SPL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 administrators with simple tool to manage the polici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</a:t>
            </a: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to create, edit, delete permit/deny policy rules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uthorization Policies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2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4D2C-DB76-4964-872B-0333364AB51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an a particular user by D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.*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.*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deny {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subject="/C=CH/O=SWITCH/CN=Valery Tschopp" 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ATLAS users (FQAN) to execute a job on a worker node (WN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http://grid.switch.ch/wn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http://glite.org/xacml/action/execute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fqan="/atlas" 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implified Policy Languag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7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4EF8-6897-498E-9059-70749AFB704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dministrator’s tool to manage the PAP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olicies management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 server management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 authorization management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e way to ban user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e way to create, edit and delete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ap-admin Tool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2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5A6C-71BF-4F07-9BA7-C45171A5CAF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25320" y="824040"/>
            <a:ext cx="82915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reate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rmit a user by distinguished name (DN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add-policy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resource “http://grid.switch.ch/wn”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action “http://glite.org/xacml/action/execute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permit subject="CN=Valery Tschopp,O=SWITCH,C=ch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rmit users by primary FQA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ap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resource “http://grid.switch.ch/wn”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action “http://glite.org/xacml/action/execute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permit pfqan=”/atlas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an a user for any action and resourc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ban subject "CN=John Doe,O=ACME,C=org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ap-admin Tool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D641-3A9A-425C-A4A1-1A75EAA173B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625320" y="824040"/>
            <a:ext cx="82915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isting existing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lp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Enter the passphrase for the private key /home/tschopp/.globus/userkey.pem:  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default (local):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”.*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”.*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deny { subject="CN=John Doe,O=ACME,C=org” 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”http://grid.switch.ch/atlas-cluster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obligation "http://glite.org/xacml/obligation/local-environment-map" { 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”http://glite.org/xacml/action/execute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pfqan="/atlas" 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subject="CN=Valery Tschopp,O=SWITCH,C=ch”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ap-admin Tool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2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0CF8-BE10-4B2D-B93C-9820E501D81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yload is downloaded on the W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Exec runs it under the end-user identity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ilot Jobs Authoriz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7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8C61-4C44-4C33-B253-47B6C1262B7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PilotJobAuthZ.png"/>
          <p:cNvPicPr/>
          <p:nvPr/>
        </p:nvPicPr>
        <p:blipFill>
          <a:blip r:embed="rId1"/>
          <a:stretch/>
        </p:blipFill>
        <p:spPr>
          <a:xfrm>
            <a:off x="1469880" y="2290680"/>
            <a:ext cx="67374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736560" y="824040"/>
            <a:ext cx="819000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ilot Job Policy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”http://grid.switch.ch/wn" {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obligation "http://glite.org/xacml/obligation/local-environment-map" { 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”http://glite.org/xacml/action/execute" {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pfqan="/atlas/Role=pilot" 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fqan=”/atlas/analysis”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ilot Job Authorization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0EE6-08CE-49E8-9823-1EF946A5855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uthorization Servic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rvice Deployme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ified Policy Languag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p-admin Too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ilot Jobs Authoriza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1.3 EMI-1 Releas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2" name="Date Placeholder 2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574A-3D6E-454A-A82E-1E80E42CE53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204560" y="824040"/>
            <a:ext cx="77216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1.3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ompatible with gLite 3.2 Argus PEP client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upport for LFC/DPM banning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ug fix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Will be released for EMI-1 (end April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s it a problem for gLite 3.2 site ?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stall the Argus 1.3 EMI-1 service (standalone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Keep the existing gLite 3.2 application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1.3 EMI-1 Releas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A419-AF47-4234-A592-6117C8DAB90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obal banning list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te specific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xperiment specific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sistent authorization decisions across the whole middleware stack (CE, WN, …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ilot Jobs authorization and mapping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e tool to manage authoriza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05F2-ED2F-47D8-85C8-05B5579699D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5" name="Date Placeholder 6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General documentation </a:t>
            </a:r>
            <a:br>
              <a:rPr sz="28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twiki.cern.ch/twiki/bin/view/EGEE/AuthorizationFramework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ervice Reference Card </a:t>
            </a:r>
            <a:br>
              <a:rPr sz="28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twiki.cern.ch/twiki/bin/view/EMI/ArgusSRC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 admin CLI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twiki.cern.ch/twiki/bin/view/EGEE/AuthZPAPCLI</a:t>
            </a: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implified Policy Languag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s://twiki.cern.ch/twiki/bin/view/EGEE/SimplifiedPolicyLanguage</a:t>
            </a: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Document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8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7D17-F227-4AF7-9F92-F897BD3EE09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GUS Tickets (ARGUS Support Unit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https://gus.fzk.de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upport mailing list (e-group)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argus-support@cern.ch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uppor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3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9746-5FAC-4686-ACB6-6C9954A55CF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55400" y="4188960"/>
            <a:ext cx="734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BE64-7E36-4ED6-8E3B-1CCF9E3A90EC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5"/>
          <p:cNvSpPr/>
          <p:nvPr/>
        </p:nvSpPr>
        <p:spPr>
          <a:xfrm>
            <a:off x="231948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itle 13"/>
          <p:cNvSpPr/>
          <p:nvPr/>
        </p:nvSpPr>
        <p:spPr>
          <a:xfrm>
            <a:off x="979560" y="5002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Calibri"/>
              </a:rPr>
              <a:t>EMI is partially funded by the European Commission under Grant Agreement INFSO-RI-261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C:\Dokumente und Einstellungen\nl\Eigene Dateien\Aufträge 2009-JSC\EMI-PPT-Template\EMI_Logo_newest.png"/>
          <p:cNvPicPr/>
          <p:nvPr/>
        </p:nvPicPr>
        <p:blipFill>
          <a:blip r:embed="rId1"/>
          <a:stretch/>
        </p:blipFill>
        <p:spPr>
          <a:xfrm>
            <a:off x="1006560" y="785880"/>
            <a:ext cx="7572240" cy="3179520"/>
          </a:xfrm>
          <a:prstGeom prst="rect">
            <a:avLst/>
          </a:prstGeom>
          <a:ln w="0">
            <a:noFill/>
          </a:ln>
        </p:spPr>
      </p:pic>
      <p:sp>
        <p:nvSpPr>
          <p:cNvPr id="261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64720" y="824040"/>
            <a:ext cx="78217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Renders consistent authorization decisions based on XACML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Ban user by DN, FQAN, issuing CA, … !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8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8B21-BE4C-4C42-8592-284F0505278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Content Placeholder 6" descr="ARGUS_Components-EMI.png"/>
          <p:cNvPicPr/>
          <p:nvPr/>
        </p:nvPicPr>
        <p:blipFill>
          <a:blip r:embed="rId1"/>
          <a:srcRect l="0" t="-42712" r="0" b="-42712"/>
          <a:stretch/>
        </p:blipFill>
        <p:spPr>
          <a:xfrm>
            <a:off x="865080" y="1670040"/>
            <a:ext cx="852012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AP: Policy Administrat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site administrators with the tools for authoring policies (pap-admin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es and manages authored XACML policies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managed authorization policies to other authorization service components (other PAPs or PD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4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8D58-4EFA-454C-A547-01F32EECFC2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DP: Policy Decis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olicy evaluation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ceives authorization requests from the PEP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valuates the authorization requests against the XACML policies retrieved from the PAP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nders the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9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B09F-0650-4035-A9CA-0EFD5B35206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EP: Policy Execut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lient/Server architectur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Lightweight PEP client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Server receives the authorization requests from the PEP client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additional filters to the requests (PI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sks the PDP to render an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the obligation handler (OH) to determine the user mapping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D4CA-CDEC-48A5-919A-300FCF46282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746280" y="824040"/>
            <a:ext cx="82454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s a service to manage consistent authorization policy based deci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F690-6A63-414A-B025-03FBF136319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Content Placeholder 6" descr="ArgusIntegration.png"/>
          <p:cNvPicPr/>
          <p:nvPr/>
        </p:nvPicPr>
        <p:blipFill>
          <a:blip r:embed="rId1"/>
          <a:srcRect l="0" t="-6279" r="0" b="-6279"/>
          <a:stretch/>
        </p:blipFill>
        <p:spPr>
          <a:xfrm>
            <a:off x="1658880" y="2023920"/>
            <a:ext cx="648504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ierarchical distribution of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ECB7-8489-4FF5-B50B-DB10DC13A88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Content Placeholder 6" descr="Argus-EMI_Deployment.png"/>
          <p:cNvPicPr/>
          <p:nvPr/>
        </p:nvPicPr>
        <p:blipFill>
          <a:blip r:embed="rId1"/>
          <a:srcRect l="0" t="-3086" r="0" b="-3086"/>
          <a:stretch/>
        </p:blipFill>
        <p:spPr>
          <a:xfrm>
            <a:off x="1908000" y="1650960"/>
            <a:ext cx="631044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obal banning list (EGI, NGI, …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ocal site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xperiment specific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E7F2-3710-45EB-A727-BCB8AEA02A6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7:49:34Z</dcterms:created>
  <dc:creator>Valery Tschopp</dc:creator>
  <dc:description/>
  <dc:language>en-US</dc:language>
  <cp:lastModifiedBy>Valery Tschopp</cp:lastModifiedBy>
  <dcterms:modified xsi:type="dcterms:W3CDTF">2011-04-12T08:28:33Z</dcterms:modified>
  <cp:revision>144</cp:revision>
  <dc:subject/>
  <dc:title>Argus The EMI Authorization Service</dc:title>
</cp:coreProperties>
</file>