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B2C-DD69-478C-8DEE-B3288906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A91-8FBB-4C4F-976F-0F690825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24D-216A-4648-A3DB-5578ACED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89D-BB1A-4E1B-82A4-488F0E5F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4073-9F21-4AA2-81A4-4450742D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76D1-D230-446A-9D25-1C057659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3EAE-4F96-448D-A148-404B57FC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6B63-D067-41AB-B521-638327F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95D8-D731-4821-8D2B-E8DB0376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BDD7-7B0A-4F3C-A4FA-471F0521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99FF-E1BD-40E0-B923-ABA0321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23F-C712-4C90-B4E9-88EEC6B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1035-76DE-4C8B-A130-BB35F8E7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847A-0FF4-426D-A17D-72EFF3B4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8872-63DC-4910-AC22-A1A0644E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3A83-B227-4BC2-8166-11EEAF8B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A489-895F-436F-B42D-ACCF37B1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045A-A34A-4568-A9F4-31C94B6F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7AC8-7D32-4DC5-B631-3B4F045D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B1A4-5256-4349-BC93-D57B2861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F764-CE63-4BC2-81D9-DB73736D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1B3BE-925E-455C-B887-1808DAB0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ABF-6093-4A62-95BE-0EE22974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D8E6-C4DE-4BF2-83EE-A60708AD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C038-3EBC-41F3-820A-DCF7A178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5B20-1C12-4DF2-A998-EDDDA853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83CC-AFA2-4003-BFF6-D19E1374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CF9D-9023-4AE9-8DC2-8530CDDB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BA7D5-E958-4824-BE8E-1290AFB4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23E0-608C-4E0E-9C26-C3522FD1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E81-D7E1-4105-9562-3539E90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E94-34AC-4A48-969D-3692195C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3D4-DF7F-494C-9E93-6E865223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5E1-6B99-4FB0-ACD9-F1BF235F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74E-504C-49E1-8716-813290C9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40E-1D46-451E-A116-882A57D3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4019-B625-4472-BF5A-94B7524AB14B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9309-CCF6-4BB5-87FE-A606795E0EE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3AEE-657B-430A-8ED7-4CD9C0FA9E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4000" spc="-1" strike="noStrike">
                <a:solidFill>
                  <a:srgbClr val="10253f"/>
                </a:solidFill>
                <a:latin typeface="Arial"/>
              </a:rPr>
              <a:t>EMI Authorization Integration</a:t>
            </a:r>
            <a:endParaRPr b="1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84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5A2B-76A2-4B4E-BA43-D691DCB2A8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AA1F-B3EF-45AC-9208-3EFE4F3C15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Argus-EMI_Deployment.png"/>
          <p:cNvPicPr/>
          <p:nvPr/>
        </p:nvPicPr>
        <p:blipFill>
          <a:blip r:embed="rId1"/>
          <a:stretch/>
        </p:blipFill>
        <p:spPr>
          <a:xfrm>
            <a:off x="1816200" y="1562040"/>
            <a:ext cx="6468840" cy="43830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9E99-4DF5-4BCF-AAEF-AAD01BDB9E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lotJobAuthZ.png"/>
          <p:cNvPicPr/>
          <p:nvPr/>
        </p:nvPicPr>
        <p:blipFill>
          <a:blip r:embed="rId1"/>
          <a:stretch/>
        </p:blipFill>
        <p:spPr>
          <a:xfrm>
            <a:off x="1590840" y="2319480"/>
            <a:ext cx="6719760" cy="3536640"/>
          </a:xfrm>
          <a:prstGeom prst="rect">
            <a:avLst/>
          </a:prstGeom>
          <a:ln w="0">
            <a:noFill/>
          </a:ln>
        </p:spPr>
      </p:pic>
      <p:sp>
        <p:nvSpPr>
          <p:cNvPr id="198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(EMI-1 release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ck-compatible with gLite 3.2 Argus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Next Argus release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</a:t>
            </a:r>
            <a:r>
              <a:rPr b="0" i="1" lang="en-US" sz="2800" spc="-1" strike="noStrike">
                <a:solidFill>
                  <a:srgbClr val="010920"/>
                </a:solidFill>
                <a:latin typeface="Calibri"/>
              </a:rPr>
              <a:t>EMI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egration with UNICORE and A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Releas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D61B-4060-4806-AC89-DDC803A1A0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 ongo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EMI middleware stack (CE, WN, SE, UNICORE, ARC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easy to manage and distribute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377-4D77-4FB8-8210-24FD0AE6D2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gus.eu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D67A-FE3D-4082-A58F-AB95ACD5B9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6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9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6C39-0AAC-4847-ACA5-96620E86C448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11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Releas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45D7-A791-489F-9A18-FF9491F86A7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48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A650-3699-4A7D-9ABC-44F2FBA464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e Policy Languag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EE23-C39A-45E7-8775-804A670248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policies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decision requests from the PEP Server or other components (UNICORE PDP, …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decis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7508-B6D1-4946-832A-D5588657FD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7680" y="824040"/>
            <a:ext cx="8535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nforcement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decis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nds authorization decision (with obligations) back to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99D7-2FCE-4498-9729-00A22198FD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common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Define a common set of XACML authorization attribut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omogenous and consistent authorization decisions across the EMI middlewa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file released, but still need to be implemented f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MI/EmiJra1T4XACM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ommon XACML Authorization Profil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BF61-F704-4ED5-9B4E-E34DE99AFA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-1 release authorization statu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uting Element (C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REAM CE integrated with Argu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orker Node (WN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LExec with LCMAPS PEP plugin for pilot job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PM/LFC banning engin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Cache authorization plugin (available in EMI-1, not enabled by default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8124-9836-4BC7-B64C-1E60294474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uture work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gus update to support new profil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Extend the simple policy language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Define the new XACML attribut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toRM authorization (banning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MI Execution Service (ES) integration??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0A59-2792-4351-AED0-72BC4727A6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44:16Z</dcterms:created>
  <dc:creator>Valery Tschopp</dc:creator>
  <dc:description/>
  <cp:keywords/>
  <dc:language>en-US</dc:language>
  <cp:lastModifiedBy>Valery Tschopp</cp:lastModifiedBy>
  <dcterms:modified xsi:type="dcterms:W3CDTF">2011-05-31T07:58:15Z</dcterms:modified>
  <cp:revision>222</cp:revision>
  <dc:subject/>
  <dc:title>Argus - EMI Authorization Integration</dc:title>
</cp:coreProperties>
</file>