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74687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746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3"/>
          </p:nvPr>
        </p:nvSpPr>
        <p:spPr>
          <a:xfrm>
            <a:off x="382284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906120" y="740880"/>
            <a:ext cx="49338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4"/>
          </p:nvPr>
        </p:nvSpPr>
        <p:spPr>
          <a:xfrm>
            <a:off x="0" y="937368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5"/>
          </p:nvPr>
        </p:nvSpPr>
        <p:spPr>
          <a:xfrm>
            <a:off x="3822840" y="937368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5AEBB-3983-4EEC-8D3B-62064568E3C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7E751-7B05-45AD-B1F7-4051E843ED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661B9-01AE-40E0-841A-7D0A3A4A83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CC13E-B3C8-463E-BADA-72AE146755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4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3A941-918E-455F-91E0-BDA9DABB97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67ACD-2765-4609-8EE9-FC816B446A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FF779-054A-4AE3-945F-CFA2A9163F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37D52-425B-44F2-9685-592297503A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F957A-027A-4FC0-AF4D-9EB59C053F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A5D81-E486-4DCF-8069-70F56C2119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4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EF69E-3769-4E4E-99B4-BD4FA5F846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4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FE4E-1B71-41AF-A061-BBCF5B9D90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4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2712F-1A3B-495F-A7E6-CB0DF8A838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5AB5B-983F-4FAA-8AB5-53DA82F9E0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4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CB03D-4762-4772-AB2F-355A0AF709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BDB69-75C9-453B-964E-69D3DB2420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8CBD7-80E4-4F33-A398-93F8B684FD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A7D56-A2C3-434D-89F8-01A774D4D1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4345E-1FB9-47E6-8892-268987C64D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AE7FF-3CC6-44B7-B66A-C7F712C7BF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791FC-67AC-45A9-BD78-3EE1122019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3490D-38E0-4CFA-99DA-DB0893638E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276EB-A534-44EE-86C6-1D4D34DF26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19B18-CE2B-4453-9256-925E16F8C7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6FE15-4D07-4105-9908-821A72A7CF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3A566-4177-48F5-B9E0-AD87449D3F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A8E32-971D-4B87-A392-8ACFBEE04C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475DE-8388-4069-B624-2ECE21161D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1736640" y="6559200"/>
            <a:ext cx="670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ROD Workshop June 2, 2010, Amsterd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852156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39804-49BB-4F55-9E20-1AF1A5BF062C}" type="slidenum">
              <a:rPr b="1" lang="en-GB" sz="1200" spc="-1" strike="noStrike">
                <a:solidFill>
                  <a:srgbClr val="2b519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3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Rectangle 120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6" name="Oval 121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grpSp>
        <p:nvGrpSpPr>
          <p:cNvPr id="7" name="Group 123"/>
          <p:cNvGrpSpPr/>
          <p:nvPr/>
        </p:nvGrpSpPr>
        <p:grpSpPr>
          <a:xfrm>
            <a:off x="255600" y="644400"/>
            <a:ext cx="3652920" cy="327240"/>
            <a:chOff x="255600" y="644400"/>
            <a:chExt cx="3652920" cy="327240"/>
          </a:xfrm>
        </p:grpSpPr>
        <p:sp>
          <p:nvSpPr>
            <p:cNvPr id="8" name=""/>
            <p:cNvSpPr/>
            <p:nvPr/>
          </p:nvSpPr>
          <p:spPr>
            <a:xfrm>
              <a:off x="255600" y="644400"/>
              <a:ext cx="36529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325faf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Text Box 130"/>
          <p:cNvSpPr/>
          <p:nvPr/>
        </p:nvSpPr>
        <p:spPr>
          <a:xfrm>
            <a:off x="0" y="6491160"/>
            <a:ext cx="30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519a"/>
                </a:solidFill>
                <a:latin typeface="Arial"/>
              </a:rPr>
              <a:t>EGEE-III INFSO-RI-222667</a:t>
            </a: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11" name="Picture 136" descr="egee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2"/>
          <p:cNvSpPr/>
          <p:nvPr/>
        </p:nvSpPr>
        <p:spPr>
          <a:xfrm>
            <a:off x="0" y="0"/>
            <a:ext cx="9144000" cy="2127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49" name="Rectangle 24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0" name="Rectangle 31"/>
          <p:cNvSpPr/>
          <p:nvPr/>
        </p:nvSpPr>
        <p:spPr>
          <a:xfrm>
            <a:off x="0" y="836640"/>
            <a:ext cx="9144000" cy="8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1" name="Rectangle 39"/>
          <p:cNvSpPr/>
          <p:nvPr/>
        </p:nvSpPr>
        <p:spPr>
          <a:xfrm>
            <a:off x="4341960" y="209520"/>
            <a:ext cx="4802040" cy="85248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2" name="Oval 40"/>
          <p:cNvSpPr/>
          <p:nvPr/>
        </p:nvSpPr>
        <p:spPr>
          <a:xfrm>
            <a:off x="3884760" y="208080"/>
            <a:ext cx="887400" cy="860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53" name="Picture 46" descr="eu_logo2"/>
          <p:cNvPicPr/>
          <p:nvPr/>
        </p:nvPicPr>
        <p:blipFill>
          <a:blip r:embed="rId2"/>
          <a:stretch/>
        </p:blipFill>
        <p:spPr>
          <a:xfrm>
            <a:off x="7870680" y="5694480"/>
            <a:ext cx="809640" cy="5713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8"/>
          <p:cNvSpPr/>
          <p:nvPr/>
        </p:nvSpPr>
        <p:spPr>
          <a:xfrm>
            <a:off x="0" y="6491160"/>
            <a:ext cx="29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519a"/>
                </a:solidFill>
                <a:latin typeface="Verdana"/>
              </a:rPr>
              <a:t>EGEE-III INFSO-RI-222667</a:t>
            </a: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55" name="Picture 53" descr="egee_bigger"/>
          <p:cNvPicPr/>
          <p:nvPr/>
        </p:nvPicPr>
        <p:blipFill>
          <a:blip r:embed="rId3"/>
          <a:stretch/>
        </p:blipFill>
        <p:spPr>
          <a:xfrm>
            <a:off x="2168640" y="344520"/>
            <a:ext cx="2390760" cy="5904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6"/>
          <p:cNvSpPr/>
          <p:nvPr/>
        </p:nvSpPr>
        <p:spPr>
          <a:xfrm>
            <a:off x="4903920" y="696960"/>
            <a:ext cx="40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abling Grids for E-sciencE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57" name="Picture 59" descr="EGEE 30y"/>
          <p:cNvPicPr/>
          <p:nvPr/>
        </p:nvPicPr>
        <p:blipFill>
          <a:blip r:embed="rId4"/>
          <a:stretch/>
        </p:blipFill>
        <p:spPr>
          <a:xfrm>
            <a:off x="0" y="212760"/>
            <a:ext cx="1798560" cy="54007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2"/>
          <p:cNvSpPr/>
          <p:nvPr/>
        </p:nvSpPr>
        <p:spPr>
          <a:xfrm>
            <a:off x="5760" y="586116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Arial"/>
              </a:rPr>
              <a:t>www.eu-egee.org</a:t>
            </a:r>
            <a:endParaRPr b="0" lang="en-US" sz="16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59" name="Picture 63" descr="InfsoMedia_EN_RGB_Hi"/>
          <p:cNvPicPr/>
          <p:nvPr/>
        </p:nvPicPr>
        <p:blipFill>
          <a:blip r:embed="rId5"/>
          <a:stretch/>
        </p:blipFill>
        <p:spPr>
          <a:xfrm>
            <a:off x="6329520" y="5592600"/>
            <a:ext cx="1336680" cy="8589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4"/>
          <p:cNvSpPr/>
          <p:nvPr/>
        </p:nvSpPr>
        <p:spPr>
          <a:xfrm>
            <a:off x="5643720" y="6491160"/>
            <a:ext cx="35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25faf"/>
                </a:solidFill>
                <a:latin typeface="Verdana"/>
              </a:rPr>
              <a:t>EGEE and gLite are registered trademarks</a:t>
            </a:r>
            <a:r>
              <a:rPr b="0" lang="en-GB" sz="1800" spc="-1" strike="noStrike">
                <a:solidFill>
                  <a:srgbClr val="325fa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55320" y="2493720"/>
            <a:ext cx="6518520" cy="107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b519a"/>
                </a:solidFill>
                <a:latin typeface="Arial"/>
              </a:rPr>
              <a:t>Argus: </a:t>
            </a:r>
            <a:br>
              <a:rPr sz="3600"/>
            </a:br>
            <a:r>
              <a:rPr b="1" lang="en-GB" sz="2800" spc="-1" strike="noStrike">
                <a:solidFill>
                  <a:srgbClr val="2b519a"/>
                </a:solidFill>
                <a:latin typeface="Arial"/>
              </a:rPr>
              <a:t>General Introdu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160720" y="4019400"/>
            <a:ext cx="6518160" cy="10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2b519a"/>
                </a:solidFill>
                <a:latin typeface="Arial"/>
              </a:rPr>
              <a:t>Christoph Witzig, SWITCH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2b519a"/>
                </a:solidFill>
                <a:latin typeface="Arial"/>
              </a:rPr>
              <a:t>(christoph.witzig@switch.ch)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08" name="Picture 3" descr="argus_logo.png"/>
          <p:cNvPicPr/>
          <p:nvPr/>
        </p:nvPicPr>
        <p:blipFill>
          <a:blip r:embed="rId1"/>
          <a:stretch/>
        </p:blipFill>
        <p:spPr>
          <a:xfrm>
            <a:off x="6721560" y="2562120"/>
            <a:ext cx="127008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figuring Administrator Access (1/2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YAIM enables access for administrator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YAIM Variable PAP_ADMIN_DN in site-info.def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Listing ACLs of Argus:</a:t>
            </a:r>
            <a:br>
              <a:rPr sz="2000"/>
            </a:br>
            <a:r>
              <a:rPr b="0" i="1" lang="en-US" sz="2000" spc="-1" strike="noStrike">
                <a:solidFill>
                  <a:srgbClr val="2b519a"/>
                </a:solidFill>
                <a:latin typeface="Arial"/>
              </a:rPr>
              <a:t>[witzig@chaos ~]$ pap-admin  list-acl</a:t>
            </a:r>
            <a:br>
              <a:rPr sz="2000"/>
            </a:br>
            <a:br>
              <a:rPr sz="2000"/>
            </a:br>
            <a:r>
              <a:rPr b="0" i="1" lang="en-US" sz="2000" spc="-1" strike="noStrike">
                <a:solidFill>
                  <a:srgbClr val="2b519a"/>
                </a:solidFill>
                <a:latin typeface="Arial"/>
              </a:rPr>
              <a:t>"/DC=ch/DC=switch/DC=slcs/O=Switch - Teleinformatikdienste fuer Lehre und Forschung/CN=Christoph Witzig 8CA3021D" :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2b519a"/>
                </a:solidFill>
                <a:latin typeface="Arial"/>
              </a:rPr>
              <a:t>POLICY_READ_LOCAL|POLICY_READ_REMOTE|POLICY_WRITE|CONFIGURATION_READ|CONFIGURATION_WRIT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b519a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Note: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passphrase for private key will have to be entered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Every command supports –h option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7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078ED-0981-486C-84EF-5147514AA8B7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figuring Administrator Access (2/2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Adding a DN or FQAN to gain full access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1. Add a DN: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[witzig@chaos ~]$ pap-admin  add-ace ‘/DC=ch/DC=switch/DC=slcs/O=Switch - Teleinformatikdienste fuer Lehre und Forschung/CN=Christoph Witzig 8CA3021D' 'ALL’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2. Add an FQAN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[witzig@chaos ~]$ pap-admin  add-ace '/atlas/Role=VO-Admin’ 'ALL’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3. Remove an FQAN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[witzig@chaos ~]$ pap-admin  add-ace '/atlas/Role=VO-Admin’ 'ALL’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1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C391B-E05E-4428-BFA4-81A39801F231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iguring User Mapp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grid-mapfile and groupmapfile determines the user mapping to username and groupname(s)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ame format as LCMAPS, same functionality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Are configured through the mandatory YAIM variable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USERS_CONF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GROUPS_CONF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Note: If manual configuration, then these directories and files have to be created manually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155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EE0ED-56F9-4B7B-868F-02241A4E2616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nitoring Argu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Nagios plug-ins are available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https://twiki.cern.ch/twiki/bin/view/EGEE/AuthZNagio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9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ACE94-4636-4473-883A-9AAD9D6279A9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62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07E58-72E6-4E23-BD93-65980C43B116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Introduction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Installation and Configuration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ommand line interface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Summary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66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F34AB-9371-4175-9474-CB0F6D9AEB6C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rgus CL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Argus is operated from the command line (YAIM installed)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8f"/>
                </a:solidFill>
                <a:latin typeface="Arial"/>
              </a:rPr>
              <a:t>Starting / stopping / query status of the service components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Three components PAP, PDP, PEPd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/etc/init.d/&lt;component&gt;  &lt;start&gt;&lt;stop&gt;&lt;status&gt;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8f"/>
                </a:solidFill>
                <a:latin typeface="Arial"/>
              </a:rPr>
              <a:t>Configure admin access rights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8f"/>
                </a:solidFill>
                <a:latin typeface="Arial"/>
              </a:rPr>
              <a:t>Add/remove policies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Policies either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8f"/>
                </a:solidFill>
                <a:latin typeface="Arial"/>
              </a:rPr>
              <a:t>Added/removed from command line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8f"/>
                </a:solidFill>
                <a:latin typeface="Arial"/>
              </a:rPr>
              <a:t>Import/export of file in simplified policy language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Keep in mind: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 use-case simply uses site global banning/unbanning of DNs, FQANs, VOs, CAs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70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5637A-7640-4B12-B37C-837DC6CBDEC1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nning Us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o ban a user on the entire site:</a:t>
            </a: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pap-admin ban subject &lt;dn&gt;</a:t>
            </a: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pap-admin ban fqan &lt;fqan&gt;</a:t>
            </a: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o un-ban a user on the entire site:</a:t>
            </a: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pap-admin un-ban subject &lt;dn&gt;</a:t>
            </a: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pap-admin un-ban fqan &lt;fqan&gt;</a:t>
            </a: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o ban a user on a specific resource:</a:t>
            </a: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 pap-admin ban -r resource_id –a action subject &lt;dn&gt;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uthorization Decision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/3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Decisions are taken for a given resource and a given action: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E.g. A WN has a resource id and the action may be “execute_pilot”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Policies are formulated for 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Individual resource and action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Groups of resources and groups of action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All resources and all actions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ite global enable/disable of a VO: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For all resources and actions permit all users of a given VO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Deny a user on all WNs for glexec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For all WN resources and all actions deny user DN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Permit VOs only on certain CE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For resource “CE_1” permit VO “ATLAS”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For resource “CE_2” permit VO “CMS”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5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76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F11E9-0983-47CF-8883-E5F5C644F7D9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uthorization Decision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2/3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mplified Policy Language (SPL)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Allows to create more complex policies using a custom syntax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Policies are loaded into Argus through CLI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Example: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[witzig@chaos ~]$ more test_policy.txt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resource ".*" {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obligation "http://glite.org/xacml/obligation/local-environment-map" { }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action ".*" {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rule permit {vo="atlas"}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rule permit {vo="cms"}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pap-admin add-policies-from-file test_policy.txt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9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3B4D9-5C86-4B3E-A8FC-3B4B5B06EEFA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uthorization Decision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2/3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List policies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witzig@chaos ~]$ pap-admin list-polici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Please enter the passphrase for the private key file /home/witzig/.globus/userkey.pem: 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default (local):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resource ".*" {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obligation "http://glite.org/xacml/obligation/local-environment-map" {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action ".*" {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rule permit { vo="atlas" 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       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rule permit { vo="cms" 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183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32011-5DE6-47B6-A92F-BBDEFC6B6A05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E7304-2C6C-4FC7-BC4B-AB1B5C1ABD8B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Introduction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Installation and Configuration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ommand line interfac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dering of Polic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te: ordering matters: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rst applicable rule determines the resul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witzig@chaos ~]$ pap-admin list-polici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default (local):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resource ".*" {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obligation http://glite.org/xacml/obligation/local-environment-map { 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action ".*" {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  <a:ea typeface="ＭＳ Ｐゴシック"/>
              </a:rPr>
              <a:t>	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  <a:ea typeface="ＭＳ Ｐゴシック"/>
              </a:rPr>
              <a:t>	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  <a:ea typeface="ＭＳ Ｐゴシック"/>
              </a:rPr>
              <a:t>rule deny { subject="CN=Christoph Witzig 8CA3021D,O=Switch -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  <a:ea typeface="ＭＳ Ｐゴシック"/>
              </a:rPr>
              <a:t>	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  <a:ea typeface="ＭＳ Ｐゴシック"/>
              </a:rPr>
              <a:t>	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  <a:ea typeface="ＭＳ Ｐゴシック"/>
              </a:rPr>
              <a:t>Teleinformatikdienste fuer Lehre und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  <a:ea typeface="ＭＳ Ｐゴシック"/>
              </a:rPr>
              <a:t>	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  <a:ea typeface="ＭＳ Ｐゴシック"/>
              </a:rPr>
              <a:t>Forschung,DC=slcs,DC=switch,DC=ch" 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rule permit { vo="atlas" 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       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rule permit { vo="cms" 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7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D0FCD-34FE-48D9-8EAC-11464E153C31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sting Argus Setup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1/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45600" y="84096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onfigure glExec on WN to call-out to Argu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653760" indent="-2512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https://twiki.cern.ch/twiki/bin/view/EGEE/AuthZPEPgLExecInstall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53760" indent="-2512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Example test on WN:</a:t>
            </a:r>
            <a:br>
              <a:rPr sz="2400"/>
            </a:br>
            <a:r>
              <a:rPr b="0" lang="en-US" sz="2400" spc="-1" strike="noStrike">
                <a:solidFill>
                  <a:srgbClr val="2b519a"/>
                </a:solidFill>
                <a:latin typeface="Arial"/>
              </a:rPr>
              <a:t># pilot job proxy</a:t>
            </a: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export X509_USER_PROXY=${X509_USER_PROXY:-"/tmp/x509up_`id -u`"} </a:t>
            </a: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# payload job proxy</a:t>
            </a: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export GLEXEC_CLIENT_CERT=${GLEXEC_CLIENT_CERT:-$X509_USER_PROXY} 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/opt/glite/sbin/glexec /usr/bin/id; echo $? 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uid=40205(testuseraccount) gid=2013(testusergroup) 0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1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92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4142E-E220-4DCC-983A-D4F013F65FB5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sting Argus Setup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2/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A simple standalone client is also available: pepcli</a:t>
            </a:r>
            <a:br>
              <a:rPr sz="2400"/>
            </a:b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Needs to be installed separately – tool for testing/debugging </a:t>
            </a:r>
            <a:r>
              <a:rPr b="1" i="1" lang="en-US" sz="1800" spc="-1" strike="noStrike" u="sng">
                <a:solidFill>
                  <a:srgbClr val="2b519a"/>
                </a:solidFill>
                <a:uFillTx/>
                <a:latin typeface="Arial"/>
              </a:rPr>
              <a:t>only</a:t>
            </a:r>
            <a:br>
              <a:rPr sz="1800"/>
            </a:b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https://twiki.cern.ch/twiki/bin/view/EGEE/AuthZPEPCCLI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Policy: </a:t>
            </a:r>
            <a:br>
              <a:rPr sz="2400"/>
            </a:br>
            <a:r>
              <a:rPr b="0" i="1" lang="en-US" sz="2000" spc="-1" strike="noStrike">
                <a:solidFill>
                  <a:srgbClr val="2b519a"/>
                </a:solidFill>
                <a:latin typeface="Arial"/>
              </a:rPr>
              <a:t>pap-admin ap --resource ".*" --action  ".*" permit vo="switch”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Test:</a:t>
            </a:r>
            <a:br>
              <a:rPr sz="2000"/>
            </a:br>
            <a:r>
              <a:rPr b="0" i="1" lang="en-US" sz="2000" spc="-1" strike="noStrike">
                <a:solidFill>
                  <a:srgbClr val="2b519a"/>
                </a:solidFill>
                <a:latin typeface="Arial"/>
              </a:rPr>
              <a:t>pepcli -p https://chaos.switch.ch:8154/authz -r my_res  -a my_action \</a:t>
            </a:r>
            <a:br>
              <a:rPr sz="2000"/>
            </a:br>
            <a:r>
              <a:rPr b="0" i="1" lang="en-US" sz="2000" spc="-1" strike="noStrike">
                <a:solidFill>
                  <a:srgbClr val="2b519a"/>
                </a:solidFill>
                <a:latin typeface="Arial"/>
              </a:rPr>
              <a:t> -c /tmp/x509up_u964  --cert .globus/usercert.pem \</a:t>
            </a:r>
            <a:br>
              <a:rPr sz="2000"/>
            </a:br>
            <a:r>
              <a:rPr b="0" i="1" lang="en-US" sz="2000" spc="-1" strike="noStrike">
                <a:solidFill>
                  <a:srgbClr val="2b519a"/>
                </a:solidFill>
                <a:latin typeface="Arial"/>
              </a:rPr>
              <a:t> --key .globus/userkey.pem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338f"/>
                </a:solidFill>
                <a:latin typeface="Arial"/>
              </a:rPr>
              <a:t>Resource: my_res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338f"/>
                </a:solidFill>
                <a:latin typeface="Arial"/>
              </a:rPr>
              <a:t>Decision: Permit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338f"/>
                </a:solidFill>
                <a:latin typeface="Arial"/>
              </a:rPr>
              <a:t>Obligation: http://glite.org/xacml/obligation/local-environment-map/posix (caller should resolve POSIX account mapping)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338f"/>
                </a:solidFill>
                <a:latin typeface="Arial"/>
              </a:rPr>
              <a:t>Username: dteam026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338f"/>
                </a:solidFill>
                <a:latin typeface="Arial"/>
              </a:rPr>
              <a:t>Group: dteam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5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96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44CA8-1BA8-450D-88EB-91EAFF41DA14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Argus updates the policies in regular intervals and caches results for performance reason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onsequence: </a:t>
            </a:r>
            <a:br>
              <a:rPr sz="2400"/>
            </a:b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when modifying policies you must execute the following two commands to make sure they are valid immediately:</a:t>
            </a:r>
            <a:br>
              <a:rPr sz="2400"/>
            </a:b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# policy is effective immediately</a:t>
            </a: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/etc/init.d/pdp reloadpolicy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8f"/>
                </a:solidFill>
                <a:latin typeface="Arial"/>
              </a:rPr>
              <a:t># clear cache</a:t>
            </a:r>
            <a:endParaRPr b="0" lang="en-US" sz="24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8f"/>
                </a:solidFill>
                <a:latin typeface="Arial"/>
              </a:rPr>
              <a:t>/etc/init.d/pepd clearcache</a:t>
            </a:r>
            <a:endParaRPr b="0" lang="en-US" sz="24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199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9BF51-2FBB-457E-8824-DE824D17BA83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ppo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Mailing list: argus-support@cern.ch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Argus support unit in GGU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8f"/>
                </a:solidFill>
                <a:latin typeface="Arial"/>
              </a:rPr>
              <a:t>Wiki: </a:t>
            </a:r>
            <a:r>
              <a:rPr b="1" lang="en-US" sz="24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https://twiki.cern.ch/twiki/bin/view/EGEE/AuthorizationFramework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04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57E69-A475-49A6-B32E-0D56E21082CD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06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820A3-3285-4373-B880-16C48A08CEB5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rther Inform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About Argus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authZ service design document: https://edms.cern.ch/document/944192/1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Deployment plan: https://edms.cern.ch/document/984088/1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General EGEE grid security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8f"/>
                </a:solidFill>
                <a:latin typeface="Arial"/>
              </a:rPr>
              <a:t>Authorization study: </a:t>
            </a: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https://edms.cern.ch/document/887174/1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8f"/>
                </a:solidFill>
                <a:latin typeface="Arial"/>
              </a:rPr>
              <a:t>gLite security: architecture: </a:t>
            </a: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https://edms.cern.ch/document/935451/2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10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EEEB-50DC-4574-AF52-C660082DBBE4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pendix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ppendix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otivation for Argus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14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0B425-0503-401E-81B6-53A740FDC54F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28320" y="66240"/>
            <a:ext cx="6859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tivation: </a:t>
            </a: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ich Problems Are We Trying to Solv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Different Services use different authorization mechanism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ome services even use internally more than one authorization framework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te administrators do not have simple debugging tools to check and understand their authorization configuration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te administrators must configure the authorization for each service at their site separately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Consequence 1: At a site, there is no single point to ban users/groups of users for the entire sit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Consequence 2: many site administrators don’t know how to ban user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There should be a command line tool for banning and un-banning users at a sit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18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CC000-18C8-4C81-A596-57E78C6943F3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tivation: </a:t>
            </a: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ich Problems Are We Trying to Solv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ere is no central grid-wide banning list to be used during incident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Consequence: Urgent ban cannot be taken for granted during incident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tes cannot publish their complete authorization policy to the outside world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Currently only assignment of FQANS (experience of DENY tags)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Note: Fixing this problem does not mean that sites MUST publish their authorization policy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No monitoring on authorization decision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22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ED848-5395-41C7-B1D1-D5DBECE6BBBA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tivation: </a:t>
            </a: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nefits of the Authorization Service (1/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Main benefit within EGEE-III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Addressing the above list of short-coming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In addition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Resistance to failure and simple means for scaling the servic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Flexible deployment model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No dependency on a shared file system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High availability option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Client component is very lightweight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Small amount of code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Few dependencies (especially on WN)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Portability: support on other OS and languages easy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604C6-B0B7-43AF-8ED4-5435B0DA51F0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Argus = gLite Authorization Servic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Developed in EGEE-III 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Passed staged rollout in April 2010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In EMI: Argus PT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Responsible for maintenance and support 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Institutions: CNAF, HIP, NIKHEF, SWITCH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Argus = Attribute-based Authorization service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Attributes = DN, CA, FQAN, ….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Internal engine that determines whether a request containing a set of attributes shall be authorized or not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Note abbreviation: authZ = authorization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26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D1BE4-0AC7-4DF3-BA17-7F9199885AC2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tivation:  </a:t>
            </a: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nefits of the Authorization Service (2/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In addition (cont.)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Enables/eases various authorization tasks: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Banning of users (VO, WMS, site, or grid wide)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Composition of policies – CERN policy + experiment policy + CE policy + OCST policy + NGI policy=&gt; Effective policy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Support for authorization based on more detailed information about the job, action, and execution environment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Support for authorization based on attributes other than FQAN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Support for multiple credential formats (not just X.509)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upport for multiple types of execution environment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Virtual machines, workspaces, …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Nagios plug-ins provided for monitoring of servic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pported Use-Cases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1/2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1a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glExec on WN (multi-user pilot job)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77349-CCBF-4FF6-B326-AD9CA1ECD61B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121" name="Picture 1030" descr="wn-use-case"/>
          <p:cNvPicPr/>
          <p:nvPr/>
        </p:nvPicPr>
        <p:blipFill>
          <a:blip r:embed="rId1"/>
          <a:stretch/>
        </p:blipFill>
        <p:spPr>
          <a:xfrm>
            <a:off x="1174680" y="1417680"/>
            <a:ext cx="6794640" cy="51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pported Use-Cases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2/2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01"/>
              </a:spcBef>
              <a:buClr>
                <a:srgbClr val="f1af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Global Banning lis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831240" indent="-44316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OSCT / EGI CSIRT operates a global banning list (for incidents)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831240" indent="-44316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Argus can be configured to import this global banning list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831240" indent="-44316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Note: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219680" indent="-44316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Global banning is by default disabled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219680" indent="-44316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Global banning (if activated) can be overruled by local admin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f1af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gridFTP (GSI call out)</a:t>
            </a:r>
            <a:br>
              <a:rPr sz="2400"/>
            </a:b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43160" indent="-443160">
              <a:spcBef>
                <a:spcPts val="349"/>
              </a:spcBef>
              <a:buClr>
                <a:srgbClr val="f1af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REAM </a:t>
            </a: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(see next slide)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lvl="1" marL="831240" indent="-44316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Integration Argus – CREAM currently in development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831240" indent="-44316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f1af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Other services are planned in EMI </a:t>
            </a:r>
            <a:r>
              <a:rPr b="1" lang="en-US" sz="2400" spc="-1" strike="noStrike">
                <a:solidFill>
                  <a:srgbClr val="2b519a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 single point for authorization decisions at a sit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831240" indent="-44316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124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330A3-E0C0-48FE-9813-2DD07584ACF4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15B5F-13E3-4820-98F5-B5274A31FB91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 the 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6" descr="service_components_ce"/>
          <p:cNvPicPr/>
          <p:nvPr/>
        </p:nvPicPr>
        <p:blipFill>
          <a:blip r:embed="rId1"/>
          <a:stretch/>
        </p:blipFill>
        <p:spPr>
          <a:xfrm>
            <a:off x="588960" y="888840"/>
            <a:ext cx="7738920" cy="56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E7580-2892-4F8F-9E44-E5AFD504F9E6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rvice Compon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45600" y="5216040"/>
            <a:ext cx="8589960" cy="11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Administration Point: Formulating the rules through command line interface and/or 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file-based input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Decision Point:           Evaluating a request from a client based on the rules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Enforcement Point:    Thin client part and server part: all complexity in server part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Runtime Execution Environment: Under which env. must I run? (UID, GID) 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399960" y="1749600"/>
            <a:ext cx="1317600" cy="841320"/>
          </a:xfrm>
          <a:prstGeom prst="rect">
            <a:avLst/>
          </a:prstGeom>
          <a:noFill/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Initial rules: 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Banning unbanning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Pilot job </a:t>
            </a: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135" name="Picture 8" descr="service_components"/>
          <p:cNvPicPr/>
          <p:nvPr/>
        </p:nvPicPr>
        <p:blipFill>
          <a:blip r:embed="rId1"/>
          <a:stretch/>
        </p:blipFill>
        <p:spPr>
          <a:xfrm>
            <a:off x="1832040" y="843120"/>
            <a:ext cx="4976640" cy="44146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5"/>
          <p:cNvSpPr/>
          <p:nvPr/>
        </p:nvSpPr>
        <p:spPr>
          <a:xfrm>
            <a:off x="6281640" y="4226040"/>
            <a:ext cx="2444760" cy="442800"/>
          </a:xfrm>
          <a:prstGeom prst="rect">
            <a:avLst/>
          </a:prstGeom>
          <a:noFill/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Initial default deployment: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All components on one host</a:t>
            </a: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Introduction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stallation and Configuration</a:t>
            </a:r>
            <a:endParaRPr b="1" lang="en-US" sz="32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Command line interfac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Summary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9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28D0F-9C2C-40E3-A703-B4928ABECF6E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stall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45600" y="83484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YAIM Installation: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Installation and configuration of Argus on one host (default configuration) using YAIM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Check out functionality using CLI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Add policie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Reconfigure glexec (resp. LCMAPS) on WN to call out to Argu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Enable global banning list (if desired)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Manual installation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Install three components (PAP, PDP, PEP daemon)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Configure component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062720" indent="-2124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Including administrator access configuration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Check out functionality  using CLI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Add policie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Reconfigure glexec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143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68D1F-7D6A-4B83-B55A-EAE7262787F2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1T12:54:21Z</dcterms:created>
  <dc:creator/>
  <dc:description/>
  <dc:language>en-US</dc:language>
  <cp:lastModifiedBy>Christoph Witzig</cp:lastModifiedBy>
  <cp:lastPrinted>2006-09-26T11:39:25Z</cp:lastPrinted>
  <dcterms:modified xsi:type="dcterms:W3CDTF">2010-06-02T08:45:55Z</dcterms:modified>
  <cp:revision>1293</cp:revision>
  <dc:subject/>
  <dc:title>Title</dc:title>
</cp:coreProperties>
</file>