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663-24CC-4156-870B-1499223A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BBD-B1E0-4E11-9E3E-9CCF3258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F7B-40BA-45C5-9DEF-EC1671A9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39B1-42F9-44D6-A735-5CECBAA8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919F-E24A-453A-B4A2-B62FAFB5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17C5-6910-4973-AA0D-6124D35B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6051-872F-49FA-A9AD-6F0D84D0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B05D-0839-4460-9FF4-43C14429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FEA0-3C64-452C-A726-4AFC49A9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55D0-C9DE-414C-8C30-4D979C3F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9185-33BD-4026-9C4D-F3F43B76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D31-34B6-4C25-8D43-81A21AF5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E16E-32A7-4597-8996-CA1E6C7A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6FBA-AD72-4A87-B36D-5F673085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E9C3-165C-4366-BD39-C91FADFF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9A21-338D-4DA7-8EF5-A8677F3D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3508-A249-4CCC-9DB4-FB193BC8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F605A-532C-4FEE-A29E-4D18D260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31F93-677A-43FB-968F-1746B98C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95396-44F4-4985-9699-7F58C6FF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C34E7-5F1F-4032-897C-922448A4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0BD7F-29A5-4FEB-AD9F-4E95E36E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F29-8F7E-4F5C-9622-FB784018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AEE47-E007-4F8E-A31F-EA749E21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0D0C6-BB10-45BE-B0EC-52C8581F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3404D-952B-49B4-9AA3-6DF05C51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350D-C75F-4CA7-B9C6-32125706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0C9C9-5C66-4B6B-BF96-EBF6B72F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B7DD-7F2F-4F3D-B5B8-EA756ACA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DD50A-4597-49CF-B83B-5B7BF820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F286-0FCA-460B-B00E-49B722C8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EAE-BC7F-46F3-98A6-CA570D4F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603A-1E85-4F44-82A4-8CD0CB55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64C-F23D-4AA0-A9B8-CCE32267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D10A-DC0D-48B8-A526-B1620F14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0C0-6007-497B-82CA-BDE12797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6013-1F1B-48FC-A488-30A327FED61F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0" y="0"/>
            <a:ext cx="1049400" cy="6858000"/>
          </a:xfrm>
          <a:prstGeom prst="rect">
            <a:avLst/>
          </a:prstGeom>
          <a:solidFill>
            <a:srgbClr val="0109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8B80-1B50-44A6-B795-22F4E43A55B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0743-5994-4DC6-8FA8-78A6B29191E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twiki.cern.ch/twiki/bin/view/EGEE/AuthorizationFramework" TargetMode="External"/><Relationship Id="rId2" Type="http://schemas.openxmlformats.org/officeDocument/2006/relationships/hyperlink" Target="https://twiki.cern.ch/twiki/bin/view/EMI/ArgusSRC" TargetMode="External"/><Relationship Id="rId3" Type="http://schemas.openxmlformats.org/officeDocument/2006/relationships/hyperlink" Target="https://twiki.cern.ch/twiki/bin/view/EGEE/AuthZPAPCLI" TargetMode="External"/><Relationship Id="rId4" Type="http://schemas.openxmlformats.org/officeDocument/2006/relationships/hyperlink" Target="https://twiki.cern.ch/twiki/bin/view/EGEE/SimplifiedPolicyLanguage" TargetMode="External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EMI-Euro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253f"/>
                </a:solidFill>
                <a:latin typeface="Arial"/>
              </a:rPr>
              <a:t>Argus</a:t>
            </a:r>
            <a:br>
              <a:rPr sz="4400"/>
            </a:br>
            <a:r>
              <a:rPr b="1" lang="en-GB" sz="3600" spc="-1" strike="noStrike">
                <a:solidFill>
                  <a:srgbClr val="10253f"/>
                </a:solidFill>
                <a:latin typeface="Arial"/>
              </a:rPr>
              <a:t>The EMI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4462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Argus Product Team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pic>
        <p:nvPicPr>
          <p:cNvPr id="140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3022560" y="1106640"/>
            <a:ext cx="30988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947880" y="824040"/>
            <a:ext cx="79516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Open ports (firewall): 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: 8150 (pap-admin, policies distributio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: 8154 (PEP client connections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g and audit file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var/log/argus/(pap|pdp|pepd)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nit script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ap {start|stop|status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dp {start|stop|status|reloadpolicy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epd {start|stop|status|clearcache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  <a:ea typeface="Courier New"/>
              </a:rPr>
              <a:t>Nagios plugins available to monitor the servi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Service Operat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C4FE-0268-4122-BD0E-D4931280449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204560" y="824040"/>
            <a:ext cx="7767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is designed to answer the question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Is user X banned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decis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authorize users to perform an action on a resour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DENY decis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ban user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oth can be expressed with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DFDB-AB2D-4491-8641-2F6976E2E64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XACML policies !?!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427F-DC01-4E63-B7D1-8502C51B9A0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tent Placeholder 1"/>
          <p:cNvSpPr/>
          <p:nvPr/>
        </p:nvSpPr>
        <p:spPr>
          <a:xfrm>
            <a:off x="933480" y="1555920"/>
            <a:ext cx="78138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Set xmlns:xacml="urn:oasis:names:tc:xacml:2.0:policy:schema:os”PolicyCombiningAlgId="urn:oasis:names:tc:xacml:1.0:policy-combining-algorithm:first-applicable" PolicySetId="9784d9ce-16a9-41b9-9d26-b81a97f93616" Version="1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Match MatchId="urn:oasis:names:tc:xacml:1.0:function:string-regexp-match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AttributeDesignator AttributeId="urn:oasis:names:tc:xacml:1.0:resource:resource-id" DataType="http://www.w3.org/2001/XMLSchema#string" MustBePresent="fals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Matc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IdReference&gt;public_2d8346b8-5cd2-44ad-9ad1-0eff5d8a6ef1&lt;/xacml:PolicyIdRefere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PolicyS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 xmlns:xacml="urn:oasis:names:tc:xacml:2.0:policy:schema:os” PolicyId="public_2d8346b8-5cd2-44ad-9ad1-0eff5d8a6ef1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CombiningAlgId="urn:oasis:names:tc:xacml:1.0:rule-combining-algorithm:first-applicable" Version="1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Match MatchId="urn:oasis:names:tc:xacml:1.0:function:string-regexp-match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AttributeDesignator AttributeId="urn:oasis:names:tc:xacml:1.0:action:action-id" DataType="http://www.w3.org/2001/XMLSchema#string" MustBePresent="fals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Matc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ule Effect="Deny" RuleId="43c15124-6635-47ee-b13c-53f672d0de77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roblem?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not easy to read and/or understand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not easy to write, prone to error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ide the XACML language complexity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roduce a Simplified Policy Language (SPL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 administrators with simple tool to manage the polici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to create, edit, delete permit/deny policy rule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BA17-1204-45E6-806E-E7D7D890F5C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an a particular user by D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.*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.*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/C=CH/O=SWITCH/CN=Valery Tschopp" 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ATLAS users (FQAN) to execute a job on a worker node (WN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http://grid.switch.ch/wn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http://glite.org/xacml/action/execute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fqan="/atlas" 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implified Policy Languag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648D-BD4B-4B3A-96A9-1E3524FE437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dministrator’s tool to manage the PAP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olicies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server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authorization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way to ban user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way to create, edit and dele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8A89-DF8A-4BC1-A9F5-858F2617E94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25320" y="824040"/>
            <a:ext cx="82915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rea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rmit a user by distinguished name (D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add-policy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resource “http://grid.switch.ch/wn”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action “http://glite.org/xacml/action/execute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permit subject="CN=Valery Tschopp,O=SWITCH,C=ch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rmit users by primary FQA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ap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resource “http://grid.switch.ch/wn”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action “http://glite.org/xacml/action/execute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permit pfqan=”/atlas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an a user for any action and resour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ban subject "CN=John Doe,O=ACME,C=org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4220-2C5B-4156-BF62-55F45E5E48F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25320" y="824040"/>
            <a:ext cx="82915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isting existing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lp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Enter the passphrase for the private key /home/tschopp/.globus/userkey.pem:  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default (local):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.*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.*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subject="CN=John Doe,O=ACME,C=org”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http://grid.switch.ch/atlas-cluster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obligation "http://glite.org/xacml/obligation/local-environment-map" {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http://glite.org/xacml/action/execute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pfqan="/atlas"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CN=Valery Tschopp,O=SWITCH,C=ch”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79F6-7FB8-4EEA-95A5-A665A32A438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yload is downloaded on the W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Exec runs it under the end-user identit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s Authoriz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5E85-E788-41B4-8C76-721DAA3C9B3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PilotJobAuthZ.png"/>
          <p:cNvPicPr/>
          <p:nvPr/>
        </p:nvPicPr>
        <p:blipFill>
          <a:blip r:embed="rId1"/>
          <a:stretch/>
        </p:blipFill>
        <p:spPr>
          <a:xfrm>
            <a:off x="1469880" y="2290680"/>
            <a:ext cx="67374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736560" y="824040"/>
            <a:ext cx="819000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 Polic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http://grid.switch.ch/wn" {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obligation "http://glite.org/xacml/obligation/local-environment-map" { 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http://glite.org/xacml/action/execute" {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pfqan="/atlas/Role=pilot"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fqan=”/atlas/analysis”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 Authorization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BA2D-84F7-463F-9C55-97A3ED07131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uthorization Servic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rvice Deployme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ified Policy Languag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-admin Too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s Authoriz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 EMI-1 Releas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2" name="Date Placeholder 2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A5B8-2310-4C1B-84BB-54EEA1C4B65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204560" y="824040"/>
            <a:ext cx="77216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ompatible with gLite 3.2 Argus PEP client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upport for LFC/DPM banning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ug fix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Will be released for EMI-1 (end April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s it a problem for gLite 3.2 site ?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stall the Argus 1.3 EMI-1 service (standalone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Keep the existing gLite 3.2 application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1.3 EMI-1 Releas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511C-0582-4D04-B201-6F3EE04D5FD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te specific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xperiment specific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sistent authorization decisions across the whole middleware stack (CE, WN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s authorization and mapping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tool to manage authoriz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DC3B-D017-42AD-BE7C-728E2D0DEB6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5" name="Date Placeholder 6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General documentation </a:t>
            </a:r>
            <a:br>
              <a:rPr sz="28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twiki.cern.ch/twiki/bin/view/EGEE/AuthorizationFramework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ervice Reference Card </a:t>
            </a:r>
            <a:br>
              <a:rPr sz="28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twiki.cern.ch/twiki/bin/view/EMI/ArgusSRC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admin CLI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twiki.cern.ch/twiki/bin/view/EGEE/AuthZPAPCLI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implified Policy Languag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twiki.cern.ch/twiki/bin/view/EGEE/SimplifiedPolicyLanguage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Document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5B10-21B3-41A1-AFFF-8E9CEDCD270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GUS Tickets (ARGUS Support Unit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https://gus.fzk.d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upport mailing list (e-group)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uppor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5DB3-79CB-45EE-8AC4-7E222CD066D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55400" y="4188960"/>
            <a:ext cx="734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8FFD-7B01-4B4F-8E19-4F3CA29EB2F4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5"/>
          <p:cNvSpPr/>
          <p:nvPr/>
        </p:nvSpPr>
        <p:spPr>
          <a:xfrm>
            <a:off x="231948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le 13"/>
          <p:cNvSpPr/>
          <p:nvPr/>
        </p:nvSpPr>
        <p:spPr>
          <a:xfrm>
            <a:off x="979560" y="5002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EMI is partially funded by the European Commission under Grant Agreement INFSO-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C:\Dokumente und Einstellungen\nl\Eigene Dateien\Aufträge 2009-JSC\EMI-PPT-Template\EMI_Logo_newest.png"/>
          <p:cNvPicPr/>
          <p:nvPr/>
        </p:nvPicPr>
        <p:blipFill>
          <a:blip r:embed="rId1"/>
          <a:stretch/>
        </p:blipFill>
        <p:spPr>
          <a:xfrm>
            <a:off x="1006560" y="785880"/>
            <a:ext cx="7572240" cy="3179520"/>
          </a:xfrm>
          <a:prstGeom prst="rect">
            <a:avLst/>
          </a:prstGeom>
          <a:ln w="0">
            <a:noFill/>
          </a:ln>
        </p:spPr>
      </p:pic>
      <p:sp>
        <p:nvSpPr>
          <p:cNvPr id="261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64720" y="824040"/>
            <a:ext cx="7821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Renders consistent authorization decisions based on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Ban user by DN, FQAN, issuing CA, … !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7F52-07FA-4198-9064-7355218302F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Content Placeholder 6" descr="ARGUS_Components-EMI.png"/>
          <p:cNvPicPr/>
          <p:nvPr/>
        </p:nvPicPr>
        <p:blipFill>
          <a:blip r:embed="rId1"/>
          <a:srcRect l="0" t="-42712" r="0" b="-42712"/>
          <a:stretch/>
        </p:blipFill>
        <p:spPr>
          <a:xfrm>
            <a:off x="865080" y="1670040"/>
            <a:ext cx="852012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AP: Policy Administra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site administrators with the tools for authoring policies (pap-admi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es and manages authored XACML policies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managed authorization policies to other authorization service components (other PAPs or PD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C504-B33A-4A71-9A41-51BC202229E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DP: Policy Decis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olicy evaluation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ceives authorization requests from the PE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valuates the authorization requests against the XACML policies retrieved from the PA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nders the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8642-F570-4F50-835C-3BC5CE918B7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EP: Policy Execu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lient/Server architectu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Lightweight PEP client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 receives the authorization requests from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additional filters to the requests (PI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sks the PDP to render an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the obligation handler (OH) to determine the user mapping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B399-FB41-49E0-8A12-5C2B2389937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746280" y="824040"/>
            <a:ext cx="82454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s a service to manage consistent authorization policy based deci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507D-DE3B-4497-953B-9E85EC5E044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658880" y="2023920"/>
            <a:ext cx="648504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ierarchical distribution of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D992-07BE-4CFC-947E-61D43BCAC2A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Content Placeholder 6" descr="Argus-EMI_Deployment.png"/>
          <p:cNvPicPr/>
          <p:nvPr/>
        </p:nvPicPr>
        <p:blipFill>
          <a:blip r:embed="rId1"/>
          <a:srcRect l="0" t="-3086" r="0" b="-3086"/>
          <a:stretch/>
        </p:blipFill>
        <p:spPr>
          <a:xfrm>
            <a:off x="1908000" y="1650960"/>
            <a:ext cx="631044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(EGI, NGI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cal si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xperiment specific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4C74-36DA-4477-83B0-5F1791BAA9E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7:49:34Z</dcterms:created>
  <dc:creator>Valery Tschopp</dc:creator>
  <dc:description/>
  <dc:language>en-US</dc:language>
  <cp:lastModifiedBy>Valery Tschopp</cp:lastModifiedBy>
  <dcterms:modified xsi:type="dcterms:W3CDTF">2011-04-12T08:28:33Z</dcterms:modified>
  <cp:revision>144</cp:revision>
  <dc:subject/>
  <dc:title>Argus The EMI Authorization Service</dc:title>
</cp:coreProperties>
</file>