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1C23-2269-443D-B9B7-447A1BE703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38F0-CAAC-493C-A52F-76D752F1AFA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D0A5-85A4-432A-B791-B0E4CB43165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79B2-AF02-4635-8B35-4DC51620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D033-9BDC-40B1-8316-3F27E2EF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117E-05BC-4608-908D-E30378F83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11F5-325C-44FC-8304-13601B8C1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25A6-108E-4A4B-BDBC-3842FE95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0C67-D2D7-4C7B-92E0-6F317C9B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872B-E3C4-4CF1-AB2B-CD22B43F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8F93-E97F-464F-A1DF-E94FE429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1F81-6399-4E52-9CD1-5DD0F243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25C8-A3C8-4D23-9D54-EA639EF5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5845-2727-476E-B03F-0882EF8B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2DD2-FCC5-4F4D-88B4-F2AAD1FC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000B-0867-42E4-AE11-2F9CEFA5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00D0-4D35-4B8A-9A07-9DB7E5E9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3410-130F-4A3D-A7C8-6D3CE0AD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7960-ABE3-4D66-A385-F6700641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6783-E4B5-4DF8-AF40-1D571B65C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109A-2634-40A4-870A-E09E8A47E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2EA41-497B-4903-B36A-F101B330E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9EE29-8F53-4827-A990-709687C0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D64F6-C386-4B3C-B14B-688484C0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CB26-AF4F-4658-B54F-F5EC3938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29292-6181-4F5A-8766-D0F1E601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8D307-EDD8-4337-8114-D8F8E652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6888A-ABA8-4974-9FD8-1CE67E8C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FD124-D322-4E97-A2D6-332E7883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C88DE-6387-4615-AD51-51AB1247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5617C-C284-4BE0-9646-E14E1243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5B43D-82B1-47CD-BFE7-3DE4F15D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4DB2A-5555-4362-8E75-FA964D606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10DA5-E03F-49A9-B712-2D5A667A1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AB1C2-BFB0-4605-9254-7BDE31666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AEF9-0EFF-4B0F-9E61-DB03EFD0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4976F-8508-4678-93E5-3FB23F5B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8DFFF-1A5A-46C7-8B6E-21BDA2B6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4EFDA-2B0A-475F-AEB1-B42667CC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95091-D350-4AB0-99DD-D9892ECA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649B9-A6ED-4E0B-86BC-7ED9FA26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093FB-07C5-4F08-9CDE-4B500BC7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59EF8-E59E-4659-B8E1-6E7BDCEA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18F39-5127-4AF3-919C-FF2415FD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3B99E-AE9F-4487-A1C7-5A7B73A4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E3538-3BC3-4AF0-BF97-A580C8FF4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E7AA-30B0-4DA2-B880-10F7F3DC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E86D7-5236-4432-A49E-6A2AF45D5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0DD3-65D4-47FA-9E28-F9743D85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29DD-4562-4D4C-8C88-8A4F5392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E3BD-D884-431F-BD9F-646F1A93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496200"/>
            <a:ext cx="110484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Times New Roman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571760" y="6481800"/>
            <a:ext cx="6619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191440" y="647964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71F9-205C-475B-9BAC-F1D5BA2519A9}" type="slidenum">
              <a:rPr b="0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C:\Dokumente und Einstellungen\nl\Eigene Dateien\Aufträge 2009-JSC\EMI-PPT-Template\hintergrund.jpg"/>
          <p:cNvPicPr/>
          <p:nvPr/>
        </p:nvPicPr>
        <p:blipFill>
          <a:blip r:embed="rId2"/>
          <a:stretch/>
        </p:blipFill>
        <p:spPr>
          <a:xfrm>
            <a:off x="0" y="-19080"/>
            <a:ext cx="9163080" cy="687708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6"/>
          <p:cNvSpPr/>
          <p:nvPr/>
        </p:nvSpPr>
        <p:spPr>
          <a:xfrm>
            <a:off x="571680" y="407880"/>
            <a:ext cx="8001000" cy="6021360"/>
          </a:xfrm>
          <a:prstGeom prst="rect">
            <a:avLst/>
          </a:prstGeom>
          <a:solidFill>
            <a:srgbClr val="ffffff">
              <a:alpha val="7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6" descr="C:\Dokumente und Einstellungen\nl\Eigene Dateien\Aufträge 2009-JSC\EMI-PPT-Template\EMI_Logo_newest.png"/>
          <p:cNvPicPr/>
          <p:nvPr/>
        </p:nvPicPr>
        <p:blipFill>
          <a:blip r:embed="rId3"/>
          <a:stretch/>
        </p:blipFill>
        <p:spPr>
          <a:xfrm>
            <a:off x="2703600" y="700200"/>
            <a:ext cx="3843360" cy="16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0" y="0"/>
            <a:ext cx="67644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10"/>
          <p:cNvSpPr/>
          <p:nvPr/>
        </p:nvSpPr>
        <p:spPr>
          <a:xfrm rot="10800000">
            <a:off x="75960" y="439272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C:\Dokumente und Einstellungen\nl\Eigene Dateien\Aufträge 2009-JSC\EMI-PPT-Template\EMI_Logo_newest.png"/>
          <p:cNvPicPr/>
          <p:nvPr/>
        </p:nvPicPr>
        <p:blipFill>
          <a:blip r:embed="rId3"/>
          <a:stretch/>
        </p:blipFill>
        <p:spPr>
          <a:xfrm>
            <a:off x="7229520" y="49320"/>
            <a:ext cx="1914480" cy="8031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4"/>
          </p:nvPr>
        </p:nvSpPr>
        <p:spPr>
          <a:xfrm>
            <a:off x="723600" y="6468840"/>
            <a:ext cx="1104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Times New Roman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5"/>
          </p:nvPr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6"/>
          </p:nvPr>
        </p:nvSpPr>
        <p:spPr>
          <a:xfrm>
            <a:off x="8191440" y="6486120"/>
            <a:ext cx="495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07B1-7726-488F-99A3-17257605CA66}" type="slidenum">
              <a:rPr b="0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Dokumente und Einstellungen\nl\Eigene Dateien\Aufträge 2009-JSC\EMI-PPT-Template\streifen_50.png"/>
          <p:cNvPicPr/>
          <p:nvPr/>
        </p:nvPicPr>
        <p:blipFill>
          <a:blip r:embed="rId2"/>
          <a:stretch/>
        </p:blipFill>
        <p:spPr>
          <a:xfrm>
            <a:off x="0" y="0"/>
            <a:ext cx="67644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0"/>
          <p:cNvSpPr/>
          <p:nvPr/>
        </p:nvSpPr>
        <p:spPr>
          <a:xfrm rot="10800000">
            <a:off x="75960" y="439272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C:\Dokumente und Einstellungen\nl\Eigene Dateien\Aufträge 2009-JSC\EMI-PPT-Template\EMI_Logo_newest.png"/>
          <p:cNvPicPr/>
          <p:nvPr/>
        </p:nvPicPr>
        <p:blipFill>
          <a:blip r:embed="rId3"/>
          <a:stretch/>
        </p:blipFill>
        <p:spPr>
          <a:xfrm>
            <a:off x="7229520" y="49320"/>
            <a:ext cx="1914480" cy="8031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dt" idx="7"/>
          </p:nvPr>
        </p:nvSpPr>
        <p:spPr>
          <a:xfrm>
            <a:off x="723600" y="6468840"/>
            <a:ext cx="1104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Times New Roman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8"/>
          </p:nvPr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9"/>
          </p:nvPr>
        </p:nvSpPr>
        <p:spPr>
          <a:xfrm>
            <a:off x="8191440" y="6486120"/>
            <a:ext cx="495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3EB1-66F0-4242-801B-BDD1EE381821}" type="slidenum">
              <a:rPr b="0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tle 13"/>
          <p:cNvSpPr/>
          <p:nvPr/>
        </p:nvSpPr>
        <p:spPr>
          <a:xfrm>
            <a:off x="506520" y="4848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Calibri"/>
              </a:rPr>
              <a:t>EMI is partially funded by the European Commission under Grant Agreement RI-2616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C:\Dokumente und Einstellungen\nl\Eigene Dateien\Aufträge 2009-JSC\EMI-PPT-Template\EMI_Logo_newest.png"/>
          <p:cNvPicPr/>
          <p:nvPr/>
        </p:nvPicPr>
        <p:blipFill>
          <a:blip r:embed="rId2"/>
          <a:stretch/>
        </p:blipFill>
        <p:spPr>
          <a:xfrm>
            <a:off x="1527120" y="1216080"/>
            <a:ext cx="6094440" cy="25588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dt" idx="10"/>
          </p:nvPr>
        </p:nvSpPr>
        <p:spPr>
          <a:xfrm>
            <a:off x="723600" y="6468840"/>
            <a:ext cx="1104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Times New Roman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11"/>
          </p:nvPr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2"/>
          </p:nvPr>
        </p:nvSpPr>
        <p:spPr>
          <a:xfrm>
            <a:off x="8191440" y="6486120"/>
            <a:ext cx="495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0B9A-4FDD-450F-A3A8-82BBA4F027CB}" type="slidenum">
              <a:rPr b="0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4694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946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4694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946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4694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194694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194694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65280" y="27129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94694"/>
                </a:solidFill>
                <a:latin typeface="Arial"/>
                <a:ea typeface="Arial"/>
              </a:rPr>
              <a:t>Argus Authorization Service</a:t>
            </a:r>
            <a:br>
              <a:rPr sz="4400"/>
            </a:br>
            <a:r>
              <a:rPr b="0" i="1" lang="en-GB" sz="4400" spc="-1" strike="noStrike">
                <a:solidFill>
                  <a:srgbClr val="194694"/>
                </a:solidFill>
                <a:latin typeface="Arial"/>
                <a:ea typeface="Arial"/>
              </a:rPr>
              <a:t>Security Trai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240" y="4462560"/>
            <a:ext cx="642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94694"/>
                </a:solidFill>
                <a:latin typeface="Calibri"/>
              </a:rPr>
              <a:t>Valery Tschopp (SWITCH)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94694"/>
                </a:solidFill>
                <a:latin typeface="Calibri"/>
              </a:rPr>
              <a:t>Argus PT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933120" y="1074240"/>
            <a:ext cx="748044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Documentation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ttps://twiki.cern.ch/twiki/bin/view/EGEE/AuthorizationFramework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mplified Policy Language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ttps://twiki.cern.ch/twiki/bin/view/EGEE/SimplifiedPolicyLanguage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AP admin CLI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ttps://twiki.cern.ch/twiki/bin/view/EGEE/AuthZPAPCLI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ntact: </a:t>
            </a: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argus-support@cern.ch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59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FED7-DE72-4540-8DCE-8EB3F0AECF3F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Documentations &amp; Conta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4152600"/>
            <a:ext cx="91440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145A-AAF5-4C8B-B7BC-90BCECB80C0F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EB00-0602-463E-A4FE-63C9DA9F8CC8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Argus Authorization Serv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915840" y="795240"/>
            <a:ext cx="787428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ers authorization decisions based on XACML polic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user X perform action Y on resource Z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n user by DN, FQAN, issuing CA, …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0" descr="ArgusAuthorizationService.png"/>
          <p:cNvPicPr/>
          <p:nvPr/>
        </p:nvPicPr>
        <p:blipFill>
          <a:blip r:embed="rId1"/>
          <a:stretch/>
        </p:blipFill>
        <p:spPr>
          <a:xfrm>
            <a:off x="1954080" y="2065320"/>
            <a:ext cx="5457960" cy="2952720"/>
          </a:xfrm>
          <a:prstGeom prst="rect">
            <a:avLst/>
          </a:prstGeom>
          <a:ln w="0">
            <a:noFill/>
          </a:ln>
        </p:spPr>
      </p:pic>
      <p:sp>
        <p:nvSpPr>
          <p:cNvPr id="220" name="TextBox 11"/>
          <p:cNvSpPr/>
          <p:nvPr/>
        </p:nvSpPr>
        <p:spPr>
          <a:xfrm>
            <a:off x="1104840" y="55436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2"/>
          <p:cNvSpPr/>
          <p:nvPr/>
        </p:nvSpPr>
        <p:spPr>
          <a:xfrm>
            <a:off x="828720" y="5057640"/>
            <a:ext cx="8183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manages and publishes the authorization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evaluates the authorization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esolves the user execution environment e.g. UID, GID, pool account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P daem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rocesses the PEP thin client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Content Placeholder 6" descr="ArgusIntegration.png"/>
          <p:cNvPicPr/>
          <p:nvPr/>
        </p:nvPicPr>
        <p:blipFill>
          <a:blip r:embed="rId1"/>
          <a:srcRect l="0" t="-6279" r="0" b="-6279"/>
          <a:stretch/>
        </p:blipFill>
        <p:spPr>
          <a:xfrm>
            <a:off x="1198440" y="1317600"/>
            <a:ext cx="7480440" cy="5381640"/>
          </a:xfrm>
          <a:prstGeom prst="rect">
            <a:avLst/>
          </a:prstGeom>
          <a:ln w="0">
            <a:noFill/>
          </a:ln>
        </p:spPr>
      </p:pic>
      <p:sp>
        <p:nvSpPr>
          <p:cNvPr id="223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8037-3776-4712-8FD4-1F335F8E2623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Argus Deploy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Content Placeholder 4"/>
          <p:cNvSpPr/>
          <p:nvPr/>
        </p:nvSpPr>
        <p:spPr>
          <a:xfrm>
            <a:off x="920880" y="758880"/>
            <a:ext cx="80308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rgus as a site service to manage consistent authorization policy based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933120" y="1074240"/>
            <a:ext cx="821052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Open ports (firewall): 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AP: 8150 (pap-admin, policies publishing)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P daemon: 8154 (PEP client connections)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Log and audit files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opt/argus/(pap|pdp|pepd)/logs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Init scripts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pap-standalone {start|stop|status}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pdp {start|stop|status|reloadpolicy}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pepd {start|stop|status|clearcache}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  <a:ea typeface="Courier New"/>
              </a:rPr>
              <a:t>Nagios plugins available to monitor the PAP, PDP and PEP daemon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29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66B6-E046-4343-876F-27EF59653DD6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Argus Oper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933120" y="1074240"/>
            <a:ext cx="748044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is designed to answer the question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0920"/>
                </a:solidFill>
                <a:latin typeface="Calibri"/>
              </a:rPr>
              <a:t>Can user X perform action Y on resource Z?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ermit Decisions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llow to authorize users to perform an action on a resource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Deny Decisions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llow to ban users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Both can be express with XACML policies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34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F789-F0FD-4A7B-A70B-581905F9A554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Authorization Decis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33120" y="1074240"/>
            <a:ext cx="781380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Set xmlns:xacml="urn:oasis:names:tc:xacml:2.0:policy:schema:os" PolicyCombiningAlgId="urn:oasis:names:tc:xacml:1.0:policy-combining-algorithm:first-applicable" PolicySetId="9784d9ce-16a9-41b9-9d26-b81a97f93616" Version="1"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Target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s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Match MatchId="urn:oasis:names:tc:xacml:1.0:function:string-regexp-match"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ttributeValue DataType="http://www.w3.org/2001/XMLSchema#string"&gt;.*&lt;/xacml:AttributeValue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AttributeDesignator AttributeId="urn:oasis:names:tc:xacml:1.0:resource:resource-id" DataType="http://www.w3.org/2001/XMLSchema#string" MustBePresent="false"/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Match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s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Target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IdReference&gt;public_2d8346b8-5cd2-44ad-9ad1-0eff5d8a6ef1&lt;/xacml:PolicyIdReference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PolicySet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 xmlns:xacml="urn:oasis:names:tc:xacml:2.0:policy:schema:os" PolicyId="public_2d8346b8-5cd2-44ad-9ad1-0eff5d8a6ef1" RuleCombiningAlgId="urn:oasis:names:tc:xacml:1.0:rule-combining-algorithm:first-applicable" Version="1"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Target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s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Match MatchId="urn:oasis:names:tc:xacml:1.0:function:string-regexp-match"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ttributeValue DataType="http://www.w3.org/2001/XMLSchema#string"&gt;.*&lt;/xacml:AttributeValue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AttributeDesignator AttributeId="urn:oasis:names:tc:xacml:1.0:action:action-id" DataType="http://www.w3.org/2001/XMLSchema#string" MustBePresent="false"/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Match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s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Target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ule Effect="Deny" RuleId="43c15124-6635-47ee-b13c-53f672d0de77"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...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39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81CF-8303-43C0-87D4-0F1EDF314F09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XACML Poli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933120" y="1074240"/>
            <a:ext cx="748044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roblem?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Not easy to understand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Not easy to read or write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olution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ide the XACML language complexity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ntroduce a Simplified Policy Language (SPL)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 tools to manage the policies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</a:t>
            </a: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to create, edit, delete permit/deny policy rules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44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C774-6112-4EA3-8263-49A776316516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XACML Policy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933120" y="1074240"/>
            <a:ext cx="748044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ermit Atlas users (FQAN) to execute a job on a worker node (WN)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"http://grid.switch.ch/wn" {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"http://glite.org/xacml/action/execute" {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fqan="/atlas" 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Ban a particular user by DN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".*" {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".*" {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deny { 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subject="/C=CH/O=SWITCH/CN=Valery Tschopp" 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49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7162-7DE2-4E4C-9B38-94C78B67CFF1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Simplified Policy Language (SPL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933480" y="839520"/>
            <a:ext cx="804528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List active policies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list-policies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Import policies, in SPL format, from a file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add-policies-from-file      my-policies.spl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asily ban/un-ban VOs, users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ban vo testVO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un-ban vo testVO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  <a:ea typeface="Courier New"/>
              </a:rPr>
              <a:t>Add a generic policy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add-policy --resource "ce_1" --action ".*" permit </a:t>
            </a:r>
            <a:br>
              <a:rPr sz="2400"/>
            </a:b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fqan="/testVO/Role=pilot"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54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B585-68A9-4F0C-B701-6E72AE48F870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pap-admin Command Line Too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1:02:51Z</dcterms:created>
  <dc:creator>Valery Tschopp</dc:creator>
  <dc:description/>
  <dc:language>en-US</dc:language>
  <cp:lastModifiedBy>Valery Tschopp</cp:lastModifiedBy>
  <dcterms:modified xsi:type="dcterms:W3CDTF">2010-09-16T11:56:39Z</dcterms:modified>
  <cp:revision>48</cp:revision>
  <dc:subject/>
  <dc:title>Argus Authorization Service Security Training</dc:title>
</cp:coreProperties>
</file>