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C5A-1272-40CB-BB0B-C2CA836F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730-C551-42D6-B05E-F66C961A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CB1-091B-4B7D-85B9-434965EE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D4B-E4B9-4043-84D3-08B1481D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6D66-CE90-4660-AE3D-9F23DB38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4CEE-C48C-4685-8177-F5BEAD3A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FBD4-16B6-49C7-8346-F7D31619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E160-6E47-4C9D-93CE-24D973B8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29E8-E2B8-469A-AB4C-1048021D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AB41-9B61-4E69-A119-9959A3FE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241F-2DFF-41A9-938D-2ED93370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272-F38C-4BFE-82D8-1611DDA7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39C3-D9C6-4933-8396-8163471D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6ECE-E221-4089-B98D-DDDA4088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C474-8C26-4539-AD96-BE05E17E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8026-B89C-46FE-A6B0-009451B9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2F63-4AB4-4D82-A28B-6BF2208E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CFA5-A299-4DF3-9E98-A0318D83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AF96-EFC0-4B3E-B3FF-59090E35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01A28-4EE3-4C9E-BE1E-6F509E1F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0EBB-0797-4EA8-8C7C-94B88CD7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7309-D9E2-447C-A94C-ED0C153E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8B3-26B6-4B61-996C-0AD7CDFB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50D55-E86E-42E2-BCC6-7D9885BE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D8F9-9FE7-4A5D-AA80-9B5EA1D5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AF5C-C68E-4FC8-97F7-D9A79373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98BB-00CF-4AB0-8AA6-46890633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0577-AEA7-43EE-8619-C8FB67BD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4DF2-061E-4AC4-B993-3AD8DCCC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7C9A1-3F6D-4DF1-B21B-0EEBADF3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040-50C1-4334-B3B2-521229A6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B0C-8CDD-49DA-A09B-FFC2CF6E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1F9-6249-4BB1-A977-C1E9519B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694-72D3-4E87-ADA8-4E306E5D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A6D-04B8-4CC9-85E9-A1CA019F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8A7-4281-49E8-A4EC-A83CF9FC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66C1-F783-4DC4-80B2-A8B11462B103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0D0C-8F1C-4A12-B8AC-BAFA1292667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C4C8-80AD-4E41-880B-78F2F0951D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4000" spc="-1" strike="noStrike">
                <a:solidFill>
                  <a:srgbClr val="10253f"/>
                </a:solidFill>
                <a:latin typeface="Arial"/>
              </a:rPr>
              <a:t>EMI Authorization Integration</a:t>
            </a:r>
            <a:endParaRPr b="1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84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29FC-918B-4556-AE4F-6DEB86396B2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0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DF1D-409B-4231-8563-10C649EE80D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Argus-EMI_Deployment.png"/>
          <p:cNvPicPr/>
          <p:nvPr/>
        </p:nvPicPr>
        <p:blipFill>
          <a:blip r:embed="rId1"/>
          <a:stretch/>
        </p:blipFill>
        <p:spPr>
          <a:xfrm>
            <a:off x="1816200" y="1562040"/>
            <a:ext cx="6468840" cy="4383000"/>
          </a:xfrm>
          <a:prstGeom prst="rect">
            <a:avLst/>
          </a:prstGeom>
          <a:ln w="0">
            <a:noFill/>
          </a:ln>
        </p:spPr>
      </p:pic>
      <p:sp>
        <p:nvSpPr>
          <p:cNvPr id="192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C09A-A7E8-4B68-B355-97EA9FE9DBF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PilotJobAuthZ.png"/>
          <p:cNvPicPr/>
          <p:nvPr/>
        </p:nvPicPr>
        <p:blipFill>
          <a:blip r:embed="rId1"/>
          <a:stretch/>
        </p:blipFill>
        <p:spPr>
          <a:xfrm>
            <a:off x="1590840" y="2319480"/>
            <a:ext cx="6719760" cy="3536640"/>
          </a:xfrm>
          <a:prstGeom prst="rect">
            <a:avLst/>
          </a:prstGeom>
          <a:ln w="0">
            <a:noFill/>
          </a:ln>
        </p:spPr>
      </p:pic>
      <p:sp>
        <p:nvSpPr>
          <p:cNvPr id="198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(EMI-1 release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ck-compatible with gLite 3.2 Argus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Next Argus release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</a:t>
            </a:r>
            <a:r>
              <a:rPr b="0" i="1" lang="en-US" sz="2800" spc="-1" strike="noStrike">
                <a:solidFill>
                  <a:srgbClr val="010920"/>
                </a:solidFill>
                <a:latin typeface="Calibri"/>
              </a:rPr>
              <a:t>EMI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egration with UNICORE and A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Releas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0DDA-7CCE-4F08-877A-0313F4B5366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 ongo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EMI middleware stack (CE, WN, SE, UNICORE, ARC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easy to manage and distribute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5DDF-42EB-494E-B8DD-AFE1B1CF2D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gus.eu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3200"/>
            </a:b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76AC-9576-46E1-AA57-D8B4631187C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6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9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7EF7-4274-48E7-8120-6A6A3379960D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11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Releas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58C6-83E2-441A-B8E6-A00D6DB9C6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48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0700-8A86-4E3F-B574-61378991E91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e Policy Languag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FF96-6F0C-40CA-B746-AB416CD295C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policies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decision requests from the PEP Server or other components (UNICORE PDP, …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decis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2BC3-B352-4C8A-B0E1-AB42126799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07680" y="824040"/>
            <a:ext cx="85359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nforcement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decis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nds authorization decision (with obligations) back to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CFB6-9301-49A9-BEEB-9AB10BA833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common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Define a common set of XACML authorization attribut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omogenous and consistent authorization decisions across the EMI middlewa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file released, but still need to be implemented f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MI/EmiJra1T4XACM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ommon XACML Authorization Profil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1394-C3DC-4DEB-B52E-09D02A826D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-1 release authorization statu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uting Element (C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CREAM CE integrated with Argu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Worker Node (WN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gLExec with LCMAPS PEP plugin for pilot job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PM/LFC banning engin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Cache authorization plugin (available in EMI-1, not enabled by default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689D-8C9E-4F62-B6B8-A92F6A6821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uture work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gus update to support new profil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Extend the simple policy language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Define the new XACML attribute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StoRM authorization (banning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MI Execution Service (ES) integration??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AD35-E4E2-4EB8-B1F8-C31CF2542DE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4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7:44:16Z</dcterms:created>
  <dc:creator>Valery Tschopp</dc:creator>
  <dc:description/>
  <cp:keywords/>
  <dc:language>en-US</dc:language>
  <cp:lastModifiedBy>Valery Tschopp</cp:lastModifiedBy>
  <dcterms:modified xsi:type="dcterms:W3CDTF">2011-05-31T07:58:15Z</dcterms:modified>
  <cp:revision>222</cp:revision>
  <dc:subject/>
  <dc:title>Argus - EMI Authorization Integration</dc:title>
</cp:coreProperties>
</file>