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5B00-3A17-48CA-8E05-FF27CFD7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5FAC-E55C-4BDD-AD63-209935DF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A22D-8941-450C-BAB1-BB248DA8D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3428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364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0456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3428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364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4CCD-0A85-4593-8BB4-22E9F2154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8D09-B982-4C3C-AEBB-AEA7FDA1E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B9F4-346B-47F1-9991-064F4E7A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B0D80-99FD-487C-BE51-80F7DBEC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4AEE-D55F-492C-89AF-D78BBCED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B935-BB26-497A-AD2E-DCB86C8E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4503-B0D4-4C93-B0FB-FFC10DEE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5D4B-30BE-4B2A-B0B1-614D5A98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ACA8-612E-4D72-8A49-D060D7DA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838CF-2146-47E9-A158-F4A1FA42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8D47-BEBC-4455-A17F-F376A65F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7D2A-9E5F-4F1E-9089-AA720FC8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E59C-565C-457F-8C09-B6AAFE9AB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73428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6364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20456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73428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6364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43EF-69BA-4733-89CF-17594C900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73237-F890-442A-A646-BF8CE7FFC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3799B-057A-4448-8722-356BD386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34D48-599C-4124-97C4-7A63D866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DF50F-9271-496F-BA8D-802045DB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5C239-CCED-4356-ADEA-B6BBCA63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C306-0CCE-49BB-92B4-0F953159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4D2A9-1EBD-480E-9B74-88E2C42D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44383-8BA6-40A7-86CE-0A07F48C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453F4-BECA-4941-89A6-4BB293C4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E6892-C992-46FD-975F-1AB65603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E8E42-6E98-4930-9EA6-64A1C0F0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7C5F2-E558-400C-BC61-002A9EEA7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73428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26364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20456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73428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26364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F40A0-32E2-46D6-B51A-5936B8196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17FB-01CF-4073-B0FB-9F036F56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5AAE-A16A-4DBC-8229-E4778C5C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B8CF-13CD-4DE2-9106-D914F764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6956-F1B9-4435-A0EF-1DA52A9D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FE79-93A9-4AC6-BC63-9761B2AC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0216-1532-4E91-A0BA-5B6CF71F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109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456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a6a6a6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1912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392B-972B-4FF6-9AA8-DCB60EBADC71}" type="slidenum">
              <a:rPr b="0" lang="en-GB" sz="12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10"/>
          <p:cNvSpPr/>
          <p:nvPr/>
        </p:nvSpPr>
        <p:spPr>
          <a:xfrm rot="10800000">
            <a:off x="0" y="4220640"/>
            <a:ext cx="369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-36360" y="0"/>
            <a:ext cx="676080" cy="6858000"/>
          </a:xfrm>
          <a:prstGeom prst="rect">
            <a:avLst/>
          </a:prstGeom>
          <a:ln w="0">
            <a:noFill/>
          </a:ln>
        </p:spPr>
      </p:pic>
      <p:sp>
        <p:nvSpPr>
          <p:cNvPr id="7" name="TextBox 10"/>
          <p:cNvSpPr/>
          <p:nvPr/>
        </p:nvSpPr>
        <p:spPr>
          <a:xfrm rot="10800000">
            <a:off x="75960" y="509436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3"/>
          <a:stretch/>
        </p:blipFill>
        <p:spPr>
          <a:xfrm rot="16200000">
            <a:off x="-173520" y="4502880"/>
            <a:ext cx="83664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9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0"/>
          <p:cNvSpPr/>
          <p:nvPr/>
        </p:nvSpPr>
        <p:spPr>
          <a:xfrm rot="10800000">
            <a:off x="0" y="4220640"/>
            <a:ext cx="369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-36360" y="0"/>
            <a:ext cx="6760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10"/>
          <p:cNvSpPr/>
          <p:nvPr/>
        </p:nvSpPr>
        <p:spPr>
          <a:xfrm rot="10800000">
            <a:off x="75960" y="509436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3"/>
          <a:stretch/>
        </p:blipFill>
        <p:spPr>
          <a:xfrm rot="16200000">
            <a:off x="-173520" y="4502880"/>
            <a:ext cx="836640" cy="3524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0" y="0"/>
            <a:ext cx="1049400" cy="6858000"/>
          </a:xfrm>
          <a:prstGeom prst="rect">
            <a:avLst/>
          </a:prstGeom>
          <a:solidFill>
            <a:srgbClr val="01092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109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120456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1912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2ED1-4C01-4F32-829A-B37AA106A8A8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0"/>
          <p:cNvSpPr/>
          <p:nvPr/>
        </p:nvSpPr>
        <p:spPr>
          <a:xfrm rot="10800000">
            <a:off x="0" y="4220640"/>
            <a:ext cx="369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-36360" y="0"/>
            <a:ext cx="6760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0"/>
          <p:cNvSpPr/>
          <p:nvPr/>
        </p:nvSpPr>
        <p:spPr>
          <a:xfrm rot="10800000">
            <a:off x="75960" y="509436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3"/>
          <a:stretch/>
        </p:blipFill>
        <p:spPr>
          <a:xfrm rot="16200000">
            <a:off x="-173520" y="4502880"/>
            <a:ext cx="836640" cy="3524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109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20456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6C16-ED72-4097-8108-DC67F90E031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twiki.cern.ch/twiki/bin/view/EGEE/AuthorizationFramework" TargetMode="External"/><Relationship Id="rId2" Type="http://schemas.openxmlformats.org/officeDocument/2006/relationships/hyperlink" Target="https://twiki.cern.ch/twiki/bin/view/EMI/ArgusSRC" TargetMode="External"/><Relationship Id="rId3" Type="http://schemas.openxmlformats.org/officeDocument/2006/relationships/hyperlink" Target="https://twiki.cern.ch/twiki/bin/view/EGEE/AuthZPAPCLI" TargetMode="External"/><Relationship Id="rId4" Type="http://schemas.openxmlformats.org/officeDocument/2006/relationships/hyperlink" Target="https://twiki.cern.ch/twiki/bin/view/EGEE/SimplifiedPolicyLanguage" TargetMode="External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9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7" descr="EMI-Europ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571680" y="407880"/>
            <a:ext cx="8001000" cy="6021360"/>
          </a:xfrm>
          <a:prstGeom prst="rect">
            <a:avLst/>
          </a:prstGeom>
          <a:solidFill>
            <a:srgbClr val="ffffff">
              <a:alpha val="7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706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0253f"/>
                </a:solidFill>
                <a:latin typeface="Arial"/>
              </a:rPr>
              <a:t>Argus</a:t>
            </a:r>
            <a:br>
              <a:rPr sz="4400"/>
            </a:br>
            <a:r>
              <a:rPr b="1" lang="en-GB" sz="3600" spc="-1" strike="noStrike">
                <a:solidFill>
                  <a:srgbClr val="10253f"/>
                </a:solidFill>
                <a:latin typeface="Arial"/>
              </a:rPr>
              <a:t>The EMI Authorization Servic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44625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0253f"/>
                </a:solidFill>
                <a:latin typeface="Calibri"/>
              </a:rPr>
              <a:t>Valery Tschopp (SWITCH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0253f"/>
                </a:solidFill>
                <a:latin typeface="Calibri"/>
              </a:rPr>
              <a:t>Argus Product Team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pic>
        <p:nvPicPr>
          <p:cNvPr id="140" name="Picture 5" descr="C:\Dokumente und Einstellungen\nl\Eigene Dateien\Aufträge 2009-JSC\EMI-PPT-Template\EMI_Logo_newest.png"/>
          <p:cNvPicPr/>
          <p:nvPr/>
        </p:nvPicPr>
        <p:blipFill>
          <a:blip r:embed="rId2"/>
          <a:stretch/>
        </p:blipFill>
        <p:spPr>
          <a:xfrm>
            <a:off x="3022560" y="1106640"/>
            <a:ext cx="309888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947880" y="824040"/>
            <a:ext cx="79516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Open ports (firewall): 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AP: 8150 (pap-admin, policies distribution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EP Server: 8154 (PEP client connections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Log and audit files: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var/log/argus/(pap|pdp|pepd)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Init scripts: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etc/init.d/argus-pap {start|stop|status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etc/init.d/argus-pdp {start|stop|status|reloadpolicy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etc/init.d/argus-pepd {start|stop|status|clearcache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  <a:ea typeface="Courier New"/>
              </a:rPr>
              <a:t>Nagios plugins available to monitor the servic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Service Operations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86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9569-8A57-4166-800D-DEEAA23A363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204560" y="824040"/>
            <a:ext cx="776772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is designed to answer the questions: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0920"/>
                </a:solidFill>
                <a:latin typeface="Calibri"/>
              </a:rPr>
              <a:t>Can user X perform action Y on resource Z?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0920"/>
                </a:solidFill>
                <a:latin typeface="Calibri"/>
              </a:rPr>
              <a:t>Is user X banned?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ERMIT decisio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llow to authorize users to perform an action on a resourc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DENY decisio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llow to ban user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Both can be expressed with XACML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uthorization Policies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1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3326-1CE4-4B54-9278-27CEB67D8A1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XACML policies !?!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uthorization Policies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6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4182-5B0B-446A-B981-26851C21D6C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Content Placeholder 1"/>
          <p:cNvSpPr/>
          <p:nvPr/>
        </p:nvSpPr>
        <p:spPr>
          <a:xfrm>
            <a:off x="933480" y="1555920"/>
            <a:ext cx="78138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PolicySet xmlns:xacml="urn:oasis:names:tc:xacml:2.0:policy:schema:os”PolicyCombiningAlgId="urn:oasis:names:tc:xacml:1.0:policy-combining-algorithm:first-applicable" PolicySetId="9784d9ce-16a9-41b9-9d26-b81a97f93616" Version="1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Target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Match MatchId="urn:oasis:names:tc:xacml:1.0:function:string-regexp-match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ttributeValue DataType="http://www.w3.org/2001/XMLSchema#string"&gt;.*&lt;/xacml:AttributeValu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AttributeDesignator AttributeId="urn:oasis:names:tc:xacml:1.0:resource:resource-id" DataType="http://www.w3.org/2001/XMLSchema#string" MustBePresent="fals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ResourceMatc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Resour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Resource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Target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PolicyIdReference&gt;public_2d8346b8-5cd2-44ad-9ad1-0eff5d8a6ef1&lt;/xacml:PolicyIdReferen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PolicySet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Policy xmlns:xacml="urn:oasis:names:tc:xacml:2.0:policy:schema:os” PolicyId="public_2d8346b8-5cd2-44ad-9ad1-0eff5d8a6ef1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	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CombiningAlgId="urn:oasis:names:tc:xacml:1.0:rule-combining-algorithm:first-applicable" Version="1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Target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Match MatchId="urn:oasis:names:tc:xacml:1.0:function:string-regexp-match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ttributeValue DataType="http://www.w3.org/2001/XMLSchema#string"&gt;.*&lt;/xacml:AttributeValu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AttributeDesignator AttributeId="urn:oasis:names:tc:xacml:1.0:action:action-id" DataType="http://www.w3.org/2001/XMLSchema#string" MustBePresent="fals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ActionMatc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Actio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Action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Target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ule Effect="Deny" RuleId="43c15124-6635-47ee-b13c-53f672d0de77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roblem?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XACML not easy to read and/or understand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XACML not easy to write, prone to error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olutio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Hide the XACML language complexity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Introduce a Simplified Policy Language (SPL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vide administrators with simple tool to manage the policie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</a:t>
            </a: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to create, edit, delete permit/deny policy rules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uthorization Policies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2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A973-146E-4217-BC76-DFA7328E29D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Ban a particular user by D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".*" {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".*" {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deny { 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subject="/C=CH/O=SWITCH/CN=Valery Tschopp" }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ermit ATLAS users (FQAN) to execute a job on a worker node (WN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"http://grid.switch.ch/wn" {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"http://glite.org/xacml/action/execute" {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permit { fqan="/atlas" }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implified Policy Languag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7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54A6-387C-4E82-A369-FE3A49B3B9D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dministrator’s tool to manage the PAP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olicies management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AP server management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AP authorization management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mple way to ban user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mple way to create, edit and delete 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pap-admin Tool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12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E496-C295-4F22-8077-891BA38E84E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25320" y="824040"/>
            <a:ext cx="829152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reate 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ermit a user by distinguished name (DN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$ pap-admin add-policy 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--resource “http://grid.switch.ch/wn” 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--action “http://glite.org/xacml/action/execute”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permit subject="CN=Valery Tschopp,O=SWITCH,C=ch”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ermit users by primary FQAN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$ pap-admin ap 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--resource “http://grid.switch.ch/wn” 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--action “http://glite.org/xacml/action/execute”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permit pfqan=”/atlas”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Ban a user for any action and resourc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$ pap-admin ban subject "CN=John Doe,O=ACME,C=org”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pap-admin Tool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17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E5A1-67C2-4302-BC3D-3B275D84BDC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625320" y="824040"/>
            <a:ext cx="829152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Listing existing 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$ pap-admin lp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Enter the passphrase for the private key /home/tschopp/.globus/userkey.pem:  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default (local):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”.*" {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”.*" {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deny { subject="CN=John Doe,O=ACME,C=org” 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”http://grid.switch.ch/atlas-cluster" {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obligation "http://glite.org/xacml/obligation/local-environment-map" { 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”http://glite.org/xacml/action/execute" {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permit { pfqan="/atlas" 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permit { 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subject="CN=Valery Tschopp,O=SWITCH,C=ch”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pap-admin Tool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22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70BC-8BB0-4EE4-A823-D7BAA81E513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ayload is downloaded on the W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LExec runs it under the end-user identity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Pilot Jobs Authorization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27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C131-A4AE-4BE4-AEA7-7EC68240232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7" descr="PilotJobAuthZ.png"/>
          <p:cNvPicPr/>
          <p:nvPr/>
        </p:nvPicPr>
        <p:blipFill>
          <a:blip r:embed="rId1"/>
          <a:stretch/>
        </p:blipFill>
        <p:spPr>
          <a:xfrm>
            <a:off x="1469880" y="2290680"/>
            <a:ext cx="673740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736560" y="824040"/>
            <a:ext cx="819000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ilot Job Policy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”http://grid.switch.ch/wn" {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obligation "http://glite.org/xacml/obligation/local-environment-map" { 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”http://glite.org/xacml/action/execute" {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permit { 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pfqan="/atlas/Role=pilot" 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permit { 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fqan=”/atlas/analysis”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Pilot Job Authorization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33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267D-6660-419A-AEFF-C8415611EF4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Authorization Servic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rvice Deployme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mplified Policy Languag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ap-admin Too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ilot Jobs Authorizatio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1.3 EMI-1 Releas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nclusion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42" name="Date Placeholder 2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3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15B1-424F-45F0-9CC1-145540512FA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1204560" y="824040"/>
            <a:ext cx="772164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1.3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Compatible with gLite 3.2 Argus PEP client libraries (C and Java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upport for LFC/DPM banning engin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Bug fixe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Will be released for EMI-1 (end April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Is it a problem for gLite 3.2 site ?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Install the Argus 1.3 EMI-1 service (standalone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Keep the existing gLite 3.2 application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1.3 EMI-1 Releas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38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A290-0892-4EC6-8EEC-97FC4E5255B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lobal banning list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te specific 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xperiment specific 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nsistent authorization decisions across the whole middleware stack (CE, WN, …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ilot Jobs authorization and mapping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mple tool to manage authorizatio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42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73F1-8E7C-4EEC-A7BC-8E812F9D3DE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000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45" name="Date Placeholder 6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General documentation </a:t>
            </a:r>
            <a:br>
              <a:rPr sz="2800"/>
            </a:b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twiki.cern.ch/twiki/bin/view/EGEE/AuthorizationFramework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ervice Reference Card </a:t>
            </a:r>
            <a:br>
              <a:rPr sz="2800"/>
            </a:b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s://twiki.cern.ch/twiki/bin/view/EMI/ArgusSRC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AP admin CLI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s://twiki.cern.ch/twiki/bin/view/EGEE/AuthZPAPCLI</a:t>
            </a: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implified Policy Languag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s://twiki.cern.ch/twiki/bin/view/EGEE/SimplifiedPolicyLanguage</a:t>
            </a: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Documentation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48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6384-1460-47F1-A573-B3E3E184958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GUS Tickets (ARGUS Support Unit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https://gus.fzk.de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upport mailing list (e-group):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argus-support@cern.ch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uppor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53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561C-03F2-4792-B4A4-FE305467333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55400" y="4188960"/>
            <a:ext cx="734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57" name="Slide Number Placeholder 4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93C1-D1D3-4817-B77E-5378F85C6B9C}" type="slidenum">
              <a:rPr b="0" lang="en-GB" sz="12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5"/>
          <p:cNvSpPr/>
          <p:nvPr/>
        </p:nvSpPr>
        <p:spPr>
          <a:xfrm>
            <a:off x="231948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itle 13"/>
          <p:cNvSpPr/>
          <p:nvPr/>
        </p:nvSpPr>
        <p:spPr>
          <a:xfrm>
            <a:off x="979560" y="5002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Calibri"/>
              </a:rPr>
              <a:t>EMI is partially funded by the European Commission under Grant Agreement INFSO-RI-2616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5" descr="C:\Dokumente und Einstellungen\nl\Eigene Dateien\Aufträge 2009-JSC\EMI-PPT-Template\EMI_Logo_newest.png"/>
          <p:cNvPicPr/>
          <p:nvPr/>
        </p:nvPicPr>
        <p:blipFill>
          <a:blip r:embed="rId1"/>
          <a:stretch/>
        </p:blipFill>
        <p:spPr>
          <a:xfrm>
            <a:off x="1006560" y="785880"/>
            <a:ext cx="7572240" cy="3179520"/>
          </a:xfrm>
          <a:prstGeom prst="rect">
            <a:avLst/>
          </a:prstGeom>
          <a:ln w="0">
            <a:noFill/>
          </a:ln>
        </p:spPr>
      </p:pic>
      <p:sp>
        <p:nvSpPr>
          <p:cNvPr id="261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a6a6a6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64720" y="824040"/>
            <a:ext cx="782172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Renders consistent authorization decisions based on XACML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920"/>
                </a:solidFill>
                <a:latin typeface="Calibri"/>
              </a:rPr>
              <a:t>Can user X perform action Y on resource Z?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920"/>
                </a:solidFill>
                <a:latin typeface="Calibri"/>
              </a:rPr>
              <a:t>Ban user by DN, FQAN, issuing CA, … !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8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2953-4849-4282-AF78-E25C34C4D22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Content Placeholder 6" descr="ARGUS_Components-EMI.png"/>
          <p:cNvPicPr/>
          <p:nvPr/>
        </p:nvPicPr>
        <p:blipFill>
          <a:blip r:embed="rId1"/>
          <a:srcRect l="0" t="-42712" r="0" b="-42712"/>
          <a:stretch/>
        </p:blipFill>
        <p:spPr>
          <a:xfrm>
            <a:off x="865080" y="1670040"/>
            <a:ext cx="8520120" cy="61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PAP: Policy Administration Poi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vides site administrators with the tools for authoring policies (pap-admin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tores and manages authored XACML policies 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vides managed authorization policies to other authorization service components (other PAPs or PDP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4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F256-EE1A-46F7-ADF3-7B1F59852D3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PDP: Policy Decision Poi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olicy evaluation engin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Receives authorization requests from the PEP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Evaluates the authorization requests against the XACML policies retrieved from the PAP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Renders the authorization decision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9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2DD0-16BF-4332-B028-5CCDEF64C70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PEP: Policy Execution Poi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Client/Server architectur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Lightweight PEP client libraries (C and Java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EP Server receives the authorization requests from the PEP client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pplies additional filters to the requests (PIP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sks the PDP to render an authorization decision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pplies the obligation handler (OH) to determine the user mapping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4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2FE8-19D6-418F-B492-7B56D8407E4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746280" y="824040"/>
            <a:ext cx="824544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as a service to manage consistent authorization policy based decision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ervice Deploymen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9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00B8-3831-4B4F-80B2-97EBD0D59BF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Content Placeholder 6" descr="ArgusIntegration.png"/>
          <p:cNvPicPr/>
          <p:nvPr/>
        </p:nvPicPr>
        <p:blipFill>
          <a:blip r:embed="rId1"/>
          <a:srcRect l="0" t="-6279" r="0" b="-6279"/>
          <a:stretch/>
        </p:blipFill>
        <p:spPr>
          <a:xfrm>
            <a:off x="1658880" y="2023920"/>
            <a:ext cx="6485040" cy="46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Hierarchical distribution of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ervice Deployment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5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8833-EBDE-431D-B6CF-CEBA445E0E7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Content Placeholder 6" descr="Argus-EMI_Deployment.png"/>
          <p:cNvPicPr/>
          <p:nvPr/>
        </p:nvPicPr>
        <p:blipFill>
          <a:blip r:embed="rId1"/>
          <a:srcRect l="0" t="-3086" r="0" b="-3086"/>
          <a:stretch/>
        </p:blipFill>
        <p:spPr>
          <a:xfrm>
            <a:off x="1908000" y="1650960"/>
            <a:ext cx="6310440" cy="45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lobal banning list (EGI, NGI, …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Local site 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xperiment specific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ervice Deployment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81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F9F6-AD5C-484E-A414-0B78B506271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7:49:34Z</dcterms:created>
  <dc:creator>Valery Tschopp</dc:creator>
  <dc:description/>
  <dc:language>en-US</dc:language>
  <cp:lastModifiedBy>Valery Tschopp</cp:lastModifiedBy>
  <dcterms:modified xsi:type="dcterms:W3CDTF">2011-04-12T08:28:33Z</dcterms:modified>
  <cp:revision>144</cp:revision>
  <dc:subject/>
  <dc:title>Argus The EMI Authorization Service</dc:title>
</cp:coreProperties>
</file>