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C36F-651E-4AB7-83E5-95A316D0AE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83BB-FA65-476B-A447-F789E57EF4F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5BD6-AC8B-4608-B467-D966A722A00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4983-1527-4037-9616-19E30B6F3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1D16-D158-4294-B3F2-30D2C984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D555-524F-4AD9-82D3-CF5AE7641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3B53-E807-4E42-8529-B0F7DF646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E246-9D84-45BD-BE92-A1C8F748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46A7-975F-4A6D-A10E-0024AA2BD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F452-0A6F-45CA-BB49-3E18E65D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AE99-606A-4847-AB0F-D81488F0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10F4-9766-4DDE-AFD5-A7AE4E20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60DB-65E7-444F-93B9-F9701B38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5D15-6072-4AE0-BE12-DE25018D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6B4F-7B36-4D86-8F5E-B8BFAD01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8F9B-9E2B-4D1D-836C-C0D352DC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CDE4-1E39-46F8-9F07-CE10B27F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2819-1B53-48DF-97E1-02C9425B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A73E-F644-4494-8609-3B4756AD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79B0-47EE-4E74-879E-CBEDCA50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AB50-C099-428C-B6FB-7C17D74E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A49FA-2B27-46D9-B758-C8F1BC50E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46FC3-30BF-41E8-9C25-D6C5F207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BA5DF-3BB2-4CD0-998E-814C0C13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7252-299A-41D1-B6E0-FDA75770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C2261-1BA4-4605-8D37-3404CDD4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AA885-09CB-4635-AFBD-4018DF78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D8DD7-BF63-44AE-B045-0BD153D1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C9797-EC0E-4A93-B4C2-F5895B0B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F2AD3-A956-4EA8-810A-41AF32F0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32FA0-44B8-4CEC-861D-85B4D7E1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87814-5DBE-424D-9BA2-8279A212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33D92-90FA-4E49-A564-5AC064F50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502F9-D2A8-45F7-A9FC-3A1D425F0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EA0E7-C808-40DF-BA53-30CC6EEDF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DAA0-E13A-41F6-8F03-05D0F3AC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7B27A-0BA0-4C50-B1A1-C7D8CDFC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6B12D-8A68-4088-963B-207790BB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BDB33-DF76-43D2-B9C3-77C3D2B0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1E5E9-AB66-4307-8219-1441A80B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42DFB-89A6-47AC-85E7-0661604F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B204C-8143-41EC-87B2-27155F2F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8AE60-0B8F-43C0-987E-DBC6EB45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1620B-112D-4F84-B741-7F90FB6F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E22BE-FE63-4EF0-B769-FFF3F1EB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1A0E6-A8F9-4C02-813A-3C7C83D02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3B1B-1BA1-4216-AC50-9F9D51D1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DFCA0-BF02-4B2C-979F-ADB5425E1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1CF3-4318-40EE-B55F-BD885E41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242C-01DA-4E7A-B095-43B62B37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8825-91AD-48FF-9CBE-F08C2F38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496200"/>
            <a:ext cx="110484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Times New Roman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571760" y="6481800"/>
            <a:ext cx="6619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191440" y="647964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27BD-9D45-4F9D-903C-F510E19BEAE0}" type="slidenum">
              <a:rPr b="0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C:\Dokumente und Einstellungen\nl\Eigene Dateien\Aufträge 2009-JSC\EMI-PPT-Template\hintergrund.jpg"/>
          <p:cNvPicPr/>
          <p:nvPr/>
        </p:nvPicPr>
        <p:blipFill>
          <a:blip r:embed="rId2"/>
          <a:stretch/>
        </p:blipFill>
        <p:spPr>
          <a:xfrm>
            <a:off x="0" y="-19080"/>
            <a:ext cx="9163080" cy="687708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6"/>
          <p:cNvSpPr/>
          <p:nvPr/>
        </p:nvSpPr>
        <p:spPr>
          <a:xfrm>
            <a:off x="571680" y="407880"/>
            <a:ext cx="8001000" cy="6021360"/>
          </a:xfrm>
          <a:prstGeom prst="rect">
            <a:avLst/>
          </a:prstGeom>
          <a:solidFill>
            <a:srgbClr val="ffffff">
              <a:alpha val="7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6" descr="C:\Dokumente und Einstellungen\nl\Eigene Dateien\Aufträge 2009-JSC\EMI-PPT-Template\EMI_Logo_newest.png"/>
          <p:cNvPicPr/>
          <p:nvPr/>
        </p:nvPicPr>
        <p:blipFill>
          <a:blip r:embed="rId3"/>
          <a:stretch/>
        </p:blipFill>
        <p:spPr>
          <a:xfrm>
            <a:off x="2703600" y="700200"/>
            <a:ext cx="3843360" cy="16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0" y="0"/>
            <a:ext cx="67644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10"/>
          <p:cNvSpPr/>
          <p:nvPr/>
        </p:nvSpPr>
        <p:spPr>
          <a:xfrm rot="10800000">
            <a:off x="75960" y="439272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C:\Dokumente und Einstellungen\nl\Eigene Dateien\Aufträge 2009-JSC\EMI-PPT-Template\EMI_Logo_newest.png"/>
          <p:cNvPicPr/>
          <p:nvPr/>
        </p:nvPicPr>
        <p:blipFill>
          <a:blip r:embed="rId3"/>
          <a:stretch/>
        </p:blipFill>
        <p:spPr>
          <a:xfrm>
            <a:off x="7229520" y="49320"/>
            <a:ext cx="1914480" cy="8031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4"/>
          </p:nvPr>
        </p:nvSpPr>
        <p:spPr>
          <a:xfrm>
            <a:off x="723600" y="6468840"/>
            <a:ext cx="1104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Times New Roman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8191440" y="6486120"/>
            <a:ext cx="495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471E-03F3-43AB-AF87-685971FC2648}" type="slidenum">
              <a:rPr b="0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Dokumente und Einstellungen\nl\Eigene Dateien\Aufträge 2009-JSC\EMI-PPT-Template\streifen_50.png"/>
          <p:cNvPicPr/>
          <p:nvPr/>
        </p:nvPicPr>
        <p:blipFill>
          <a:blip r:embed="rId2"/>
          <a:stretch/>
        </p:blipFill>
        <p:spPr>
          <a:xfrm>
            <a:off x="0" y="0"/>
            <a:ext cx="67644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0"/>
          <p:cNvSpPr/>
          <p:nvPr/>
        </p:nvSpPr>
        <p:spPr>
          <a:xfrm rot="10800000">
            <a:off x="75960" y="439272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C:\Dokumente und Einstellungen\nl\Eigene Dateien\Aufträge 2009-JSC\EMI-PPT-Template\EMI_Logo_newest.png"/>
          <p:cNvPicPr/>
          <p:nvPr/>
        </p:nvPicPr>
        <p:blipFill>
          <a:blip r:embed="rId3"/>
          <a:stretch/>
        </p:blipFill>
        <p:spPr>
          <a:xfrm>
            <a:off x="7229520" y="49320"/>
            <a:ext cx="1914480" cy="8031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dt" idx="7"/>
          </p:nvPr>
        </p:nvSpPr>
        <p:spPr>
          <a:xfrm>
            <a:off x="723600" y="6468840"/>
            <a:ext cx="1104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Times New Roman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8"/>
          </p:nvPr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9"/>
          </p:nvPr>
        </p:nvSpPr>
        <p:spPr>
          <a:xfrm>
            <a:off x="8191440" y="6486120"/>
            <a:ext cx="495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580E-FC74-446A-9588-5ED1D38AAEB0}" type="slidenum">
              <a:rPr b="0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tle 13"/>
          <p:cNvSpPr/>
          <p:nvPr/>
        </p:nvSpPr>
        <p:spPr>
          <a:xfrm>
            <a:off x="506520" y="4848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Calibri"/>
              </a:rPr>
              <a:t>EMI is partially funded by the European Commission under Grant Agreement RI-2616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C:\Dokumente und Einstellungen\nl\Eigene Dateien\Aufträge 2009-JSC\EMI-PPT-Template\EMI_Logo_newest.png"/>
          <p:cNvPicPr/>
          <p:nvPr/>
        </p:nvPicPr>
        <p:blipFill>
          <a:blip r:embed="rId2"/>
          <a:stretch/>
        </p:blipFill>
        <p:spPr>
          <a:xfrm>
            <a:off x="1527120" y="1216080"/>
            <a:ext cx="6094440" cy="25588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dt" idx="10"/>
          </p:nvPr>
        </p:nvSpPr>
        <p:spPr>
          <a:xfrm>
            <a:off x="723600" y="6468840"/>
            <a:ext cx="1104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Times New Roman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11"/>
          </p:nvPr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2"/>
          </p:nvPr>
        </p:nvSpPr>
        <p:spPr>
          <a:xfrm>
            <a:off x="8191440" y="6486120"/>
            <a:ext cx="495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4C52-1392-4E4D-9DF6-18DAB439E6A8}" type="slidenum">
              <a:rPr b="0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4694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946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4694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946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4694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194694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194694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65280" y="27129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94694"/>
                </a:solidFill>
                <a:latin typeface="Arial"/>
                <a:ea typeface="Arial"/>
              </a:rPr>
              <a:t>Argus Authorization Service</a:t>
            </a:r>
            <a:br>
              <a:rPr sz="4400"/>
            </a:br>
            <a:r>
              <a:rPr b="0" i="1" lang="en-GB" sz="4400" spc="-1" strike="noStrike">
                <a:solidFill>
                  <a:srgbClr val="194694"/>
                </a:solidFill>
                <a:latin typeface="Arial"/>
                <a:ea typeface="Arial"/>
              </a:rPr>
              <a:t>Security Trai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240" y="4462560"/>
            <a:ext cx="642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94694"/>
                </a:solidFill>
                <a:latin typeface="Calibri"/>
              </a:rPr>
              <a:t>Valery Tschopp (SWITCH)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94694"/>
                </a:solidFill>
                <a:latin typeface="Calibri"/>
              </a:rPr>
              <a:t>Argus PT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933120" y="1074240"/>
            <a:ext cx="748044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Documentation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ttps://twiki.cern.ch/twiki/bin/view/EGEE/AuthorizationFramework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mplified Policy Language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ttps://twiki.cern.ch/twiki/bin/view/EGEE/SimplifiedPolicyLanguage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AP admin CLI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ttps://twiki.cern.ch/twiki/bin/view/EGEE/AuthZPAPCLI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ntact: </a:t>
            </a: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argus-support@cern.ch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59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59A7-92B9-4CF5-9939-5D6E8F7B36BF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Documentations &amp; Conta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4152600"/>
            <a:ext cx="91440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8BD6-1F47-4B0F-8D8B-3E3505F8C12D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26A0-5AD5-4EC2-8AF2-377E91A27C15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Argus Authorization Serv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915840" y="795240"/>
            <a:ext cx="787428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ers authorization decisions based on XACML polic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user X perform action Y on resource Z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n user by DN, FQAN, issuing CA, …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0" descr="ArgusAuthorizationService.png"/>
          <p:cNvPicPr/>
          <p:nvPr/>
        </p:nvPicPr>
        <p:blipFill>
          <a:blip r:embed="rId1"/>
          <a:stretch/>
        </p:blipFill>
        <p:spPr>
          <a:xfrm>
            <a:off x="1954080" y="2065320"/>
            <a:ext cx="5457960" cy="2952720"/>
          </a:xfrm>
          <a:prstGeom prst="rect">
            <a:avLst/>
          </a:prstGeom>
          <a:ln w="0">
            <a:noFill/>
          </a:ln>
        </p:spPr>
      </p:pic>
      <p:sp>
        <p:nvSpPr>
          <p:cNvPr id="220" name="TextBox 11"/>
          <p:cNvSpPr/>
          <p:nvPr/>
        </p:nvSpPr>
        <p:spPr>
          <a:xfrm>
            <a:off x="1104840" y="55436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2"/>
          <p:cNvSpPr/>
          <p:nvPr/>
        </p:nvSpPr>
        <p:spPr>
          <a:xfrm>
            <a:off x="828720" y="5057640"/>
            <a:ext cx="8183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anages and publishes the authorization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valuates the authorization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esolves the user execution environment e.g. UID, GID, pool account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P daem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rocesses the PEP thin client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Content Placeholder 6" descr="ArgusIntegration.png"/>
          <p:cNvPicPr/>
          <p:nvPr/>
        </p:nvPicPr>
        <p:blipFill>
          <a:blip r:embed="rId1"/>
          <a:srcRect l="0" t="-6279" r="0" b="-6279"/>
          <a:stretch/>
        </p:blipFill>
        <p:spPr>
          <a:xfrm>
            <a:off x="1198440" y="1317600"/>
            <a:ext cx="7480440" cy="5381640"/>
          </a:xfrm>
          <a:prstGeom prst="rect">
            <a:avLst/>
          </a:prstGeom>
          <a:ln w="0">
            <a:noFill/>
          </a:ln>
        </p:spPr>
      </p:pic>
      <p:sp>
        <p:nvSpPr>
          <p:cNvPr id="223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D5D9-39A9-479B-8C28-1CB7635CD298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Argus Deploy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Content Placeholder 4"/>
          <p:cNvSpPr/>
          <p:nvPr/>
        </p:nvSpPr>
        <p:spPr>
          <a:xfrm>
            <a:off x="920880" y="758880"/>
            <a:ext cx="80308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rgus as a site service to manage consistent authorization policy based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933120" y="1074240"/>
            <a:ext cx="821052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Open ports (firewall): 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AP: 8150 (pap-admin, policies publishing)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P daemon: 8154 (PEP client connections)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Log and audit files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opt/argus/(pap|pdp|pepd)/logs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Init scripts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pap-standalone {start|stop|status}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pdp {start|stop|status|reloadpolicy}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pepd {start|stop|status|clearcache}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  <a:ea typeface="Courier New"/>
              </a:rPr>
              <a:t>Nagios plugins available to monitor the PAP, PDP and PEP daemon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29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7D95-0AEC-405E-BA23-F0928A3A8029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Argus Oper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933120" y="1074240"/>
            <a:ext cx="748044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is designed to answer the question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0920"/>
                </a:solidFill>
                <a:latin typeface="Calibri"/>
              </a:rPr>
              <a:t>Can user X perform action Y on resource Z?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ermit Decisions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llow to authorize users to perform an action on a resource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Deny Decisions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llow to ban users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Both can be express with XACML policies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34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95DC-DDA0-43C5-9244-13239E6A43BF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Authorization Decis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33120" y="1074240"/>
            <a:ext cx="781380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Set xmlns:xacml="urn:oasis:names:tc:xacml:2.0:policy:schema:os" PolicyCombiningAlgId="urn:oasis:names:tc:xacml:1.0:policy-combining-algorithm:first-applicable" PolicySetId="9784d9ce-16a9-41b9-9d26-b81a97f93616" Version="1"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Target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s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Match MatchId="urn:oasis:names:tc:xacml:1.0:function:string-regexp-match"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ttributeValue DataType="http://www.w3.org/2001/XMLSchema#string"&gt;.*&lt;/xacml:AttributeValue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AttributeDesignator AttributeId="urn:oasis:names:tc:xacml:1.0:resource:resource-id" DataType="http://www.w3.org/2001/XMLSchema#string" MustBePresent="false"/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Match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s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Target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IdReference&gt;public_2d8346b8-5cd2-44ad-9ad1-0eff5d8a6ef1&lt;/xacml:PolicyIdReference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PolicySet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 xmlns:xacml="urn:oasis:names:tc:xacml:2.0:policy:schema:os" PolicyId="public_2d8346b8-5cd2-44ad-9ad1-0eff5d8a6ef1" RuleCombiningAlgId="urn:oasis:names:tc:xacml:1.0:rule-combining-algorithm:first-applicable" Version="1"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Target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s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Match MatchId="urn:oasis:names:tc:xacml:1.0:function:string-regexp-match"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ttributeValue DataType="http://www.w3.org/2001/XMLSchema#string"&gt;.*&lt;/xacml:AttributeValue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AttributeDesignator AttributeId="urn:oasis:names:tc:xacml:1.0:action:action-id" DataType="http://www.w3.org/2001/XMLSchema#string" MustBePresent="false"/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Match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s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Target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ule Effect="Deny" RuleId="43c15124-6635-47ee-b13c-53f672d0de77"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...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39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DDA0-883D-41B4-B318-C43B6013910B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XACML Poli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933120" y="1074240"/>
            <a:ext cx="748044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roblem?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Not easy to understand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Not easy to read or write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olution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ide the XACML language complexity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ntroduce a Simplified Policy Language (SPL)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 tools to manage the policies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</a:t>
            </a: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to create, edit, delete permit/deny policy rules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44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E956-B51A-4D89-A8FB-81545729C1FE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XACML Policy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933120" y="1074240"/>
            <a:ext cx="748044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ermit Atlas users (FQAN) to execute a job on a worker node (WN)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"http://grid.switch.ch/wn" {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"http://glite.org/xacml/action/execute" {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fqan="/atlas" 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Ban a particular user by DN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".*" {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".*" {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deny { 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subject="/C=CH/O=SWITCH/CN=Valery Tschopp" 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49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6B1A-1144-40A4-9710-36D6D2CFF93E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Simplified Policy Language (SPL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933480" y="839520"/>
            <a:ext cx="804528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List active policies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list-policies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Import policies, in SPL format, from a file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add-policies-from-file      my-policies.spl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asily ban/un-ban VOs, users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ban vo testVO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un-ban vo testVO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  <a:ea typeface="Courier New"/>
              </a:rPr>
              <a:t>Add a generic policy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add-policy --resource "ce_1" --action ".*" permit </a:t>
            </a:r>
            <a:br>
              <a:rPr sz="2400"/>
            </a:b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fqan="/testVO/Role=pilot"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54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D955-7E0B-40B7-8AA3-78D64EA8B909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pap-admin Command Line Too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1:02:51Z</dcterms:created>
  <dc:creator>Valery Tschopp</dc:creator>
  <dc:description/>
  <dc:language>en-US</dc:language>
  <cp:lastModifiedBy>Valery Tschopp</cp:lastModifiedBy>
  <dcterms:modified xsi:type="dcterms:W3CDTF">2010-09-16T11:56:39Z</dcterms:modified>
  <cp:revision>48</cp:revision>
  <dc:subject/>
  <dc:title>Argus Authorization Service Security Training</dc:title>
</cp:coreProperties>
</file>