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626-3D4F-4600-9934-DD7AD711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613-2E7F-449A-B9A9-B289E07C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6A4-2F7D-4D86-9ACF-25261903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24F4-B9E0-4F53-9108-EB288169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A423-B3D0-40D9-854F-7CDC6005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1997-2B6A-4CBA-8EA4-98707FDA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BF92-92EA-44F5-85C0-1DEC2858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2959-9FF3-4745-9D5A-B0CB8834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BC2A-285E-4DBE-BA53-146C6A48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A3CD-161E-4457-A533-FC68B557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AC5B-04F7-4456-A0AE-71E1AE95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658D-198F-4A0A-B798-54F3FF50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21C3-E4B0-43F9-9EAF-E23DD49D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F182-F4F4-4B61-9DDC-3FF02697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305F-3EF0-48F6-A677-5726AE67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EA53-CA34-46AE-B3B5-657DA570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7835-0A60-43AE-9604-B8061F31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C34BD-D01D-4337-92E5-6A6CAF1C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F1A09-F638-47D9-A0B9-A23E4801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D82EE-D3CF-4848-98DD-59F7ABF9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4F7B7-2CF0-479F-8289-E9795334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89C9D-1813-49F8-B52B-F1C8D296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6DBF-B16A-4100-AA1B-B56C6EA0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11F09-3382-441A-96A2-C994A040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EBAF9-FD71-4A4A-8F24-54F47F7C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F46C0-010E-42F7-84CF-0DEF95CE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57200-6FBC-4901-8929-0FBE7C39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B661C-3BB2-4000-A57B-085B77A8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D8B53-4F53-488F-8CC5-7FC2F09D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6CAD4-60A2-4199-8DB2-39885407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3BD-7579-4500-BD0C-60523939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32E-7CF9-4180-8BF1-1134266A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6B51-875F-4121-B552-B6016D25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D5F-B10D-4D03-9909-F8563933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C23-5CB4-4F32-847B-3320371A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6F6-DE22-41D3-8769-B4C0A12A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63DF-6663-467C-B86A-2EAD6D29885F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0" y="0"/>
            <a:ext cx="1049400" cy="6858000"/>
          </a:xfrm>
          <a:prstGeom prst="rect">
            <a:avLst/>
          </a:prstGeom>
          <a:solidFill>
            <a:srgbClr val="0109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76D0-BE09-4B5C-AB75-216AEB4D017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2276-8F67-419E-9CF9-F343448014F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EMI-Euro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253f"/>
                </a:solidFill>
                <a:latin typeface="Arial"/>
              </a:rPr>
              <a:t>Argus</a:t>
            </a:r>
            <a:br>
              <a:rPr sz="4400"/>
            </a:br>
            <a:r>
              <a:rPr b="1" lang="en-GB" sz="4000" spc="-1" strike="noStrike">
                <a:solidFill>
                  <a:srgbClr val="10253f"/>
                </a:solidFill>
                <a:latin typeface="Arial"/>
              </a:rPr>
              <a:t>EMI Authorization Integration</a:t>
            </a:r>
            <a:endParaRPr b="1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4462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Argus Product Team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pic>
        <p:nvPicPr>
          <p:cNvPr id="140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3022560" y="1106640"/>
            <a:ext cx="30988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46280" y="824040"/>
            <a:ext cx="82454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s a service to manage consistent authorization policy based deci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184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658880" y="2023920"/>
            <a:ext cx="6485040" cy="4665960"/>
          </a:xfrm>
          <a:prstGeom prst="rect">
            <a:avLst/>
          </a:prstGeom>
          <a:ln w="0">
            <a:noFill/>
          </a:ln>
        </p:spPr>
      </p:pic>
      <p:sp>
        <p:nvSpPr>
          <p:cNvPr id="185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6C5A-FCB3-48E1-9CF7-7003E091818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ierarchical distribution of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0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973F-EE40-4CDC-A3E8-2CE3C69C49F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Argus-EMI_Deployment.png"/>
          <p:cNvPicPr/>
          <p:nvPr/>
        </p:nvPicPr>
        <p:blipFill>
          <a:blip r:embed="rId1"/>
          <a:stretch/>
        </p:blipFill>
        <p:spPr>
          <a:xfrm>
            <a:off x="1816200" y="1562040"/>
            <a:ext cx="6468840" cy="4383000"/>
          </a:xfrm>
          <a:prstGeom prst="rect">
            <a:avLst/>
          </a:prstGeom>
          <a:ln w="0">
            <a:noFill/>
          </a:ln>
        </p:spPr>
      </p:pic>
      <p:sp>
        <p:nvSpPr>
          <p:cNvPr id="192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11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yload is downloaded on the W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Exec runs it under the end-user identit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s Authoriz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6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1B09-3564-4A1D-9C14-1573E96F817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PilotJobAuthZ.png"/>
          <p:cNvPicPr/>
          <p:nvPr/>
        </p:nvPicPr>
        <p:blipFill>
          <a:blip r:embed="rId1"/>
          <a:stretch/>
        </p:blipFill>
        <p:spPr>
          <a:xfrm>
            <a:off x="1590840" y="2319480"/>
            <a:ext cx="6719760" cy="3536640"/>
          </a:xfrm>
          <a:prstGeom prst="rect">
            <a:avLst/>
          </a:prstGeom>
          <a:ln w="0">
            <a:noFill/>
          </a:ln>
        </p:spPr>
      </p:pic>
      <p:sp>
        <p:nvSpPr>
          <p:cNvPr id="198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11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204560" y="824040"/>
            <a:ext cx="77216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 (EMI-1 release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ack-compatible with gLite 3.2 Argus PEP client API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upport for LFC/DPM banning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ug fix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Next Argus release (EMI Year 2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mplement the </a:t>
            </a:r>
            <a:r>
              <a:rPr b="0" i="1" lang="en-US" sz="2800" spc="-1" strike="noStrike">
                <a:solidFill>
                  <a:srgbClr val="010920"/>
                </a:solidFill>
                <a:latin typeface="Calibri"/>
              </a:rPr>
              <a:t>EMI Common XACML Authorization Profil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egration with UNICORE and ARC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Release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2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4F47-4707-4FA8-B6AF-56B90CCBB76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mmon XACML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authorization integration ongoing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sistent authorization decisions across the whole EMI middleware stack (CE, WN, SE, UNICORE, ARC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easy to manage and distribute 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7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EC7D-15AD-44B9-BE8E-7BACE0D1C56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GUS Tickets (ARGUS Support Unit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https://ggus.eu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upport mailing list (e-group)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eneral documentation </a:t>
            </a:r>
            <a:br>
              <a:rPr sz="3200"/>
            </a:b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ttps://twiki.cern.ch/twiki/bin/view/EGEE/AuthorizationFramework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Suppor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985E-BEF8-4735-B9E4-E3991F2214F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55400" y="4188960"/>
            <a:ext cx="734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6" name="Title 13"/>
          <p:cNvSpPr/>
          <p:nvPr/>
        </p:nvSpPr>
        <p:spPr>
          <a:xfrm>
            <a:off x="979560" y="5002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EMI is partially funded by the European Commission under Grant Agreement INFSO-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C:\Dokumente und Einstellungen\nl\Eigene Dateien\Aufträge 2009-JSC\EMI-PPT-Template\EMI_Logo_newest.png"/>
          <p:cNvPicPr/>
          <p:nvPr/>
        </p:nvPicPr>
        <p:blipFill>
          <a:blip r:embed="rId1"/>
          <a:stretch/>
        </p:blipFill>
        <p:spPr>
          <a:xfrm>
            <a:off x="1006560" y="785880"/>
            <a:ext cx="7572240" cy="3179520"/>
          </a:xfrm>
          <a:prstGeom prst="rect">
            <a:avLst/>
          </a:prstGeom>
          <a:ln w="0">
            <a:noFill/>
          </a:ln>
        </p:spPr>
      </p:pic>
      <p:sp>
        <p:nvSpPr>
          <p:cNvPr id="218" name="Slide Number Placeholder 9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79DD-8FF3-4C9D-97C9-0BFFC94C2CB0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11"/>
          <p:cNvSpPr/>
          <p:nvPr/>
        </p:nvSpPr>
        <p:spPr>
          <a:xfrm>
            <a:off x="231948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uthorization Servic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mmon XACML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Authorization Integr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rvice Deployme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Releas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2F99-3E09-4901-A375-3BCC8B1AB89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64720" y="824040"/>
            <a:ext cx="7821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Renders consistent authorization decisions based on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Ban user by DN, FQAN, issuing CA, … !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148" name="Content Placeholder 6" descr="ARGUS_Components-EMI.png"/>
          <p:cNvPicPr/>
          <p:nvPr/>
        </p:nvPicPr>
        <p:blipFill>
          <a:blip r:embed="rId1"/>
          <a:srcRect l="0" t="-42712" r="0" b="-42712"/>
          <a:stretch/>
        </p:blipFill>
        <p:spPr>
          <a:xfrm>
            <a:off x="865080" y="1670040"/>
            <a:ext cx="8520120" cy="612936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7B15-C523-485F-AEBA-9BB5B7FF7FB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AP: Policy Administra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site administrators with the tools for authoring polici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es and manages authored XACML policies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managed authorization policies to other authorization service components (other PAPs or PD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-admin too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imple Policy Languag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D075-823D-47A3-8F8E-03DCAB120F7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DP: Policy Decis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policies evaluation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ceives authorization decision requests from the PEP Server or other components (UNICORE PDP, …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valuates the authorization decision requests against the XACML policies retrieved from the PA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nders the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9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6BE5-24C5-4D3E-A506-88E8A18D35F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07680" y="824040"/>
            <a:ext cx="853596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EP: Policy Enforcement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lient/Server architectu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Lightweight PEP client API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 receives the authorization decision requests from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additional filters to the requests (PI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sks the PDP to render an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the obligation handler (OH) to determine the user mapping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ends authorization decision (with obligations) back to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20B9-4344-402A-8C68-E69CC7F282F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common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Define a common set of XACML authorization attribut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omogenous and consistent authorization decisions across the EMI middlewa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file released, but still need to be implemented for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UNICORE PDP integration in XACML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C SecHandler integration with PEP client API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ttps://twiki.cern.ch/twiki/bin/view/EMI/EmiJra1T4XACM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ommon XACML Authorization Profil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9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DC88-EA00-4CE4-971D-2ADB66097CA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-1 release authorization statu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omputing Element (CE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CREAM CE integrated with Argu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Worker Node (WN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gLExec with LCMAPS PEP plugin for pilot job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age Element (SE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DPM/LFC banning engin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dCache authorization plugin (available in EMI-1, not enabled by default)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MI Authorization Integr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09AC-3B03-49C9-AA9F-55B036B2442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uture work (EMI Year 2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mplement the common XACML authorization profil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gus update to support new profil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Extend the simple policy language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Define the new XACML attributes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UNICORE PDP integration in XACML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C SecHandler integration with PEP client API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age Element (SE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StoRM authorization (banning)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MI Execution Service (ES) integration??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MI Authorization Integration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B800-D821-4185-A0F0-EC0F2EA2A00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ate Placeholder 4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5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7:44:16Z</dcterms:created>
  <dc:creator>Valery Tschopp</dc:creator>
  <dc:description/>
  <cp:keywords/>
  <dc:language>en-US</dc:language>
  <cp:lastModifiedBy>Valery Tschopp</cp:lastModifiedBy>
  <dcterms:modified xsi:type="dcterms:W3CDTF">2011-05-31T07:58:15Z</dcterms:modified>
  <cp:revision>222</cp:revision>
  <dc:subject/>
  <dc:title>Argus - EMI Authorization Integration</dc:title>
</cp:coreProperties>
</file>