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9F18-62B9-42EE-B3C7-42B2FED67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DC71-026F-416C-BD53-7AD0C9FFA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A07B-D434-43CC-94EE-AC9797412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3428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364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0456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3428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364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B18B-F1A4-4071-89AC-55B0ED3B6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B7D4E-7E0A-4749-AE66-B932D964C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E23C5-0788-4195-BF48-242A97F84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948D0-CFA6-4923-8264-C5180CBCE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03610-6264-46A0-8A7F-E5ECE3DBC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42742-93FE-4F42-B0F9-BB44C7996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32B5B-4418-4481-9930-F2CC5ECD8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FED9B-D7E3-4A87-8A36-A923D8B4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ADA6-2683-455E-AFAE-124556FB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B50BD-7F3E-4E82-93DB-9DC1A2BA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86C5E-9EDF-46D0-B53E-1D07156F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68645-B184-49AB-8CF2-05BFBBCA4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B0FCA-3430-42F1-934F-5693DD291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73428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6364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20456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73428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6364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42142-1379-48B1-99A9-84A05EEA0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E9FB3-3607-40DD-8C0E-F7D361CA1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CFFDB-CD4C-44D9-B056-BBA56ED97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1342B-6FE7-4FF7-A544-D37D8EE14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5F25E-9A87-4E44-83DB-FC547252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AFD33-ED76-4C9D-8E6B-CCB23DC11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0F81-B408-487F-BB00-286BC3C28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5AA85-CDA3-42C2-B4DA-0E82FB7E2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BF39F-5CCD-4334-85CC-4496096A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A5A4A-583F-465A-9A39-85873E35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BC2B1-1166-4DDC-8142-C11ABE8A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B9D40-F9F5-4A15-B53A-63AF60FF6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C05F9-8C64-43CD-9DF1-E982F31C1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73428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26364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20456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73428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26364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B7E2C-EC12-4D57-943F-BF5DDB956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5625-AD08-4DA5-AC8A-0EC2EAC28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FFA2-30DE-4A51-B2C1-5288C9EDF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C475-5252-43BC-85A4-E6F8A770F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4B99-DFDA-4298-B568-C9202B70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7943-8570-4CA3-842B-B5D42D9E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748E-6A98-46C4-8B4C-8E9F0FA4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109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0456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a6a6a6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19120" y="6357960"/>
            <a:ext cx="3894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08DAF-0D76-4B83-AD0D-7210B33AAFE4}" type="slidenum">
              <a:rPr b="0" lang="en-GB" sz="12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10"/>
          <p:cNvSpPr/>
          <p:nvPr/>
        </p:nvSpPr>
        <p:spPr>
          <a:xfrm rot="10800000">
            <a:off x="0" y="4220640"/>
            <a:ext cx="369720" cy="17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4" descr="C:\Dokumente und Einstellungen\nl\Eigene Dateien\Aufträge 2009-JSC\EMI-PPT-Template\streifen.png"/>
          <p:cNvPicPr/>
          <p:nvPr/>
        </p:nvPicPr>
        <p:blipFill>
          <a:blip r:embed="rId2"/>
          <a:stretch/>
        </p:blipFill>
        <p:spPr>
          <a:xfrm>
            <a:off x="-36360" y="0"/>
            <a:ext cx="676080" cy="6858000"/>
          </a:xfrm>
          <a:prstGeom prst="rect">
            <a:avLst/>
          </a:prstGeom>
          <a:ln w="0">
            <a:noFill/>
          </a:ln>
        </p:spPr>
      </p:pic>
      <p:sp>
        <p:nvSpPr>
          <p:cNvPr id="7" name="TextBox 10"/>
          <p:cNvSpPr/>
          <p:nvPr/>
        </p:nvSpPr>
        <p:spPr>
          <a:xfrm rot="10800000">
            <a:off x="75960" y="5094360"/>
            <a:ext cx="3697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fbfb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3"/>
          <a:stretch/>
        </p:blipFill>
        <p:spPr>
          <a:xfrm rot="16200000">
            <a:off x="-173520" y="4502880"/>
            <a:ext cx="83664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9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0"/>
          <p:cNvSpPr/>
          <p:nvPr/>
        </p:nvSpPr>
        <p:spPr>
          <a:xfrm rot="10800000">
            <a:off x="0" y="4220640"/>
            <a:ext cx="369720" cy="17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C:\Dokumente und Einstellungen\nl\Eigene Dateien\Aufträge 2009-JSC\EMI-PPT-Template\streifen.png"/>
          <p:cNvPicPr/>
          <p:nvPr/>
        </p:nvPicPr>
        <p:blipFill>
          <a:blip r:embed="rId2"/>
          <a:stretch/>
        </p:blipFill>
        <p:spPr>
          <a:xfrm>
            <a:off x="-36360" y="0"/>
            <a:ext cx="67608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10"/>
          <p:cNvSpPr/>
          <p:nvPr/>
        </p:nvSpPr>
        <p:spPr>
          <a:xfrm rot="10800000">
            <a:off x="75960" y="5094360"/>
            <a:ext cx="3697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fbfb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"/>
          <p:cNvPicPr/>
          <p:nvPr/>
        </p:nvPicPr>
        <p:blipFill>
          <a:blip r:embed="rId3"/>
          <a:stretch/>
        </p:blipFill>
        <p:spPr>
          <a:xfrm rot="16200000">
            <a:off x="-173520" y="4502880"/>
            <a:ext cx="836640" cy="3524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1"/>
          <p:cNvSpPr/>
          <p:nvPr/>
        </p:nvSpPr>
        <p:spPr>
          <a:xfrm>
            <a:off x="0" y="0"/>
            <a:ext cx="1049400" cy="6858000"/>
          </a:xfrm>
          <a:prstGeom prst="rect">
            <a:avLst/>
          </a:prstGeom>
          <a:solidFill>
            <a:srgbClr val="01092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109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120456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ff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319120" y="6357960"/>
            <a:ext cx="3894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01643-A75D-41DC-A236-CD866D2981B9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0"/>
          <p:cNvSpPr/>
          <p:nvPr/>
        </p:nvSpPr>
        <p:spPr>
          <a:xfrm rot="10800000">
            <a:off x="0" y="4220640"/>
            <a:ext cx="369720" cy="17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C:\Dokumente und Einstellungen\nl\Eigene Dateien\Aufträge 2009-JSC\EMI-PPT-Template\streifen.png"/>
          <p:cNvPicPr/>
          <p:nvPr/>
        </p:nvPicPr>
        <p:blipFill>
          <a:blip r:embed="rId2"/>
          <a:stretch/>
        </p:blipFill>
        <p:spPr>
          <a:xfrm>
            <a:off x="-36360" y="0"/>
            <a:ext cx="67608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10"/>
          <p:cNvSpPr/>
          <p:nvPr/>
        </p:nvSpPr>
        <p:spPr>
          <a:xfrm rot="10800000">
            <a:off x="75960" y="5094360"/>
            <a:ext cx="3697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fbfb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3"/>
          <a:stretch/>
        </p:blipFill>
        <p:spPr>
          <a:xfrm rot="16200000">
            <a:off x="-173520" y="4502880"/>
            <a:ext cx="836640" cy="3524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109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120456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518C2-9861-4C8A-9C15-5B356E832A8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s://twiki.cern.ch/twiki/bin/view/EGEE/AuthorizationFramework" TargetMode="External"/><Relationship Id="rId2" Type="http://schemas.openxmlformats.org/officeDocument/2006/relationships/hyperlink" Target="https://twiki.cern.ch/twiki/bin/view/EMI/ArgusSRC" TargetMode="External"/><Relationship Id="rId3" Type="http://schemas.openxmlformats.org/officeDocument/2006/relationships/hyperlink" Target="https://twiki.cern.ch/twiki/bin/view/EGEE/AuthZPAPCLI" TargetMode="External"/><Relationship Id="rId4" Type="http://schemas.openxmlformats.org/officeDocument/2006/relationships/hyperlink" Target="https://twiki.cern.ch/twiki/bin/view/EGEE/SimplifiedPolicyLanguage" TargetMode="External"/><Relationship Id="rId5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9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7" descr="EMI-Europ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6"/>
          <p:cNvSpPr/>
          <p:nvPr/>
        </p:nvSpPr>
        <p:spPr>
          <a:xfrm>
            <a:off x="571680" y="407880"/>
            <a:ext cx="8001000" cy="6021360"/>
          </a:xfrm>
          <a:prstGeom prst="rect">
            <a:avLst/>
          </a:prstGeom>
          <a:solidFill>
            <a:srgbClr val="ffffff">
              <a:alpha val="7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706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0253f"/>
                </a:solidFill>
                <a:latin typeface="Arial"/>
              </a:rPr>
              <a:t>Argus</a:t>
            </a:r>
            <a:br>
              <a:rPr sz="4400"/>
            </a:br>
            <a:r>
              <a:rPr b="1" lang="en-GB" sz="3600" spc="-1" strike="noStrike">
                <a:solidFill>
                  <a:srgbClr val="10253f"/>
                </a:solidFill>
                <a:latin typeface="Arial"/>
              </a:rPr>
              <a:t>The EMI Authorization Service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44625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0253f"/>
                </a:solidFill>
                <a:latin typeface="Calibri"/>
              </a:rPr>
              <a:t>Valery Tschopp (SWITCH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0253f"/>
                </a:solidFill>
                <a:latin typeface="Calibri"/>
              </a:rPr>
              <a:t>Argus Product Team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pic>
        <p:nvPicPr>
          <p:cNvPr id="140" name="Picture 5" descr="C:\Dokumente und Einstellungen\nl\Eigene Dateien\Aufträge 2009-JSC\EMI-PPT-Template\EMI_Logo_newest.png"/>
          <p:cNvPicPr/>
          <p:nvPr/>
        </p:nvPicPr>
        <p:blipFill>
          <a:blip r:embed="rId2"/>
          <a:stretch/>
        </p:blipFill>
        <p:spPr>
          <a:xfrm>
            <a:off x="3022560" y="1106640"/>
            <a:ext cx="309888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947880" y="824040"/>
            <a:ext cx="79516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Open ports (firewall): 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AP: 8150 (pap-admin, policies distribution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EP Server: 8154 (PEP client connections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Log and audit files: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/var/log/argus/(pap|pdp|pepd)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Init scripts: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/etc/init.d/argus-pap {start|stop|status}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/etc/init.d/argus-pdp {start|stop|status|reloadpolicy}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/etc/init.d/argus-pepd {start|stop|status|clearcache}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  <a:ea typeface="Courier New"/>
              </a:rPr>
              <a:t>Nagios plugins available to monitor the servic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Service Operations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86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B6697-671A-414B-9907-8BA47BCC5AB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1204560" y="824040"/>
            <a:ext cx="776772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is designed to answer the questions: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10920"/>
                </a:solidFill>
                <a:latin typeface="Calibri"/>
              </a:rPr>
              <a:t>Can user X perform action Y on resource Z?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10920"/>
                </a:solidFill>
                <a:latin typeface="Calibri"/>
              </a:rPr>
              <a:t>Is user X banned?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ERMIT decision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Allow to authorize users to perform an action on a resourc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DENY decision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Allow to ban users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Both can be expressed with XACML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uthorization Policies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91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81C11-9900-4668-8B08-879AF5AF2A1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XACML policies !?!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uthorization Policies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96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1CA7D-0E08-4935-A97E-4317C26CB98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Content Placeholder 1"/>
          <p:cNvSpPr/>
          <p:nvPr/>
        </p:nvSpPr>
        <p:spPr>
          <a:xfrm>
            <a:off x="933480" y="1555920"/>
            <a:ext cx="781380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PolicySet xmlns:xacml="urn:oasis:names:tc:xacml:2.0:policy:schema:os”PolicyCombiningAlgId="urn:oasis:names:tc:xacml:1.0:policy-combining-algorithm:first-applicable" PolicySetId="9784d9ce-16a9-41b9-9d26-b81a97f93616" Version="1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Target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Resource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Resour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ResourceMatch MatchId="urn:oasis:names:tc:xacml:1.0:function:string-regexp-match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ttributeValue DataType="http://www.w3.org/2001/XMLSchema#string"&gt;.*&lt;/xacml:AttributeValu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ResourceAttributeDesignator AttributeId="urn:oasis:names:tc:xacml:1.0:resource:resource-id" DataType="http://www.w3.org/2001/XMLSchema#string" MustBePresent="fals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ResourceMatc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Resour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Resource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Target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PolicyIdReference&gt;public_2d8346b8-5cd2-44ad-9ad1-0eff5d8a6ef1&lt;/xacml:PolicyIdReferen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PolicySet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Policy xmlns:xacml="urn:oasis:names:tc:xacml:2.0:policy:schema:os” PolicyId="public_2d8346b8-5cd2-44ad-9ad1-0eff5d8a6ef1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	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RuleCombiningAlgId="urn:oasis:names:tc:xacml:1.0:rule-combining-algorithm:first-applicable" Version="1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Target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ction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ctio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ctionMatch MatchId="urn:oasis:names:tc:xacml:1.0:function:string-regexp-match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ttributeValue DataType="http://www.w3.org/2001/XMLSchema#string"&gt;.*&lt;/xacml:AttributeValu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ctionAttributeDesignator AttributeId="urn:oasis:names:tc:xacml:1.0:action:action-id" DataType="http://www.w3.org/2001/XMLSchema#string" MustBePresent="fals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ActionMatc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Actio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Action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Target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Rule Effect="Deny" RuleId="43c15124-6635-47ee-b13c-53f672d0de77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roblem?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XACML not easy to read and/or understand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XACML not easy to write, prone to error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olution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Hide the XACML language complexity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Introduce a Simplified Policy Language (SPL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rovide administrators with simple tool to manage the policies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pap-admin </a:t>
            </a: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to create, edit, delete permit/deny policy rules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uthorization Policies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02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8FEC6-BBA5-4937-AC21-38EA2BF4936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Ban a particular user by DN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resource ".*" {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action ".*" {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rule deny { 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subject="/C=CH/O=SWITCH/CN=Valery Tschopp" }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ermit ATLAS users (FQAN) to execute a job on a worker node (WN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resource "http://grid.switch.ch/wn" {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action "http://glite.org/xacml/action/execute" {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rule permit { fqan="/atlas" }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Simplified Policy Language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07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64D12-EB7E-4F7B-863E-44C15308149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dministrator’s tool to manage the PAP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olicies management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AP server management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AP authorization management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mple way to ban user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mple way to create, edit and delete authorization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pap-admin Tool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12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8B1B6-B4D2-4534-82B9-097854E8D0D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25320" y="824040"/>
            <a:ext cx="829152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reate authorization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ermit a user by distinguished name (DN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$ pap-admin add-policy 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--resource “http://grid.switch.ch/wn” 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--action “http://glite.org/xacml/action/execute”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permit subject="CN=Valery Tschopp,O=SWITCH,C=ch”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ermit users by primary FQAN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$ pap-admin ap 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--resource “http://grid.switch.ch/wn” 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--action “http://glite.org/xacml/action/execute”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permit pfqan=”/atlas”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Ban a user for any action and resourc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$ pap-admin ban subject "CN=John Doe,O=ACME,C=org”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pap-admin Tool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17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53F26-D4F1-47BF-B48A-FF8E503F593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625320" y="824040"/>
            <a:ext cx="829152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Listing existing authorization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$ pap-admin lp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Enter the passphrase for the private key /home/tschopp/.globus/userkey.pem:  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default (local):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resource ”.*" {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action ”.*" {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</a:t>
            </a: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rule deny { subject="CN=John Doe,O=ACME,C=org” }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resource ”http://grid.switch.ch/atlas-cluster" {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obligation "http://glite.org/xacml/obligation/local-environment-map" { }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action ”http://glite.org/xacml/action/execute" {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</a:t>
            </a: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rule permit { pfqan="/atlas" }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</a:t>
            </a: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rule permit { 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subject="CN=Valery Tschopp,O=SWITCH,C=ch”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</a:t>
            </a: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pap-admin Tool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22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4F953-DB67-4093-884C-3C263269C82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ayload is downloaded on the WN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gLExec runs it under the end-user identity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Pilot Jobs Authorization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27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0BCF8-09FA-44EE-A6A8-1B9A72FF691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7" descr="PilotJobAuthZ.png"/>
          <p:cNvPicPr/>
          <p:nvPr/>
        </p:nvPicPr>
        <p:blipFill>
          <a:blip r:embed="rId1"/>
          <a:stretch/>
        </p:blipFill>
        <p:spPr>
          <a:xfrm>
            <a:off x="1469880" y="2290680"/>
            <a:ext cx="673740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736560" y="824040"/>
            <a:ext cx="819000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ilot Job Policy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resource ”http://grid.switch.ch/wn" {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obligation "http://glite.org/xacml/obligation/local-environment-map" { }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action ”http://glite.org/xacml/action/execute" {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</a:t>
            </a: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rule permit { 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</a:t>
            </a: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pfqan="/atlas/Role=pilot" 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</a:t>
            </a: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</a:t>
            </a: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rule permit { 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</a:t>
            </a: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fqan=”/atlas/analysis”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</a:t>
            </a: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Pilot Job Authorization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33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24352-11D6-4DB1-B6AF-F7587604C7C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Authorization Service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rvice Deploymen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uthorization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mplified Policy Language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ap-admin Too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ilot Jobs Authorization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1.3 EMI-1 Release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onclusion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42" name="Date Placeholder 2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oter Placeholder 3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E9086-1040-4A9F-BFF0-662DEFD38B2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1204560" y="824040"/>
            <a:ext cx="772164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1.3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Compatible with gLite 3.2 Argus PEP client libraries (C and Java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Support for LFC/DPM banning engin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Bug fixes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Will be released for EMI-1 (end April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Is it a problem for gLite 3.2 site ?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Install the Argus 1.3 EMI-1 service (standalone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Keep the existing gLite 3.2 applications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1.3 EMI-1 Release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38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F38AE-7FEE-4E71-9814-79CBE61B186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Global banning list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te specific authorization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Experiment specific authorization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onsistent authorization decisions across the whole middleware stack (CE, WN, …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ilot Jobs authorization and mapping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mple tool to manage authorization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42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8B94D-C6D9-4751-9584-8ED9001AF9C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000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45" name="Date Placeholder 6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General documentation </a:t>
            </a:r>
            <a:br>
              <a:rPr sz="2800"/>
            </a:b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twiki.cern.ch/twiki/bin/view/EGEE/AuthorizationFramework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Service Reference Card </a:t>
            </a:r>
            <a:br>
              <a:rPr sz="2800"/>
            </a:b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s://twiki.cern.ch/twiki/bin/view/EMI/ArgusSRC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AP admin CLI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s://twiki.cern.ch/twiki/bin/view/EGEE/AuthZPAPCLI</a:t>
            </a: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Simplified Policy Language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s://twiki.cern.ch/twiki/bin/view/EGEE/SimplifiedPolicyLanguage</a:t>
            </a: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Documentation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48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F16C4-C1A8-4A27-B6A3-2F61A532EF5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GGUS Tickets (ARGUS Support Unit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https://gus.fzk.de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upport mailing list (e-group):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argus-support@cern.ch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Support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53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7ACC4-F869-4243-A623-AC5FBDA2298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55400" y="4188960"/>
            <a:ext cx="734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Thank you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57" name="Slide Number Placeholder 4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1AB20-5C6F-49CE-9270-A169643FFD07}" type="slidenum">
              <a:rPr b="0" lang="en-GB" sz="12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ooter Placeholder 5"/>
          <p:cNvSpPr/>
          <p:nvPr/>
        </p:nvSpPr>
        <p:spPr>
          <a:xfrm>
            <a:off x="2319480" y="6357960"/>
            <a:ext cx="389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itle 13"/>
          <p:cNvSpPr/>
          <p:nvPr/>
        </p:nvSpPr>
        <p:spPr>
          <a:xfrm>
            <a:off x="979560" y="5002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Calibri"/>
              </a:rPr>
              <a:t>EMI is partially funded by the European Commission under Grant Agreement INFSO-RI-2616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5" descr="C:\Dokumente und Einstellungen\nl\Eigene Dateien\Aufträge 2009-JSC\EMI-PPT-Template\EMI_Logo_newest.png"/>
          <p:cNvPicPr/>
          <p:nvPr/>
        </p:nvPicPr>
        <p:blipFill>
          <a:blip r:embed="rId1"/>
          <a:stretch/>
        </p:blipFill>
        <p:spPr>
          <a:xfrm>
            <a:off x="1006560" y="785880"/>
            <a:ext cx="7572240" cy="3179520"/>
          </a:xfrm>
          <a:prstGeom prst="rect">
            <a:avLst/>
          </a:prstGeom>
          <a:ln w="0">
            <a:noFill/>
          </a:ln>
        </p:spPr>
      </p:pic>
      <p:sp>
        <p:nvSpPr>
          <p:cNvPr id="261" name="Date Placeholder 8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a6a6a6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64720" y="824040"/>
            <a:ext cx="782172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Renders consistent authorization decisions based on XACML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920"/>
                </a:solidFill>
                <a:latin typeface="Calibri"/>
              </a:rPr>
              <a:t>Can user X perform action Y on resource Z?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920"/>
                </a:solidFill>
                <a:latin typeface="Calibri"/>
              </a:rPr>
              <a:t>Ban user by DN, FQAN, issuing CA, … !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Authorization Service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48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A7E69-D30B-4ED1-80AF-1BD57DEDEFB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Content Placeholder 6" descr="ARGUS_Components-EMI.png"/>
          <p:cNvPicPr/>
          <p:nvPr/>
        </p:nvPicPr>
        <p:blipFill>
          <a:blip r:embed="rId1"/>
          <a:srcRect l="0" t="-42712" r="0" b="-42712"/>
          <a:stretch/>
        </p:blipFill>
        <p:spPr>
          <a:xfrm>
            <a:off x="865080" y="1670040"/>
            <a:ext cx="8520120" cy="61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PAP: Policy Administration Poin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rovides site administrators with the tools for authoring policies (pap-admin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Stores and manages authored XACML policies 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rovides managed authorization policies to other authorization service components (other PAPs or PDP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Authorization Service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54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37BDF-D700-47E2-BEEB-8311F08EA99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PDP: Policy Decision Poin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olicy evaluation engin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Receives authorization requests from the PEP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Evaluates the authorization requests against the XACML policies retrieved from the PAP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Renders the authorization decision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Authorization Service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59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07CA4-EEB9-47D1-B8AC-D3846BBE9DE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PEP: Policy Execution Poin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Client/Server architectur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Lightweight PEP client libraries (C and Java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EP Server receives the authorization requests from the PEP clients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Applies additional filters to the requests (PIP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Asks the PDP to render an authorization decision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Applies the obligation handler (OH) to determine the user mapping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Authorization Service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64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5D60B-54A0-4544-92C1-48064C7C22B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746280" y="824040"/>
            <a:ext cx="824544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as a service to manage consistent authorization policy based decision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Service Deployment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69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23FF7-B67E-4D33-84F8-A86A24B4BF1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Content Placeholder 6" descr="ArgusIntegration.png"/>
          <p:cNvPicPr/>
          <p:nvPr/>
        </p:nvPicPr>
        <p:blipFill>
          <a:blip r:embed="rId1"/>
          <a:srcRect l="0" t="-6279" r="0" b="-6279"/>
          <a:stretch/>
        </p:blipFill>
        <p:spPr>
          <a:xfrm>
            <a:off x="1658880" y="2023920"/>
            <a:ext cx="6485040" cy="46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Hierarchical distribution of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Service Deployment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75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EA4E9-7ECE-4A81-A512-0AA784180E7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Content Placeholder 6" descr="Argus-EMI_Deployment.png"/>
          <p:cNvPicPr/>
          <p:nvPr/>
        </p:nvPicPr>
        <p:blipFill>
          <a:blip r:embed="rId1"/>
          <a:srcRect l="0" t="-3086" r="0" b="-3086"/>
          <a:stretch/>
        </p:blipFill>
        <p:spPr>
          <a:xfrm>
            <a:off x="1908000" y="1650960"/>
            <a:ext cx="6310440" cy="45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Global banning list (EGI, NGI, …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Local site authorization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Experiment specific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Service Deployment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81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930F2-D58F-4574-8015-A16FFECDB3E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07:49:34Z</dcterms:created>
  <dc:creator>Valery Tschopp</dc:creator>
  <dc:description/>
  <dc:language>en-US</dc:language>
  <cp:lastModifiedBy>Valery Tschopp</cp:lastModifiedBy>
  <dcterms:modified xsi:type="dcterms:W3CDTF">2011-04-12T08:28:33Z</dcterms:modified>
  <cp:revision>144</cp:revision>
  <dc:subject/>
  <dc:title>Argus The EMI Authorization Service</dc:title>
</cp:coreProperties>
</file>