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C55C-6134-4A1A-AFF2-EE541E174F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A1CA-BC96-433E-9AC3-0B2096DA97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00F2-D44A-490B-9D4A-F22E4A2BFC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A9B-9F94-43EA-AC99-6750F5A0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5BE-5646-440D-9B15-08EB2D1D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A31-B1F3-4CF2-BF9B-7891AACE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8A8-1C8D-4A33-80D1-1C27B8D7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53E-6644-47B9-86B1-262E39A4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DEB0-863C-4FC6-A406-19CB7B7C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AB5B-A884-4DFD-997B-70E4B020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80EF-5E08-4673-B378-1CE10EE1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1591-410D-4764-BBBF-5C982EDC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BBBE-2E6D-4BFD-9F97-E038E456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6CF-5CC2-4992-9187-ECE3C3AC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0302-910C-45ED-959D-4E435E71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D84A-B4C2-4169-A68D-24333AC8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DB48-4B64-4FE5-BE45-C570881E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17C6-AE8C-445C-9871-2FD54221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64B3-5ED6-48FF-A260-211C3B16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ABA2-DB1B-458C-8770-C834BEDE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6244-4B2D-416F-A6FD-F420FEC2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DF2E9-F052-4262-95EF-2C25F044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A469-4EA5-4966-AC7C-BABF6BCA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A4C3-11D3-4982-9714-36F2B191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712-33D0-4B97-8725-0AF7735F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FDB56-67B8-4459-86C2-73C1DB15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B65F9-8F8F-4FE9-8CC5-8ABE1947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3ECBC-85CB-4161-ABE8-184A53AD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BE2C0-330C-4E47-9B8C-BFA09770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16EB-E093-4FA0-A3AD-93AAEA32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DA638-E087-47E0-A96D-95421AD3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8C3A2-719F-4ACD-BDAE-67E2B914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13606-5033-4E62-84A5-924B67C7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66D3E-F44A-4609-A76C-FA534414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8447D-2067-422A-86BF-29743974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97D-B794-4BA1-AAD1-ED837766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D2BBD-6075-412D-8E99-B4D55EE0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06DA4-A3F5-4D92-A042-F35C54BD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84FE6-0896-4185-94C7-82E94CB2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38024-916F-4EDC-B621-69802CE1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8CAF9-4F53-4E0A-982B-014C34D7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01A2A-A54A-4DB6-9F38-CCDFC2A8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F8453-4639-46B6-B584-CE19D19B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F0580-78FD-4131-AC60-6087732B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FAD6C-22D4-4969-AA06-6DD56704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4ADE8-6356-4315-BAB4-8ABF1A6C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D2C-9C00-44FE-AECA-2AE63FA3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7D7C2-BC38-424E-9173-AEB62B5F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DEF-FD36-4E1E-9A33-2C57146D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EC9-5743-4ACB-8271-2E2904E4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8A2-E0C0-4DA7-90C5-6CFBF3AB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96200"/>
            <a:ext cx="11048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571760" y="6481800"/>
            <a:ext cx="661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191440" y="647964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7936-C969-4A45-B0A0-700C70E8F9C0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Dokumente und Einstellungen\nl\Eigene Dateien\Aufträge 2009-JSC\EMI-PPT-Template\hintergrund.jpg"/>
          <p:cNvPicPr/>
          <p:nvPr/>
        </p:nvPicPr>
        <p:blipFill>
          <a:blip r:embed="rId2"/>
          <a:stretch/>
        </p:blipFill>
        <p:spPr>
          <a:xfrm>
            <a:off x="0" y="-1908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2703600" y="700200"/>
            <a:ext cx="3843360" cy="16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3423-DFD7-459E-A123-399D011A68A2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kumente und Einstellungen\nl\Eigene Dateien\Aufträge 2009-JSC\EMI-PPT-Template\streifen_50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897E-94EC-48E0-B968-F7F379664B2D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13"/>
          <p:cNvSpPr/>
          <p:nvPr/>
        </p:nvSpPr>
        <p:spPr>
          <a:xfrm>
            <a:off x="506520" y="48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MI is partially funded by the European Commission under Grant Agreement 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1527120" y="1216080"/>
            <a:ext cx="6094440" cy="2558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6E55-4ECD-4B9E-9D2B-19427CD455C6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946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194694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5280" y="2712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Argus Authorization Service</a:t>
            </a:r>
            <a:br>
              <a:rPr sz="4400"/>
            </a:br>
            <a:r>
              <a:rPr b="0" i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Security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240" y="4462560"/>
            <a:ext cx="642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Argus P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Documenta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SimplifiedPolicyLanguag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 admin CLI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ZPAPCLI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tact: 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3C11-2C56-48DB-85E5-65D4C9FCDB61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Documentations &amp; 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4152600"/>
            <a:ext cx="91440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83DC-B6D2-4E96-BFF5-8A67AA87196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9938-DB24-476C-B2B2-3AF8632F8F8B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Authorization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915840" y="795240"/>
            <a:ext cx="78742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s authorization decisions based on XACML poli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user X perform action Y on resource Z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n user by DN, FQAN, issuing CA, …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ArgusAuthorizationService.png"/>
          <p:cNvPicPr/>
          <p:nvPr/>
        </p:nvPicPr>
        <p:blipFill>
          <a:blip r:embed="rId1"/>
          <a:stretch/>
        </p:blipFill>
        <p:spPr>
          <a:xfrm>
            <a:off x="1954080" y="2065320"/>
            <a:ext cx="5457960" cy="2952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1"/>
          <p:cNvSpPr/>
          <p:nvPr/>
        </p:nvSpPr>
        <p:spPr>
          <a:xfrm>
            <a:off x="1104840" y="5543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828720" y="5057640"/>
            <a:ext cx="8183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nages and publishes the authorization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valuates the authorization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solves the user execution environment e.g. UID, GID, pool account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P daem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cesses the PEP thin client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198440" y="1317600"/>
            <a:ext cx="7480440" cy="5381640"/>
          </a:xfrm>
          <a:prstGeom prst="rect">
            <a:avLst/>
          </a:prstGeom>
          <a:ln w="0">
            <a:noFill/>
          </a:ln>
        </p:spPr>
      </p:pic>
      <p:sp>
        <p:nvSpPr>
          <p:cNvPr id="223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0C42-57C5-4EBD-9D4B-06E595B4FBD6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De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ontent Placeholder 4"/>
          <p:cNvSpPr/>
          <p:nvPr/>
        </p:nvSpPr>
        <p:spPr>
          <a:xfrm>
            <a:off x="920880" y="758880"/>
            <a:ext cx="8030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gus as a site service to manage consistent authorization policy base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33120" y="1074240"/>
            <a:ext cx="82105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publishing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daemon: 8154 (PEP client connections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opt/argus/(pap|pdp|pepd)/logs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ap-standalone {start|stop|status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dp {start|stop|status|reloadpolicy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epd {start|stop|status|clearcache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PAP, PDP and PEP daemon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901B-09F2-41CC-A0D3-3AAD3654AE60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Ope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 with XACML polici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24E0-6012-4014-A7E8-FB3A1C135BD3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uthorization Deci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33120" y="1074240"/>
            <a:ext cx="78138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" PolicyCombiningAlgId="urn:oasis:names:tc:xacml:1.0:policy-combining-algorithm:first-applicable" PolicySetId="9784d9ce-16a9-41b9-9d26-b81a97f93616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" PolicyId="public_2d8346b8-5cd2-44ad-9ad1-0eff5d8a6ef1" RuleCombiningAlgId="urn:oasis:names:tc:xacml:1.0:rule-combining-algorithm:first-applicable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D8AA-9D35-413A-B045-D6A539CC708C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understand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read or writ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tools to manage the polici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40A5-2998-43E0-9ACD-13A5D00C73E2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2935-61B7-475E-A1A7-3000FA87EC3D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Simplified Policy Language (SP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933480" y="839520"/>
            <a:ext cx="80452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 active polici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list-polici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mport policies, in SPL format, from a fil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ies-from-file      my-policies.sp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asily ban/un-ban VOs, user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un-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  <a:ea typeface="Courier New"/>
              </a:rPr>
              <a:t>Add a generic policy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y --resource "ce_1" --action ".*" permit </a:t>
            </a:r>
            <a:br>
              <a:rPr sz="2400"/>
            </a:b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testVO/Role=pilot"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80D8-81B7-4E92-A561-0ECA44A689A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pap-admin Command Line To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1:02:51Z</dcterms:created>
  <dc:creator>Valery Tschopp</dc:creator>
  <dc:description/>
  <dc:language>en-US</dc:language>
  <cp:lastModifiedBy>Valery Tschopp</cp:lastModifiedBy>
  <dcterms:modified xsi:type="dcterms:W3CDTF">2010-09-16T11:56:39Z</dcterms:modified>
  <cp:revision>48</cp:revision>
  <dc:subject/>
  <dc:title>Argus Authorization Service Security Training</dc:title>
</cp:coreProperties>
</file>