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2284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2284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DFF4-5ED6-4883-A80D-C7C53F9F26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8F3F-E9E9-4E7D-89E8-3717A0B13B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6182-698A-4B64-AF2F-8E37EA0A2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5769-A94C-400F-8A7B-15C537F7F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F11F-5DA6-402F-9F0D-6E10965BC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D6A1-43B0-444C-8676-8A8AFFB8D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B263-77C2-49E7-B098-89C699D2F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92B8-E803-4D06-A3DB-D607D96A3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2378-42CF-4E7F-9C61-6AFEEADE4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3228-27E5-4D41-9CF2-E2C3AE335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BE01-E3B7-49DC-BA3F-907D71AFF7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829A-4727-4D43-AA91-D29C94091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BF4D-D666-4809-AB53-05DF48F98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0D88-3B42-4AFF-AF23-D456B9CBD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6DD8-A129-4A46-A2E3-4DABA165CD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7836-1260-4B6D-B64E-8B8FFDFDC4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7026-F9D5-49DB-A4EA-36562F291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D154-10AD-4E15-965C-A437EA79D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012B-CF73-4688-938A-50DB42A03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CDD0-E4BB-4B33-971A-FA5A4524A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44E6-195E-4A95-929B-ED29691FC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F9FA-F33B-405C-AAB1-D96832549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3DBC-A602-4D83-9BF6-2D8D9EFD8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78AB-001C-4A0C-801E-E17CA8C71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9E52-485C-40D3-9B15-437976DE2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69DB-663A-4581-A687-17EF3B62C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5294-1195-46D6-8472-C27A08AA5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9749-773A-4F8F-925F-5200C2F02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ROD Workshop June 2,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95B4-EF54-470C-B787-A2A560C67CEB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9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576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3" descr="InfsoMedia_EN_RGB_Hi"/>
          <p:cNvPicPr/>
          <p:nvPr/>
        </p:nvPicPr>
        <p:blipFill>
          <a:blip r:embed="rId5"/>
          <a:stretch/>
        </p:blipFill>
        <p:spPr>
          <a:xfrm>
            <a:off x="6329520" y="5592600"/>
            <a:ext cx="1336680" cy="85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4"/>
          <p:cNvSpPr/>
          <p:nvPr/>
        </p:nvSpPr>
        <p:spPr>
          <a:xfrm>
            <a:off x="5643720" y="6491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5faf"/>
                </a:solidFill>
                <a:latin typeface="Verdana"/>
              </a:rPr>
              <a:t>EGEE and gLite are registered trademarks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b519a"/>
                </a:solidFill>
                <a:latin typeface="Arial"/>
              </a:rPr>
              <a:t>Argus: </a:t>
            </a:r>
            <a:br>
              <a:rPr sz="3600"/>
            </a:br>
            <a:r>
              <a:rPr b="1" lang="en-GB" sz="2800" spc="-1" strike="noStrike">
                <a:solidFill>
                  <a:srgbClr val="2b519a"/>
                </a:solidFill>
                <a:latin typeface="Arial"/>
              </a:rPr>
              <a:t>Genera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60720" y="4019400"/>
            <a:ext cx="6518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Christoph Witzig, SWI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(christoph.witzig@switch.c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8" name="Picture 3" descr="argus_logo.png"/>
          <p:cNvPicPr/>
          <p:nvPr/>
        </p:nvPicPr>
        <p:blipFill>
          <a:blip r:embed="rId1"/>
          <a:stretch/>
        </p:blipFill>
        <p:spPr>
          <a:xfrm>
            <a:off x="6721560" y="2562120"/>
            <a:ext cx="1270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1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enables access for administr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Variable PAP_ADMIN_DN in site-info.def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Listing ACLs of Argus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[witzig@chaos ~]$ pap-admin  list-acl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"/DC=ch/DC=switch/DC=slcs/O=Switch - Teleinformatikdienste fuer Lehre und Forschung/CN=Christoph Witzig 8CA3021D" 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OLICY_READ_LOCAL|POLICY_READ_REMOTE|POLICY_WRITE|CONFIGURATION_READ|CONFIGURATION_WRI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ote: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assphrase for private key will have to be enter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very command supports –h optio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6FE3-512B-4EE1-BB83-51C44CF4C89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2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dding a DN or FQAN to gain full acces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1. Add a D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‘/DC=ch/DC=switch/DC=slcs/O=Switch - Teleinformatikdienste fuer Lehre und Forschung/CN=Christoph Witzig 8CA3021D'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2. Add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. Remove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8B8F-94B2-46BA-8051-92716F80EAD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guring User M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-mapfile and groupmapfile determines the user mapping to username and groupname(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ame format as LCMAPS, same functionalit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e configured through the mandatory YAIM vari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SER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ROUP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te: If manual configuration, then these directories and files have to be created manual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95AF-2182-4F72-B406-3C1BA0F79FE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ing Ar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gios plug-ins are availab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ttps://twiki.cern.ch/twiki/bin/view/EGEE/AuthZNagio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AE6A-D54F-4440-9E4D-35BC33E6E13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1AF9-502E-4EA8-A380-CA3F374A595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mand line interfac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876F-38DC-4DF9-8F93-F81BA1B8373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s C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is operated from the command line (YAIM installed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tarting / stopping / query status of the service compon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ree components PAP, PDP, PEP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/etc/init.d/&lt;component&gt;  &lt;start&gt;&lt;stop&gt;&lt;status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onfigure admin access righ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/remove polici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olicies eith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ed/removed from command lin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mport/export of file in simplified policy languag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ep in mind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use-case simply uses site global banning/unbanning of DNs, FQANs, VOs, C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1A3D-E932-45CE-89E1-34D50D15BB0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ning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un-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a specific resourc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pap-admin ban -r resource_id –a action subject &lt;dn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cisions are taken for a given resource and a given actio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.g. A WN has a resource id and the action may be “execute_pilot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licies are formulated for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ividual resource and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oups of resources and groups of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l resources and all ac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te global enable/disable of a VO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resources and actions permit all users of a given V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ny a user on all WNs for glexec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WN resources and all actions deny user D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ermit VOs only on certain 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1” permit VO “ATLA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2” permit VO “CM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701B-8F21-49A3-9C3D-0C638F5818E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mplified Policy Language (SPL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llows to create more complex policies using a custom synta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olicies are loaded into Argus through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[witzig@chaos ~]$ more test_policy.tx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esource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obligation "http://glite.org/xacml/obligation/local-environment-map" { 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action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atla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cm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ap-admin add-policies-from-file test_policy.tx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A3D7-362F-470D-BF6D-D3F5755A2FE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st polic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Please enter the passphrase for the private key file /home/witzig/.globus/userkey.pem: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"http://glite.org/xacml/obligation/local-environment-map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6D6C-ADC1-48F7-A4E0-E13470E6CFD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9572-7F4D-47DD-A468-3AA4FC6B51C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dering of Poli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 ordering matters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applicable rule determines the resul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http://glite.org/xacml/obligation/local-environment-map {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rule deny { subject="CN=Christoph Witzig 8CA3021D,O=Switch -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Teleinformatikdienste fuer Lehre und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Forschung,DC=slcs,DC=switch,DC=ch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7D53-8F8F-4870-A5C2-2F75AFDA7E5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5600" y="84096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figure glExec on WN to call-out to Ar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twiki.cern.ch/twiki/bin/view/EGEE/AuthZPEPgLExecInst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 test on WN:</a:t>
            </a:r>
            <a:br>
              <a:rPr sz="2400"/>
            </a:b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# pilot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X509_USER_PROXY=${X509_USER_PROXY:-"/tmp/x509up_`id -u`"} 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ayload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GLEXEC_CLIENT_CERT=${GLEXEC_CLIENT_CERT:-$X509_USER_PROXY}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opt/glite/sbin/glexec /usr/bin/id; echo $?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uid=40205(testuseraccount) gid=2013(testusergroup) 0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67F7-7B76-4CD5-B894-41FBFE78F30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mple standalone client is also available: pepcli</a:t>
            </a:r>
            <a:br>
              <a:rPr sz="24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s to be installed separately – tool for testing/debugging </a:t>
            </a:r>
            <a:r>
              <a:rPr b="1" i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only</a:t>
            </a:r>
            <a:br>
              <a:rPr sz="1800"/>
            </a:b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s://twiki.cern.ch/twiki/bin/view/EGEE/AuthZPEPCCL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licy: </a:t>
            </a:r>
            <a:br>
              <a:rPr sz="24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ap-admin ap --resource ".*" --action  ".*" permit vo="switch”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est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epcli -p https://chaos.switch.ch:8154/authz -r my_res  -a my_action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c /tmp/x509up_u964  --cert .globus/usercert.pem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-key .globus/userkey.pem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Resource: my_r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Decision: Permi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Obligation: http://glite.org/xacml/obligation/local-environment-map/posix (caller should resolve POSIX account mapp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Username: dteam026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Group: dtea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E7D4-521B-4EA5-8272-7556AAFF2CE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updates the policies in regular intervals and caches results for performance reas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sequence: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hen modifying policies you must execute the following two commands to make sure they are valid immediately: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olicy is effective immediatel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etc/init.d/pdp reloadpolic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# clear 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/etc/init.d/pepd clear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9008-4ACA-4623-80A0-37B41271F6D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ling list: argus-support@cern.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support unit in G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Wiki: </a:t>
            </a: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ttps://twiki.cern.ch/twiki/bin/view/EGEE/AuthorizationFramework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54C2-488E-4790-B5F9-533596FEF93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4C76-C248-4115-A021-4CE6F2825C9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bout Argu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thZ service design document: https://edms.cern.ch/document/944192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ployment plan: https://edms.cern.ch/document/984088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neral EGEE grid securit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uthorization study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887174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gLite security: architecture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935451/2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C362-46B5-4C83-94DC-4F4AC8E3EDC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ndix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tivation for Argu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B1D1-67B4-49C6-9786-DF244B64D51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8320" y="66240"/>
            <a:ext cx="685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ifferent Services use different authorization mechanism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me services even use internally more than one authorization framewor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do not have simple debugging tools to check and understand their authorization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must configure the authorization for each service at their site separate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1: At a site, there is no single point to ban users/groups of users for the entire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2: many site administrators don’t know how to ban use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re should be a command line tool for banning and un-banning users at a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39B3-36D7-4538-A0D4-13C81301088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re is no central grid-wide banning list to be used during incid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: Urgent ban cannot be taken for granted during incid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s cannot publish their complete authorization policy to the outside worl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rrently only assignment of FQANS (experience of DENY tag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Fixing this problem does not mean that sites MUST publish their authorization polic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 monitoring on authorization decis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26DF-EF79-4E94-BF2F-2EBA4D6E418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n benefit within EGEE-III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ressing the above list of short-coming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sistance to failure and simple means for scaling the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lexible deployment mod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 dependency on a shared file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High availability op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ient component is very lightweigh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mall amount of co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ew dependencies (especially on W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rtability: support on other OS and languages eas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14E0-1566-4C46-9100-2AE11D5F163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gLite Authorization Serv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ed in EGEE-III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ssed staged rollout in April 2010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 EMI: Argus P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sponsible for maintenance and suppor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stitutions: CNAF, HIP, NIKHEF, SWITCH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Attribute-based Authorization servic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ttributes = DN, CA, FQAN, …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nal engine that determines whether a request containing a set of attributes shall be authorized or no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Note abbreviation: authZ = authoriz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5A2A-E9FB-4963-B03C-9CDDB32EC61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 (cont.)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s/eases various authorization tasks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nning of users (VO, WMS, site, or grid wid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osition of policies – CERN policy + experiment policy + CE policy + OCST policy + NGI policy=&gt; Effective polic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more detailed information about the job, action, and execution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attributes other than FQA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multiple credential formats (not just X.509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pport for multiple types of execution environ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rtual machines, workspaces, …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gios plug-ins provided for monitoring of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Exec on WN (multi-user pilot job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159-2352-4B68-BD0A-EC8C191EDE0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21" name="Picture 1030" descr="wn-use-case"/>
          <p:cNvPicPr/>
          <p:nvPr/>
        </p:nvPicPr>
        <p:blipFill>
          <a:blip r:embed="rId1"/>
          <a:stretch/>
        </p:blipFill>
        <p:spPr>
          <a:xfrm>
            <a:off x="1174680" y="1417680"/>
            <a:ext cx="6794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obal Banning li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SCT / EGI CSIRT operates a global banning list (for incident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rgus can be configured to import this global banning l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is by default disabl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(if activated) can be overruled by local admi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FTP (GSI call out)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349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M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(see next slide)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tegration Argus – CREAM currently in develop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ther services are planned in EMI </a:t>
            </a:r>
            <a:r>
              <a:rPr b="1" lang="en-US" sz="2400" spc="-1" strike="noStrike">
                <a:solidFill>
                  <a:srgbClr val="2b519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single point for authorization decisions at a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BCEF-B48E-4B47-8AE7-1EFD9ECE01F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C18B-CC76-41AB-B886-5282A2F6A8B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service_components_ce"/>
          <p:cNvPicPr/>
          <p:nvPr/>
        </p:nvPicPr>
        <p:blipFill>
          <a:blip r:embed="rId1"/>
          <a:stretch/>
        </p:blipFill>
        <p:spPr>
          <a:xfrm>
            <a:off x="588960" y="888840"/>
            <a:ext cx="77389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916E-BE28-4878-9329-643BC097B4E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5216040"/>
            <a:ext cx="858996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Administration Point: Formulating the rules through command line interface and/or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file-based inpu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Decision Point:           Evaluating a request from a client based on the rules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nforcement Point:    Thin client part and server part: all complexity in server pa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Runtime Execution Environment: Under which env. must I run? (UID, GID)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9960" y="1749600"/>
            <a:ext cx="1317600" cy="8413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rules: 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Banning unbann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Pilot job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35" name="Picture 8" descr="service_components"/>
          <p:cNvPicPr/>
          <p:nvPr/>
        </p:nvPicPr>
        <p:blipFill>
          <a:blip r:embed="rId1"/>
          <a:stretch/>
        </p:blipFill>
        <p:spPr>
          <a:xfrm>
            <a:off x="1832040" y="843120"/>
            <a:ext cx="4976640" cy="4414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6281640" y="4226040"/>
            <a:ext cx="2444760" cy="44280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default deployment: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All components on one host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allation and Configuration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C03-0AEB-4EE4-BA84-A08B9CA282A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5600" y="83484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YAIM Installation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ation and configuration of Argus on one host (default configuration) using YAI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(resp. LCMAPS) on WN to call out to Arg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global banning list (if desire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nual install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 three components (PAP, PDP, PEP daemo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figure compon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062720" indent="-2124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cluding administrator access configur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6E1C-A876-49D8-9E19-5AFAA231CBB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2:54:21Z</dcterms:created>
  <dc:creator/>
  <dc:description/>
  <dc:language>en-US</dc:language>
  <cp:lastModifiedBy>Christoph Witzig</cp:lastModifiedBy>
  <cp:lastPrinted>2006-09-26T11:39:25Z</cp:lastPrinted>
  <dcterms:modified xsi:type="dcterms:W3CDTF">2010-06-02T08:45:55Z</dcterms:modified>
  <cp:revision>1293</cp:revision>
  <dc:subject/>
  <dc:title>Title</dc:title>
</cp:coreProperties>
</file>