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DD69-A51C-49FE-A2B5-DF73B872ED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4257-6AEF-4776-8737-111CCECE3B7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7A3A-7381-42A3-B3EB-658557DEFD0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1586-8A1E-4915-95DD-08A456C5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CF9C-0915-4FE6-8733-4D492888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677F-A775-4428-B751-99801EF5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9D17-A1E0-428E-BF3A-177565A86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CFA0-CD4E-46F3-9B88-455EE801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3A9B-800C-4764-BAA6-620FBCB4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B1D3-6D70-4237-899D-A6178C29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1EF2-BB84-4896-8482-D40F6D28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1BD4-A311-4B7A-9EC0-4865E2ED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B860-F5C6-41A2-93E7-8742D8F4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0B03-EE29-42C2-A94E-D7ADD222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B884-4E43-4E7A-90BA-51285969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087D-DBCD-4D54-B701-5C45CF35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8FED-B777-4360-BA6C-E22144BE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F464-6098-416B-9553-F37FB4E7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35DC-2B58-4CC0-9F3E-55611193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1C06-E399-4376-BD9B-82FA957B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D0FB-A9EA-43F3-ADCA-8FF18C5B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C66B9-CDD1-4999-839B-43AFD5D3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8DCBD-2FA4-403C-89D5-ACCD06DB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DAB84-ACEC-4F1B-8CCF-7F11C9E9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A96C-2C73-4A5A-B617-103A3BF4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96518-04CE-4F23-A88C-B053ED65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6286A-44E5-4866-A573-7ECD0062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614F9-2F55-418A-899A-4CCDCB59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E6E74-1730-4D59-88ED-D196F6FC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8F0DC-ADB0-456F-A4D1-C327739A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68EEB-5C23-4BAF-80A7-9049C579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8A021-9B5C-4666-BA79-CF90BA34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A5060-A5DC-400D-9A3D-0BB4240B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CF05A-EAF4-48B3-8E72-C49361A9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553F9-F024-4FCE-A1AF-9C4E653D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B595-FA22-4FDF-AF46-806CE7E4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8529B-EEF5-4DFA-887C-11597017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D2082-DA34-4C70-9D53-E9A22A4C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F820C-56E9-468C-B46F-6ED98C64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98721-F99C-45F8-9620-D2A7B6AF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DC886-486B-4A42-96DB-A3D64314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DBA56-0606-4B51-A9C4-799A1892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A5CE6-269F-43B3-BDC5-1B559374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0E98C-3518-4C55-92AF-33D08B37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D07F6-F687-4557-AED0-7AEC0BA6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51F1C-40E9-4473-BC14-600A6D99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3C46-B622-43BA-9AEC-D431CA3D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31AEC-3978-47F2-875A-1C99898D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41B7-9D9B-4E28-BA3E-34820BE1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159E-C09D-4842-8A8C-544A2646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8E73-2600-4D46-B372-04C1CD75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96200"/>
            <a:ext cx="11048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571760" y="6481800"/>
            <a:ext cx="661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191440" y="647964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1725-3255-4A7C-95E8-267EFB26FBB9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C:\Dokumente und Einstellungen\nl\Eigene Dateien\Aufträge 2009-JSC\EMI-PPT-Template\hintergrund.jpg"/>
          <p:cNvPicPr/>
          <p:nvPr/>
        </p:nvPicPr>
        <p:blipFill>
          <a:blip r:embed="rId2"/>
          <a:stretch/>
        </p:blipFill>
        <p:spPr>
          <a:xfrm>
            <a:off x="0" y="-1908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6"/>
          <p:cNvSpPr/>
          <p:nvPr/>
        </p:nvSpPr>
        <p:spPr>
          <a:xfrm>
            <a:off x="571680" y="407880"/>
            <a:ext cx="8001000" cy="602136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6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2703600" y="700200"/>
            <a:ext cx="3843360" cy="16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0" y="0"/>
            <a:ext cx="67644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0"/>
          <p:cNvSpPr/>
          <p:nvPr/>
        </p:nvSpPr>
        <p:spPr>
          <a:xfrm rot="10800000">
            <a:off x="75960" y="439272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7229520" y="49320"/>
            <a:ext cx="1914480" cy="803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934C-14ED-44DE-87B8-37D2B643E9F0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kumente und Einstellungen\nl\Eigene Dateien\Aufträge 2009-JSC\EMI-PPT-Template\streifen_50.png"/>
          <p:cNvPicPr/>
          <p:nvPr/>
        </p:nvPicPr>
        <p:blipFill>
          <a:blip r:embed="rId2"/>
          <a:stretch/>
        </p:blipFill>
        <p:spPr>
          <a:xfrm>
            <a:off x="0" y="0"/>
            <a:ext cx="67644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0"/>
          <p:cNvSpPr/>
          <p:nvPr/>
        </p:nvSpPr>
        <p:spPr>
          <a:xfrm rot="10800000">
            <a:off x="75960" y="439272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7229520" y="49320"/>
            <a:ext cx="1914480" cy="8031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7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8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9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9530-11D5-43FB-9EE0-AAF9FF4D1E9C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tle 13"/>
          <p:cNvSpPr/>
          <p:nvPr/>
        </p:nvSpPr>
        <p:spPr>
          <a:xfrm>
            <a:off x="506520" y="4848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</a:rPr>
              <a:t>EMI is partially funded by the European Commission under Grant Agreement RI-261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C:\Dokumente und Einstellungen\nl\Eigene Dateien\Aufträge 2009-JSC\EMI-PPT-Template\EMI_Logo_newest.png"/>
          <p:cNvPicPr/>
          <p:nvPr/>
        </p:nvPicPr>
        <p:blipFill>
          <a:blip r:embed="rId2"/>
          <a:stretch/>
        </p:blipFill>
        <p:spPr>
          <a:xfrm>
            <a:off x="1527120" y="1216080"/>
            <a:ext cx="6094440" cy="2558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dt" idx="10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1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2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31B6-5A87-4CD0-B04F-9233BCAAAD90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4694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946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4694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194694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194694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65280" y="2712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94694"/>
                </a:solidFill>
                <a:latin typeface="Arial"/>
                <a:ea typeface="Arial"/>
              </a:rPr>
              <a:t>Argus Authorization Service</a:t>
            </a:r>
            <a:br>
              <a:rPr sz="4400"/>
            </a:br>
            <a:r>
              <a:rPr b="0" i="1" lang="en-GB" sz="4400" spc="-1" strike="noStrike">
                <a:solidFill>
                  <a:srgbClr val="194694"/>
                </a:solidFill>
                <a:latin typeface="Arial"/>
                <a:ea typeface="Arial"/>
              </a:rPr>
              <a:t>Security 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240" y="4462560"/>
            <a:ext cx="642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94694"/>
                </a:solidFill>
                <a:latin typeface="Calibri"/>
              </a:rPr>
              <a:t>Valery Tschopp (SWITCH)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94694"/>
                </a:solidFill>
                <a:latin typeface="Calibri"/>
              </a:rPr>
              <a:t>Argus PT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Documentation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ttps://twiki.cern.ch/twiki/bin/view/EGEE/AuthorizationFramework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ified Policy Language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ttps://twiki.cern.ch/twiki/bin/view/EGEE/SimplifiedPolicyLanguag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P admin CLI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ttps://twiki.cern.ch/twiki/bin/view/EGEE/AuthZPAPCLI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tact: 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argus-support@cern.ch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5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8C4C-2C8A-4FEC-A7CC-9861FAE9DBDA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Documentations &amp; Cont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4152600"/>
            <a:ext cx="91440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D518-B4A3-4C00-AB3F-68593E93EB3D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50E6-99BD-4CC0-A8CD-4E357A83E6AB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rgus Authorization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915840" y="795240"/>
            <a:ext cx="78742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s authorization decisions based on XACML polic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user X perform action Y on resource Z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n user by DN, FQAN, issuing CA, …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0" descr="ArgusAuthorizationService.png"/>
          <p:cNvPicPr/>
          <p:nvPr/>
        </p:nvPicPr>
        <p:blipFill>
          <a:blip r:embed="rId1"/>
          <a:stretch/>
        </p:blipFill>
        <p:spPr>
          <a:xfrm>
            <a:off x="1954080" y="2065320"/>
            <a:ext cx="5457960" cy="29527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1"/>
          <p:cNvSpPr/>
          <p:nvPr/>
        </p:nvSpPr>
        <p:spPr>
          <a:xfrm>
            <a:off x="1104840" y="5543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2"/>
          <p:cNvSpPr/>
          <p:nvPr/>
        </p:nvSpPr>
        <p:spPr>
          <a:xfrm>
            <a:off x="828720" y="5057640"/>
            <a:ext cx="8183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anages and publishes the authorization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valuates the authorization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solves the user execution environment e.g. UID, GID, pool account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P daem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rocesses the PEP thin client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Content Placeholder 6" descr="ArgusIntegration.png"/>
          <p:cNvPicPr/>
          <p:nvPr/>
        </p:nvPicPr>
        <p:blipFill>
          <a:blip r:embed="rId1"/>
          <a:srcRect l="0" t="-6279" r="0" b="-6279"/>
          <a:stretch/>
        </p:blipFill>
        <p:spPr>
          <a:xfrm>
            <a:off x="1198440" y="1317600"/>
            <a:ext cx="7480440" cy="5381640"/>
          </a:xfrm>
          <a:prstGeom prst="rect">
            <a:avLst/>
          </a:prstGeom>
          <a:ln w="0">
            <a:noFill/>
          </a:ln>
        </p:spPr>
      </p:pic>
      <p:sp>
        <p:nvSpPr>
          <p:cNvPr id="223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0729-1A78-4FC3-8C03-247D9886F67B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rgus Deplo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Content Placeholder 4"/>
          <p:cNvSpPr/>
          <p:nvPr/>
        </p:nvSpPr>
        <p:spPr>
          <a:xfrm>
            <a:off x="920880" y="758880"/>
            <a:ext cx="8030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gus as a site service to manage consistent authorization policy based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933120" y="1074240"/>
            <a:ext cx="82105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Open ports (firewall): 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: 8150 (pap-admin, policies publishing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daemon: 8154 (PEP client connections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og and audit file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opt/argus/(pap|pdp|pepd)/logs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nit script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pap-standalone {start|stop|status}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pdp {start|stop|status|reloadpolicy}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pepd {start|stop|status|clearcache}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  <a:ea typeface="Courier New"/>
              </a:rPr>
              <a:t>Nagios plugins available to monitor the PAP, PDP and PEP daemon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7E66-3A88-4E1F-AB64-EB22ABDA401E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rgus Oper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is designed to answer the question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Decision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authorize users to perform an action on a resourc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Deny Decision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ban user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oth can be express with XACML policie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B31B-9268-4503-AB1A-AEE568ABD5CD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uthorization Deci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33120" y="1074240"/>
            <a:ext cx="781380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Set xmlns:xacml="urn:oasis:names:tc:xacml:2.0:policy:schema:os" PolicyCombiningAlgId="urn:oasis:names:tc:xacml:1.0:policy-combining-algorithm:first-applicable" PolicySetId="9784d9ce-16a9-41b9-9d26-b81a97f93616" Version="1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Match MatchId="urn:oasis:names:tc:xacml:1.0:function:string-regexp-match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AttributeDesignator AttributeId="urn:oasis:names:tc:xacml:1.0:resource:resource-id" DataType="http://www.w3.org/2001/XMLSchema#string" MustBePresent="false"/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Match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IdReference&gt;public_2d8346b8-5cd2-44ad-9ad1-0eff5d8a6ef1&lt;/xacml:PolicyIdReferenc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PolicyS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 xmlns:xacml="urn:oasis:names:tc:xacml:2.0:policy:schema:os" PolicyId="public_2d8346b8-5cd2-44ad-9ad1-0eff5d8a6ef1" RuleCombiningAlgId="urn:oasis:names:tc:xacml:1.0:rule-combining-algorithm:first-applicable" Version="1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Match MatchId="urn:oasis:names:tc:xacml:1.0:function:string-regexp-match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AttributeDesignator AttributeId="urn:oasis:names:tc:xacml:1.0:action:action-id" DataType="http://www.w3.org/2001/XMLSchema#string" MustBePresent="false"/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Match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ule Effect="Deny" RuleId="43c15124-6635-47ee-b13c-53f672d0de77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...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0D8E-AE4A-417A-A210-D6767CED333B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XACML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roblem?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Not easy to understand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Not easy to read or writ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ide the XACML language complexity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troduce a Simplified Policy Language (SPL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 tools to manage the policie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</a:t>
            </a: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to create, edit, delete permit/deny policy rule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4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9BA6-380F-42F6-8439-1F0BCF2CDAD6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XACML Policy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Atlas users (FQAN) to execute a job on a worker node (WN)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http://grid.switch.ch/wn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http://glite.org/xacml/action/execute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fqan="/atlas" 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an a particular user by DN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.*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.*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deny { 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subject="/C=CH/O=SWITCH/CN=Valery Tschopp" 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4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2102-AB1C-434F-800E-3425D0ACDBB9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Simplified Policy Language (SP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933480" y="839520"/>
            <a:ext cx="80452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ist active policie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list-policie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mport policies, in SPL format, from a file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add-policies-from-file      my-policies.spl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asily ban/un-ban VOs, user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ban vo testVO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un-ban vo testVO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  <a:ea typeface="Courier New"/>
              </a:rPr>
              <a:t>Add a generic policy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add-policy --resource "ce_1" --action ".*" permit </a:t>
            </a:r>
            <a:br>
              <a:rPr sz="2400"/>
            </a:b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fqan="/testVO/Role=pilot"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5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8514-D205-4773-B572-DAF715C60197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pap-admin Command Line To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1:02:51Z</dcterms:created>
  <dc:creator>Valery Tschopp</dc:creator>
  <dc:description/>
  <dc:language>en-US</dc:language>
  <cp:lastModifiedBy>Valery Tschopp</cp:lastModifiedBy>
  <dcterms:modified xsi:type="dcterms:W3CDTF">2010-09-16T11:56:39Z</dcterms:modified>
  <cp:revision>48</cp:revision>
  <dc:subject/>
  <dc:title>Argus Authorization Service Security Training</dc:title>
</cp:coreProperties>
</file>