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491-751A-4A0B-9F8B-76C1201D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8C9-0D6F-4681-8703-F4A31741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6C6-A2DC-47C4-842E-23C6C461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FD3-9E4A-4477-91D3-E639A422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F10C-E128-4A71-9285-24DA1D84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5A5B-C230-47AD-A08C-3A6236D3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E759-7FC2-451E-99F0-022EC0F6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094D-F34A-466B-A625-28880E34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7164-D3A2-43BC-9A6A-D795D62F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9E62-7AA0-4A57-86A3-ACF22BD4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BF71-0563-43C3-9A1B-B2106ABC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F58-9362-447B-8B50-271A22CF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BCFA-00B3-4232-9D61-ED28E985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80D6-289C-442C-A67A-F468113D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00BF-5F48-453A-B37E-BDB8029A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FC62-F60A-4CA2-B366-A5C912D4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CD3A-FE9C-4158-8DD8-5ABAA9FD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EA6D-FE3D-4CE2-A49C-6538AEA0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0680-3BBA-44C5-889E-F82BE269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753D-89B3-4F52-A81E-43C6FC37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F0B5-4432-408C-83B4-1F2A0351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6E61-5A8E-47C5-9138-D8E03EA0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D8D-BD1C-4E83-B7DB-DEDCC746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14D6-147D-487C-8B43-75E5679A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F797-0D91-4385-963C-11B3524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7A51-348C-429D-9C74-6DAEA427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859B-DE56-4A7E-BEB3-E2216476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2142-3C63-40F4-9FFC-8674AD91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8688-8910-4815-88E1-EA2A6043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EFB8-49F4-497E-8198-E1C4CCFB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500-937D-4147-A82A-22DBE157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362-C03B-4713-A6C6-1D16D27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C8F-250B-4847-8B06-5F161E05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8E8-D863-4497-B145-889F72E5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32C-3599-4BD9-9352-6D38C528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B59-8DE3-4311-94D9-4EA9FDBB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F6B8-1CE2-4364-A612-FED0AED5D728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24A0-77B6-4420-AB3A-B66FC4B533F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CC4F-A72B-4EC6-9711-6E0ACF3FA1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4000" spc="-1" strike="noStrike">
                <a:solidFill>
                  <a:srgbClr val="10253f"/>
                </a:solidFill>
                <a:latin typeface="Arial"/>
              </a:rPr>
              <a:t>EMI Authorization Integration</a:t>
            </a:r>
            <a:endParaRPr b="1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84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7C5F-8DE3-4E64-921C-C7D5B48FAC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0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7C18-7946-43FD-89DF-5D6A3EE477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Argus-EMI_Deployment.png"/>
          <p:cNvPicPr/>
          <p:nvPr/>
        </p:nvPicPr>
        <p:blipFill>
          <a:blip r:embed="rId1"/>
          <a:stretch/>
        </p:blipFill>
        <p:spPr>
          <a:xfrm>
            <a:off x="1816200" y="1562040"/>
            <a:ext cx="6468840" cy="438300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6B29-A634-4FF1-9531-9661B7513D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PilotJobAuthZ.png"/>
          <p:cNvPicPr/>
          <p:nvPr/>
        </p:nvPicPr>
        <p:blipFill>
          <a:blip r:embed="rId1"/>
          <a:stretch/>
        </p:blipFill>
        <p:spPr>
          <a:xfrm>
            <a:off x="1590840" y="2319480"/>
            <a:ext cx="6719760" cy="3536640"/>
          </a:xfrm>
          <a:prstGeom prst="rect">
            <a:avLst/>
          </a:prstGeom>
          <a:ln w="0">
            <a:noFill/>
          </a:ln>
        </p:spPr>
      </p:pic>
      <p:sp>
        <p:nvSpPr>
          <p:cNvPr id="198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(EMI-1 release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ck-compatible with gLite 3.2 Argus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Next Argus release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</a:t>
            </a:r>
            <a:r>
              <a:rPr b="0" i="1" lang="en-US" sz="2800" spc="-1" strike="noStrike">
                <a:solidFill>
                  <a:srgbClr val="010920"/>
                </a:solidFill>
                <a:latin typeface="Calibri"/>
              </a:rPr>
              <a:t>EMI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egration with UNICORE and A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Releas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4E4E-C31B-49CD-970B-F09169B3F0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 ongo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EMI middleware stack (CE, WN, SE, UNICORE, ARC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easy to manage and distribute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4986-0272-40DC-86AD-DE4CE6A401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gus.eu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1752-D99E-4285-8204-DA5FD45A6D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6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9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272B-590A-41F3-A2A0-2A05252D3AF0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11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Releas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D268-067B-481E-BF8C-968AFA7FC0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48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C408-F9D9-43BA-BF4D-445B06E25A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e Policy Languag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0AB6-0CFB-4084-AB68-8B2125A66D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policies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decision requests from the PEP Server or other components (UNICORE PDP, …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decis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FC85-0CA3-45E6-8C01-0AAD530B82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07680" y="824040"/>
            <a:ext cx="85359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nforcement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decis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nds authorization decision (with obligations) back to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9F7-2E87-47D5-926E-16CCC350A6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common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Define a common set of XACML authorization attribut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omogenous and consistent authorization decisions across the EMI middlewa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file released, but still need to be implemented f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MI/EmiJra1T4XACM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ommon XACML Authorization Profil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8533-37C5-4DCF-89EE-74EA8BDC24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-1 release authorization statu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uting Element (C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CREAM CE integrated with Argu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orker Node (WN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gLExec with LCMAPS PEP plugin for pilot job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PM/LFC banning engin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Cache authorization plugin (available in EMI-1, not enabled by default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F858-7003-48FC-9EFC-591D70BFA1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uture work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gus update to support new profil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Extend the simple policy language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Define the new XACML attribute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StoRM authorization (banning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MI Execution Service (ES) integration??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3169-C116-454F-91B7-C38F9DF5E6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7:44:16Z</dcterms:created>
  <dc:creator>Valery Tschopp</dc:creator>
  <dc:description/>
  <cp:keywords/>
  <dc:language>en-US</dc:language>
  <cp:lastModifiedBy>Valery Tschopp</cp:lastModifiedBy>
  <dcterms:modified xsi:type="dcterms:W3CDTF">2011-05-31T07:58:15Z</dcterms:modified>
  <cp:revision>222</cp:revision>
  <dc:subject/>
  <dc:title>Argus - EMI Authorization Integration</dc:title>
</cp:coreProperties>
</file>