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46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382284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06120" y="74088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4"/>
          </p:nvPr>
        </p:nvSpPr>
        <p:spPr>
          <a:xfrm>
            <a:off x="0" y="93736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5"/>
          </p:nvPr>
        </p:nvSpPr>
        <p:spPr>
          <a:xfrm>
            <a:off x="3822840" y="93736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A70A-DCA5-4E01-9586-58626D20DD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28FB-241D-46C4-818D-3619C4D893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E3A3-60E4-4500-8B65-2C24734057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7DB9-22B3-4E01-B64C-3EF3788658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D0E1-9CDA-47B6-A2C8-9A09929843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0363-1B1F-4539-8843-754C2A0C70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EDC0-8EB5-4B42-8219-7E877BBDD5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A50A-B81D-4BE5-AEA7-A6BD36F62B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DAAF-2C58-4AD0-9CEF-20AFA6A27A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C126-952F-4D58-9D18-17BB536B73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D0A0-88E7-48BB-91E1-A1C08D954E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F519-BDA9-40D6-B08B-2D9AA4FFBC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0863-E45E-475A-81A0-9E7593589C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0858-7855-46DD-83F9-49720E9F54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C9BC-426A-445A-A5B9-85BF8935AB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F3DC-5DC9-451D-A7B1-420DE8AE14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DB668-E32E-4DA2-8221-3E0F24E2C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E2782-478B-47C7-A5C5-462F0B530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9E848-DF76-4DBB-857C-DF18300A4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7AFD6-5521-425C-A66A-98F4A6756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9AE31-58F8-4B2A-B850-015658415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7AA61-63E4-4AF5-A5B0-7F83A2CC5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874B6-4F97-4744-BF2B-D0DE0A281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1961A-01DC-4D99-AB86-222AF0CEA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502DD-FDE0-4C55-AD51-876899E38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2C05C-7658-441F-AEBC-2FFB2A4AA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385C3-2397-4917-915A-B4BBD6BFD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2D694-6502-4765-B289-9AB0D5629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ROD Workshop June 2,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6642-647E-4CE9-9506-5390C97DA8BD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7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1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9" name="Rectangle 24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0" name="Rectangle 31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1" name="Rectangle 39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2" name="Oval 40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3" name="Picture 46" descr="eu_logo2"/>
          <p:cNvPicPr/>
          <p:nvPr/>
        </p:nvPicPr>
        <p:blipFill>
          <a:blip r:embed="rId2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8"/>
          <p:cNvSpPr/>
          <p:nvPr/>
        </p:nvSpPr>
        <p:spPr>
          <a:xfrm>
            <a:off x="0" y="6491160"/>
            <a:ext cx="29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EGEE-III INFSO-RI-222667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5" name="Picture 53" descr="egee_bigger"/>
          <p:cNvPicPr/>
          <p:nvPr/>
        </p:nvPicPr>
        <p:blipFill>
          <a:blip r:embed="rId3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6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7" name="Picture 59" descr="EGEE 30y"/>
          <p:cNvPicPr/>
          <p:nvPr/>
        </p:nvPicPr>
        <p:blipFill>
          <a:blip r:embed="rId4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2"/>
          <p:cNvSpPr/>
          <p:nvPr/>
        </p:nvSpPr>
        <p:spPr>
          <a:xfrm>
            <a:off x="576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9" name="Picture 63" descr="InfsoMedia_EN_RGB_Hi"/>
          <p:cNvPicPr/>
          <p:nvPr/>
        </p:nvPicPr>
        <p:blipFill>
          <a:blip r:embed="rId5"/>
          <a:stretch/>
        </p:blipFill>
        <p:spPr>
          <a:xfrm>
            <a:off x="6329520" y="5592600"/>
            <a:ext cx="1336680" cy="858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4"/>
          <p:cNvSpPr/>
          <p:nvPr/>
        </p:nvSpPr>
        <p:spPr>
          <a:xfrm>
            <a:off x="5643720" y="64911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5faf"/>
                </a:solidFill>
                <a:latin typeface="Verdana"/>
              </a:rPr>
              <a:t>EGEE and gLite are registered trademarks</a:t>
            </a:r>
            <a:r>
              <a:rPr b="0" lang="en-GB" sz="1800" spc="-1" strike="noStrike">
                <a:solidFill>
                  <a:srgbClr val="325fa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b519a"/>
                </a:solidFill>
                <a:latin typeface="Arial"/>
              </a:rPr>
              <a:t>Argus: </a:t>
            </a:r>
            <a:br>
              <a:rPr sz="3600"/>
            </a:br>
            <a:r>
              <a:rPr b="1" lang="en-GB" sz="2800" spc="-1" strike="noStrike">
                <a:solidFill>
                  <a:srgbClr val="2b519a"/>
                </a:solidFill>
                <a:latin typeface="Arial"/>
              </a:rPr>
              <a:t>General 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160720" y="4019400"/>
            <a:ext cx="651816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Christoph Witzig, SWITCH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(christoph.witzig@switch.ch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08" name="Picture 3" descr="argus_logo.png"/>
          <p:cNvPicPr/>
          <p:nvPr/>
        </p:nvPicPr>
        <p:blipFill>
          <a:blip r:embed="rId1"/>
          <a:stretch/>
        </p:blipFill>
        <p:spPr>
          <a:xfrm>
            <a:off x="6721560" y="2562120"/>
            <a:ext cx="12700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guring Administrator Access (1/2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YAIM enables access for administrato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YAIM Variable PAP_ADMIN_DN in site-info.def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Listing ACLs of Argus: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[witzig@chaos ~]$ pap-admin  list-acl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"/DC=ch/DC=switch/DC=slcs/O=Switch - Teleinformatikdienste fuer Lehre und Forschung/CN=Christoph Witzig 8CA3021D" 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OLICY_READ_LOCAL|POLICY_READ_REMOTE|POLICY_WRITE|CONFIGURATION_READ|CONFIGURATION_WRIT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Note: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passphrase for private key will have to be entere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very command supports –h option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A8C6-5847-4F85-A3DA-4843B841ED15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guring Administrator Access (2/2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dding a DN or FQAN to gain full acces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1. Add a DN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‘/DC=ch/DC=switch/DC=slcs/O=Switch - Teleinformatikdienste fuer Lehre und Forschung/CN=Christoph Witzig 8CA3021D'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2. Add an FQA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'/atlas/Role=VO-Admin’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3. Remove an FQA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'/atlas/Role=VO-Admin’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BFEE-5458-4B7C-BC13-CC2DA450455D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guring User Ma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rid-mapfile and groupmapfile determines the user mapping to username and groupname(s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ame format as LCMAPS, same functionalit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e configured through the mandatory YAIM variabl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USERS_CONF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ROUPS_CONF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ote: If manual configuration, then these directories and files have to be created manuall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38A8-A17B-44D7-98FC-8A8D40C41189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itoring Arg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agios plug-ins are availabl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https://twiki.cern.ch/twiki/bin/view/EGEE/AuthZNagio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33B9-28F7-4024-BC16-AC285F34C728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54CE-D935-41C5-B3A0-DF29C51299C6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stallation and Configur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mmand line interface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093F-79B8-4D1B-8882-0262599A0F98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gus CL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is operated from the command line (YAIM installed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Starting / stopping / query status of the service componen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ree components PAP, PDP, PEP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/etc/init.d/&lt;component&gt;  &lt;start&gt;&lt;stop&gt;&lt;status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Configure admin access righ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Add/remove polici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Policies eithe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Added/removed from command lin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Import/export of file in simplified policy languag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eep in mind: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 use-case simply uses site global banning/unbanning of DNs, FQANs, VOs, CA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17F4-6D3D-42EE-A0AE-718F6D17B0B3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nning Us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ban a user on the entire sit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ban subject &lt;d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ban fqan &lt;fqa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un-ban a user on the entire sit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un-ban subject &lt;d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un-ban fqan &lt;fqa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ban a user on a specific resourc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pap-admin ban -r resource_id –a action subject &lt;dn&gt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Decisions are taken for a given resource and a given action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E.g. A WN has a resource id and the action may be “execute_pilot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olicies are formulated for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Individual resource and action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Groups of resources and groups of action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ll resources and all action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ite global enable/disable of a VO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all resources and actions permit all users of a given VO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ny a user on all WNs for glexec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all WN resources and all actions deny user D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ermit VOs only on certain 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resource “CE_1” permit VO “ATLAS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resource “CE_2” permit VO “CMS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29DC-AC88-4EA0-BBAF-65154DBC9E09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mplified Policy Language (SPL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llows to create more complex policies using a custom syntax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olicies are loaded into Argus through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: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[witzig@chaos ~]$ more test_policy.txt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esource ".*" {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obligation "http://glite.org/xacml/obligation/local-environment-map" { 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action ".*" {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ule permit {vo="atlas"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ule permit {vo="cms"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ap-admin add-policies-from-file test_policy.tx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32AF-6D70-4EF7-AFEE-5837833932F6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List policie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witzig@chaos ~]$ pap-admin list-polici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Please enter the passphrase for the private key file /home/witzig/.globus/userkey.pem: 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default (local):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esource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bligation "http://glite.org/xacml/obligation/local-environment-map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action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atla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cm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E22A-E09E-40BC-A2E5-999498051BC8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04C3-71F0-4EC8-A84F-B1D50D2FECCD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stallation and Configura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mmand line interfac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dering of Polic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: ordering matters: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rst applicable rule determines the resul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witzig@chaos ~]$ pap-admin list-polici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default (local):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esource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bligation http://glite.org/xacml/obligation/local-environment-map {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action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rule deny { subject="CN=Christoph Witzig 8CA3021D,O=Switch -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Teleinformatikdienste fuer Lehre und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Forschung,DC=slcs,DC=switch,DC=ch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atla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cm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A764-0DB2-4F36-AE93-A04570E1A21C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ing Argus Setup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1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45600" y="84096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nfigure glExec on WN to call-out to Arg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53760" indent="-251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twiki.cern.ch/twiki/bin/view/EGEE/AuthZPEPgLExecInstal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53760" indent="-2512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 test on WN:</a:t>
            </a:r>
            <a:br>
              <a:rPr sz="2400"/>
            </a:b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# pilot job prox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export X509_USER_PROXY=${X509_USER_PROXY:-"/tmp/x509up_`id -u`"} 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# payload job prox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export GLEXEC_CLIENT_CERT=${GLEXEC_CLIENT_CERT:-$X509_USER_PROXY}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/opt/glite/sbin/glexec /usr/bin/id; echo $?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uid=40205(testuseraccount) gid=2013(testusergroup) 0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F3C8-6CA0-4639-879E-0802780A904F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ing Argus Setup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 simple standalone client is also available: pepcli</a:t>
            </a:r>
            <a:br>
              <a:rPr sz="2400"/>
            </a:b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Needs to be installed separately – tool for testing/debugging </a:t>
            </a:r>
            <a:r>
              <a:rPr b="1" i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only</a:t>
            </a:r>
            <a:br>
              <a:rPr sz="1800"/>
            </a:b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https://twiki.cern.ch/twiki/bin/view/EGEE/AuthZPEPCCLI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Policy: </a:t>
            </a:r>
            <a:br>
              <a:rPr sz="24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ap-admin ap --resource ".*" --action  ".*" permit vo="switch”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Test: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epcli -p https://chaos.switch.ch:8154/authz -r my_res  -a my_action \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 -c /tmp/x509up_u964  --cert .globus/usercert.pem \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 --key .globus/userkey.pem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Resource: my_r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Decision: Permit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Obligation: http://glite.org/xacml/obligation/local-environment-map/posix (caller should resolve POSIX account mapping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Username: dteam026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Group: dteam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7BD0-ECF9-4966-8FF9-0AA65DED6A01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gus updates the policies in regular intervals and caches results for performance reas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nsequence: 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when modifying policies you must execute the following two commands to make sure they are valid immediately: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# policy is effective immediatel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/etc/init.d/pdp reloadpolic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8f"/>
                </a:solidFill>
                <a:latin typeface="Arial"/>
              </a:rPr>
              <a:t># clear cache</a:t>
            </a: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8f"/>
                </a:solidFill>
                <a:latin typeface="Arial"/>
              </a:rPr>
              <a:t>/etc/init.d/pepd clearcache</a:t>
            </a: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5398-B462-4E5E-9C30-6F67E59E85B0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iling list: argus-support@cern.ch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gus support unit in GG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8f"/>
                </a:solidFill>
                <a:latin typeface="Arial"/>
              </a:rPr>
              <a:t>Wiki: </a:t>
            </a:r>
            <a:r>
              <a:rPr b="1" lang="en-US" sz="24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https://twiki.cern.ch/twiki/bin/view/EGEE/AuthorizationFramework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42DA-74B3-4EAE-AE9F-85B459E401FB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55DD-81E6-45EF-9C16-352B2D58845B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rth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bout Argu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uthZ service design document: https://edms.cern.ch/document/944192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ployment plan: https://edms.cern.ch/document/984088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eneral EGEE grid security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Authorization study: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edms.cern.ch/document/887174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gLite security: architecture: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edms.cern.ch/document/935451/2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C73D-5A6C-475B-A1A4-1486CE1F88D3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end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endix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tivation for Argus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AD97-86FD-4FBF-A80D-6DF3E3F18234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28320" y="66240"/>
            <a:ext cx="6859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Problems Are We Trying to Solv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Different Services use different authorization mechanism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ome services even use internally more than one authorization framework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 administrators do not have simple debugging tools to check and understand their authorization configura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 administrators must configure the authorization for each service at their site separatel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 1: At a site, there is no single point to ban users/groups of users for the entire sit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 2: many site administrators don’t know how to ban user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here should be a command line tool for banning and un-banning users at a sit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ABA7-DD98-4116-9154-A32180F5B899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Problems Are We Trying to Solv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re is no central grid-wide banning list to be used during incident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: Urgent ban cannot be taken for granted during incid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s cannot publish their complete authorization policy to the outside worl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urrently only assignment of FQANS (experience of DENY tags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ote: Fixing this problem does not mean that sites MUST publish their authorization policy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o monitoring on authorization decisi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64A6-7E78-4D53-89A4-42CE63245C9F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its of the Authorization Service (1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in benefit within EGEE-III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ressing the above list of short-coming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 addition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sistance to failure and simple means for scaling the servi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lexible deployment mod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No dependency on a shared file system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High availability op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lient component is very lightweigh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mall amount of cod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ew dependencies (especially on WN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ortability: support on other OS and languages eas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6443-1F86-4236-B53B-9723AE0CF5F8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= gLite Authorization Servic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Developed in EGEE-III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Passed staged rollout in April 2010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n EMI: Argus P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Responsible for maintenance and support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Institutions: CNAF, HIP, NIKHEF, SWITCH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= Attribute-based Authorization service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Attributes = DN, CA, FQAN, ….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ternal engine that determines whether a request containing a set of attributes shall be authorized or no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Note abbreviation: authZ = authorization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1E4B-1D0D-4A87-A291-D2D60C650510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its of the Authorization Service (2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 addition (cont.)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ables/eases various authorization tasks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Banning of users (VO, WMS, site, or grid wide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omposition of policies – CERN policy + experiment policy + CE policy + OCST policy + NGI policy=&gt; Effective polic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authorization based on more detailed information about the job, action, and execution environmen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authorization based on attributes other than FQA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multiple credential formats (not just X.509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upport for multiple types of execution environm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Virtual machines, workspaces, …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agios plug-ins provided for monitoring of servi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ed Use-Case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1/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lExec on WN (multi-user pilot job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584E-DA7D-4B9C-BFFB-DC94D8DF984B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21" name="Picture 1030" descr="wn-use-case"/>
          <p:cNvPicPr/>
          <p:nvPr/>
        </p:nvPicPr>
        <p:blipFill>
          <a:blip r:embed="rId1"/>
          <a:stretch/>
        </p:blipFill>
        <p:spPr>
          <a:xfrm>
            <a:off x="1174680" y="1417680"/>
            <a:ext cx="679464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ed Use-Case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2/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lobal Banning lis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SCT / EGI CSIRT operates a global banning list (for incidents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rgus can be configured to import this global banning lis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ote: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219680" indent="-44316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lobal banning is by default disable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219680" indent="-44316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lobal banning (if activated) can be overruled by local admi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ridFTP (GSI call out)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43160" indent="-443160">
              <a:spcBef>
                <a:spcPts val="349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REAM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(see next slide)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tegration Argus – CREAM currently in developmen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Other services are planned in EMI </a:t>
            </a:r>
            <a:r>
              <a:rPr b="1" lang="en-US" sz="2400" spc="-1" strike="noStrike">
                <a:solidFill>
                  <a:srgbClr val="2b519a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single point for authorization decisions at a sit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31E5-6B7F-4BE4-8DA0-9CCA57BB5963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49C7-35E9-43F4-A361-CABF83906F26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the 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6" descr="service_components_ce"/>
          <p:cNvPicPr/>
          <p:nvPr/>
        </p:nvPicPr>
        <p:blipFill>
          <a:blip r:embed="rId1"/>
          <a:stretch/>
        </p:blipFill>
        <p:spPr>
          <a:xfrm>
            <a:off x="588960" y="888840"/>
            <a:ext cx="773892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5BF1-E700-4384-B89F-190DB01DEC66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Compon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600" y="5216040"/>
            <a:ext cx="858996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Administration Point: Formulating the rules through command line interface and/or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file-based inpu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Decision Point:           Evaluating a request from a client based on the rules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Enforcement Point:    Thin client part and server part: all complexity in server par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Runtime Execution Environment: Under which env. must I run? (UID, GID)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99960" y="1749600"/>
            <a:ext cx="1317600" cy="84132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Initial rules: 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Banning unbanning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Pilot job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35" name="Picture 8" descr="service_components"/>
          <p:cNvPicPr/>
          <p:nvPr/>
        </p:nvPicPr>
        <p:blipFill>
          <a:blip r:embed="rId1"/>
          <a:stretch/>
        </p:blipFill>
        <p:spPr>
          <a:xfrm>
            <a:off x="1832040" y="843120"/>
            <a:ext cx="4976640" cy="44146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6281640" y="4226040"/>
            <a:ext cx="2444760" cy="44280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Initial default deployment: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All components on one host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stallation and Configuration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mmand line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CCD5-5E52-4C99-8026-ED933D3CA4D7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all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45600" y="83484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YAIM Installation: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stallation and configuration of Argus on one host (default configuration) using YAIM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heck out functionality using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 polic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configure glexec (resp. LCMAPS) on WN to call out to Argu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able global banning list (if desired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nual installation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stall three components (PAP, PDP, PEP daemon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figure compon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062720" indent="-2124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cluding administrator access configura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heck out functionality  using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 polic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configure glexec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899B-F6FA-4A73-B504-AC71189708A8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12:54:21Z</dcterms:created>
  <dc:creator/>
  <dc:description/>
  <dc:language>en-US</dc:language>
  <cp:lastModifiedBy>Christoph Witzig</cp:lastModifiedBy>
  <cp:lastPrinted>2006-09-26T11:39:25Z</cp:lastPrinted>
  <dcterms:modified xsi:type="dcterms:W3CDTF">2010-06-02T08:45:55Z</dcterms:modified>
  <cp:revision>1293</cp:revision>
  <dc:subject/>
  <dc:title>Title</dc:title>
</cp:coreProperties>
</file>