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53F-B3F4-426E-A019-B55E7978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61F-269B-446F-9B8E-92DEDFE3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08C-50A9-4078-83B9-43BFFD3A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939-074D-4C3D-BEAA-25E21537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3F4B-C6D5-409C-8C9F-F484F0EE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A412-5299-4E25-99C6-CDCA52FD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E7FF-411E-4057-8F3A-72305E40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9F13-9DEE-4136-BD66-3367C1B8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19EB-3BCE-496F-AE54-77202B75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AEEA-C371-4466-B8D2-A97712C2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AB20-0516-4BEB-92FF-279073A4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88D-4348-4E3E-9FD2-9A429CE1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8BC7-0024-4999-A936-5BA4EE51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8DEF-A24E-4F71-B3CE-0A1AB707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1382-00FE-4460-9979-B9DE8094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0C32-A066-4B68-8D07-849ADF31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EE69-9DFF-4751-8A43-6466EBDC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DE67-AAAC-4D27-8C17-AB196577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D1F5-F9CB-4A0E-A5FD-C87FECD9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A668-913A-494D-AEAC-D3743BA0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DBFC-6003-4D40-A070-64AF226F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F146-E67B-42BB-975B-72231246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8E3-4F10-430B-868B-BE73BFAC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C32D-B65D-4C70-A0B0-CD083295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DB81-6DC4-47DA-8A44-34F2F0FE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72376-A687-4006-AFB8-B9DC6062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FDEC-07EF-41DF-A577-6D4377E3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5F42-4999-41C9-9302-CEBF0D97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978F-941A-4DF7-8155-D13DFA70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BE079-1F1A-4416-ACFB-258F9A4C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97E-4327-41FA-A885-EB555E78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BF0-4C17-42B6-8998-8F7F3853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CD8-2AC8-41F3-9B95-45D165CD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60C-4D50-426D-86B3-791EA0CB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394-AA41-487C-A543-04F6C044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DFE-0F1E-4746-9144-BB5F135B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AC50-9BEA-4EBE-A0BD-DEC2F0FAD38E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9044-6DA8-46FE-9A74-3ED735AAC4A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C5E7-6B2C-41F4-A2CB-6BD4FD518E4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twiki.cern.ch/twiki/bin/view/EGEE/AuthorizationFramework" TargetMode="External"/><Relationship Id="rId2" Type="http://schemas.openxmlformats.org/officeDocument/2006/relationships/hyperlink" Target="https://twiki.cern.ch/twiki/bin/view/EMI/ArgusSRC" TargetMode="External"/><Relationship Id="rId3" Type="http://schemas.openxmlformats.org/officeDocument/2006/relationships/hyperlink" Target="https://twiki.cern.ch/twiki/bin/view/EGEE/AuthZPAPCLI" TargetMode="External"/><Relationship Id="rId4" Type="http://schemas.openxmlformats.org/officeDocument/2006/relationships/hyperlink" Target="https://twiki.cern.ch/twiki/bin/view/EGEE/SimplifiedPolicyLanguage" TargetMode="External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3600" spc="-1" strike="noStrike">
                <a:solidFill>
                  <a:srgbClr val="10253f"/>
                </a:solidFill>
                <a:latin typeface="Arial"/>
              </a:rPr>
              <a:t>The EMI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47880" y="824040"/>
            <a:ext cx="79516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distributio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: 8154 (PEP client connections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var/log/argus/(pap|pdp|pepd)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ap {start|stop|status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dp {start|stop|status|reloadpolicy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epd {start|stop|status|clearcache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servi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ervice Operat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1523-6810-4B8C-A4BC-2B66182BAC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04560" y="824040"/>
            <a:ext cx="7767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Is user X banned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ed with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14A7-3A15-4CD4-9647-FB8E03F4FF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XACML policies !?!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D1ED-86E3-4E52-92CD-72BCA6436B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1"/>
          <p:cNvSpPr/>
          <p:nvPr/>
        </p:nvSpPr>
        <p:spPr>
          <a:xfrm>
            <a:off x="933480" y="1555920"/>
            <a:ext cx="78138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”PolicyCombiningAlgId="urn:oasis:names:tc:xacml:1.0:policy-combining-algorithm:first-applicable" PolicySetId="9784d9ce-16a9-41b9-9d26-b81a97f93616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” PolicyId="public_2d8346b8-5cd2-44ad-9ad1-0eff5d8a6ef1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CombiningAlgId="urn:oasis:names:tc:xacml:1.0:rule-combining-algorithm:first-applicable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read and/or understand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write, prone to err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administrators with simple tool to manage the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54F4-6190-4A38-917F-4934F8C255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implified Policy Languag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40CC-7846-4C5A-8E03-EA859F65C4D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dministrator’s tool to manage the PAP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ies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server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uthorization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ban user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create, edit and dele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F2DF-1222-4699-A02C-34D7D737B7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rea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a user by distinguished name (D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dd-policy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subject="CN=Valery Tschopp,O=SWITCH,C=ch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users by primary FQA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p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pfqan=”/atlas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n a user for any action and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ban subject "CN=John Doe,O=ACME,C=org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431B-4075-4FA2-9CFC-3EBBEC62F0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ing existing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lp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Enter the passphrase for the private key /home/tschopp/.globus/userkey.pem: 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default (local):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subject="CN=John Doe,O=ACME,C=org”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atlas-cluster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pfqan="/atlas"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CN=Valery Tschopp,O=SWITCH,C=ch”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2958-9923-4F62-9CBB-1275C5333F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C82D-BA01-48E8-9D7F-43A58C03D5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PilotJobAuthZ.png"/>
          <p:cNvPicPr/>
          <p:nvPr/>
        </p:nvPicPr>
        <p:blipFill>
          <a:blip r:embed="rId1"/>
          <a:stretch/>
        </p:blipFill>
        <p:spPr>
          <a:xfrm>
            <a:off x="1469880" y="2290680"/>
            <a:ext cx="6737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36560" y="824040"/>
            <a:ext cx="819000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 Polic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wn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atlas/Role=pilot"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fqan=”/atlas/analysis”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 Authoriz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8C40-F29E-4632-B696-FD653128CF3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EMI-1 Releas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Date Placeholder 2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4139-22E6-4915-AB38-E60101BA863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atible with gLite 3.2 Argus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Will be released for EMI-1 (end April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s it a problem for gLite 3.2 site 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stall the Argus 1.3 EMI-1 service (standalon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Keep the existing gLite 3.2 application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1.3 EMI-1 Releas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38F4-7269-4C01-85DF-53B1C6F6050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te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middleware stack (CE, WN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 and mapp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tool to manage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60FC-94BB-40BB-9E9B-3709695B69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5" name="Date Placeholder 6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twiki.cern.ch/twiki/bin/view/EGEE/AuthorizationFramework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rvice Reference Card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twiki.cern.ch/twiki/bin/view/EMI/ArgusS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dmin CL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twiki.cern.ch/twiki/bin/view/EGEE/AuthZPAPCLI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ified Policy Languag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twiki.cern.ch/twiki/bin/view/EGEE/SimplifiedPolicyLanguage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B1E0-8514-4B3F-8B80-02E0601A568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us.fzk.d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2669-8722-46A7-AB17-D97BBAF3A48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6869-7D04-433D-93C7-A3EEBB70F452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61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981E-E962-457E-819A-7CFE6CB890C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 (pap-admi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C869-3F14-4B9D-B8B9-DD9328E9407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y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requests from the PE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31A9-74F4-41FC-9136-8F445FDDAB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xecu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1E91-32C4-4A54-AFFC-6C151FE6F9E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DA12-49D9-4B52-BE9A-D0966A78465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B9DC-313E-49A1-9BE9-2AE9311599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ontent Placeholder 6" descr="Argus-EMI_Deployment.png"/>
          <p:cNvPicPr/>
          <p:nvPr/>
        </p:nvPicPr>
        <p:blipFill>
          <a:blip r:embed="rId1"/>
          <a:srcRect l="0" t="-3086" r="0" b="-3086"/>
          <a:stretch/>
        </p:blipFill>
        <p:spPr>
          <a:xfrm>
            <a:off x="1908000" y="1650960"/>
            <a:ext cx="631044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(EGI, NGI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cal si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DE1A-3D38-4753-9868-2234B6251E2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7:49:34Z</dcterms:created>
  <dc:creator>Valery Tschopp</dc:creator>
  <dc:description/>
  <dc:language>en-US</dc:language>
  <cp:lastModifiedBy>Valery Tschopp</cp:lastModifiedBy>
  <dcterms:modified xsi:type="dcterms:W3CDTF">2011-04-12T08:28:33Z</dcterms:modified>
  <cp:revision>144</cp:revision>
  <dc:subject/>
  <dc:title>Argus The EMI Authorization Service</dc:title>
</cp:coreProperties>
</file>