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10ED-1A2E-42CC-9956-945446A9D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748188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04560" y="3601800"/>
            <a:ext cx="748188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C867-139C-4F3F-B715-BEF8F9E1D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38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04560" y="360180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38560" y="360180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FCF5-6ABF-4718-A31A-F0941D44B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734280" y="84132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3640" y="84132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04560" y="360180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734280" y="360180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3640" y="360180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13D2-047C-40B0-B201-859879E6F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2E8D0-0D1F-4C3E-B344-C4D890BF3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204560" y="841320"/>
            <a:ext cx="7481880" cy="52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8CCA8-5641-4023-8C8A-451973AAE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748188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79EF3-B575-4616-AE15-01B40D3FD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365112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38560" y="841320"/>
            <a:ext cx="365112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E6CF0-3004-4334-9069-F11E9307D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7F262-D3C0-4D91-9430-4764AF3F8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D623A-BF2C-4EBF-9D2C-3CFD652A6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38560" y="841320"/>
            <a:ext cx="365112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04560" y="360180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6EA3A-2CAF-4691-AD6B-C61E8B867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04560" y="841320"/>
            <a:ext cx="7481880" cy="52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A969-4E29-45B4-A237-0B31D9D7A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365112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38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38560" y="360180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C82A0-765B-4996-9559-991B062F1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38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204560" y="3601800"/>
            <a:ext cx="748188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E20AA-C325-45A1-886D-45FAE3A2F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748188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204560" y="3601800"/>
            <a:ext cx="748188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3E1BE-B885-4802-BB7E-C7C31F2FB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38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204560" y="360180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38560" y="360180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69501-2C3D-4A59-8DDE-B4853A137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734280" y="84132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263640" y="84132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204560" y="360180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734280" y="360180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263640" y="360180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662AC-850A-4BC2-A3EA-0F00E4181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7EBE36-2972-4392-B498-034223281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204560" y="841320"/>
            <a:ext cx="7481880" cy="52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90902C-E331-4476-8E82-27A4FAB75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748188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8EFCD1-DF07-4C95-9685-F7CF54417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365112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38560" y="841320"/>
            <a:ext cx="365112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CA4878-9860-4AE0-8F8C-74517F7A5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20A215-3E11-4BF8-85F6-60AE198A7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748188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8929-B82A-4E26-97C1-A6983C271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67149D-F2B9-440B-9656-FBE767B8A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38560" y="841320"/>
            <a:ext cx="365112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204560" y="360180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08FA2E-8168-4BDB-B222-0C5F75797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365112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038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038560" y="360180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568220-81F5-4C3B-8A1C-D470B748B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038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204560" y="3601800"/>
            <a:ext cx="748188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44EC37-0EAE-49C8-AEDB-87D0BE46E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748188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1204560" y="3601800"/>
            <a:ext cx="748188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DA6D9F-53F8-43E8-AEE5-07EB656D6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038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204560" y="360180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5038560" y="360180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65FEB3-60A4-40B4-9088-108FD9487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734280" y="84132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263640" y="84132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1204560" y="360180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734280" y="360180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263640" y="360180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0E2E16-539D-40C3-8973-7AE03A61C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365112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38560" y="841320"/>
            <a:ext cx="365112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D396-36B4-401B-9078-D40914CE8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2669-3772-49DE-A07C-BD6AC67F4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C94A-7AFA-4116-94BD-7920C7F03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38560" y="841320"/>
            <a:ext cx="365112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04560" y="360180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674E-1F98-4C37-B7D3-8EBD4D0B8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365112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38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8560" y="360180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049C-158F-4681-B390-6E2CF10C3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8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04560" y="3601800"/>
            <a:ext cx="748188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EE68-839A-4864-990A-C98A529E7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04560" y="841320"/>
            <a:ext cx="748188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109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0456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2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a6a6a6"/>
                </a:solidFill>
                <a:latin typeface="Calibri"/>
              </a:rPr>
              <a:t>31/05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19120" y="6357960"/>
            <a:ext cx="3894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6a6a6"/>
                </a:solidFill>
                <a:latin typeface="Calibri"/>
              </a:rPr>
              <a:t>Argus, EMI All Hands Meeting 2011, L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F410A-FE76-4D72-8983-E20D3BA9D480}" type="slidenum">
              <a:rPr b="0" lang="en-GB" sz="1200" spc="-1" strike="noStrike">
                <a:solidFill>
                  <a:srgbClr val="a6a6a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Box 10"/>
          <p:cNvSpPr/>
          <p:nvPr/>
        </p:nvSpPr>
        <p:spPr>
          <a:xfrm rot="10800000">
            <a:off x="0" y="4220640"/>
            <a:ext cx="369720" cy="17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alibri"/>
              </a:rPr>
              <a:t>EMI INFSO-RI-2616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4" descr="C:\Dokumente und Einstellungen\nl\Eigene Dateien\Aufträge 2009-JSC\EMI-PPT-Template\streifen.png"/>
          <p:cNvPicPr/>
          <p:nvPr/>
        </p:nvPicPr>
        <p:blipFill>
          <a:blip r:embed="rId2"/>
          <a:stretch/>
        </p:blipFill>
        <p:spPr>
          <a:xfrm>
            <a:off x="-36360" y="0"/>
            <a:ext cx="676080" cy="6858000"/>
          </a:xfrm>
          <a:prstGeom prst="rect">
            <a:avLst/>
          </a:prstGeom>
          <a:ln w="0">
            <a:noFill/>
          </a:ln>
        </p:spPr>
      </p:pic>
      <p:sp>
        <p:nvSpPr>
          <p:cNvPr id="7" name="TextBox 10"/>
          <p:cNvSpPr/>
          <p:nvPr/>
        </p:nvSpPr>
        <p:spPr>
          <a:xfrm rot="10800000">
            <a:off x="75960" y="5094360"/>
            <a:ext cx="369720" cy="17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fbfbf"/>
                </a:solidFill>
                <a:latin typeface="Calibri"/>
              </a:rPr>
              <a:t>EMI INFSO-RI-2616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7" descr=""/>
          <p:cNvPicPr/>
          <p:nvPr/>
        </p:nvPicPr>
        <p:blipFill>
          <a:blip r:embed="rId3"/>
          <a:stretch/>
        </p:blipFill>
        <p:spPr>
          <a:xfrm rot="16200000">
            <a:off x="-173520" y="4502880"/>
            <a:ext cx="836640" cy="352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9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10"/>
          <p:cNvSpPr/>
          <p:nvPr/>
        </p:nvSpPr>
        <p:spPr>
          <a:xfrm rot="10800000">
            <a:off x="0" y="4220640"/>
            <a:ext cx="369720" cy="17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alibri"/>
              </a:rPr>
              <a:t>EMI INFSO-RI-2616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C:\Dokumente und Einstellungen\nl\Eigene Dateien\Aufträge 2009-JSC\EMI-PPT-Template\streifen.png"/>
          <p:cNvPicPr/>
          <p:nvPr/>
        </p:nvPicPr>
        <p:blipFill>
          <a:blip r:embed="rId2"/>
          <a:stretch/>
        </p:blipFill>
        <p:spPr>
          <a:xfrm>
            <a:off x="-36360" y="0"/>
            <a:ext cx="67608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TextBox 10"/>
          <p:cNvSpPr/>
          <p:nvPr/>
        </p:nvSpPr>
        <p:spPr>
          <a:xfrm rot="10800000">
            <a:off x="75960" y="5094360"/>
            <a:ext cx="369720" cy="17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fbfbf"/>
                </a:solidFill>
                <a:latin typeface="Calibri"/>
              </a:rPr>
              <a:t>EMI INFSO-RI-2616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"/>
          <p:cNvPicPr/>
          <p:nvPr/>
        </p:nvPicPr>
        <p:blipFill>
          <a:blip r:embed="rId3"/>
          <a:stretch/>
        </p:blipFill>
        <p:spPr>
          <a:xfrm rot="16200000">
            <a:off x="-173520" y="4502880"/>
            <a:ext cx="836640" cy="3524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1"/>
          <p:cNvSpPr/>
          <p:nvPr/>
        </p:nvSpPr>
        <p:spPr>
          <a:xfrm>
            <a:off x="0" y="0"/>
            <a:ext cx="1049400" cy="6858000"/>
          </a:xfrm>
          <a:prstGeom prst="rect">
            <a:avLst/>
          </a:prstGeom>
          <a:solidFill>
            <a:srgbClr val="01092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204560" y="841320"/>
            <a:ext cx="748188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109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120456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ffffff"/>
                </a:solidFill>
                <a:latin typeface="Calibri"/>
              </a:rPr>
              <a:t>31/05/201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2319120" y="6357960"/>
            <a:ext cx="3894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rgus, EMI All Hands Meeting 2011, Lun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715BD-F227-4758-A720-902682D38946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Box 10"/>
          <p:cNvSpPr/>
          <p:nvPr/>
        </p:nvSpPr>
        <p:spPr>
          <a:xfrm rot="10800000">
            <a:off x="0" y="4220640"/>
            <a:ext cx="369720" cy="17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alibri"/>
              </a:rPr>
              <a:t>EMI INFSO-RI-2616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C:\Dokumente und Einstellungen\nl\Eigene Dateien\Aufträge 2009-JSC\EMI-PPT-Template\streifen.png"/>
          <p:cNvPicPr/>
          <p:nvPr/>
        </p:nvPicPr>
        <p:blipFill>
          <a:blip r:embed="rId2"/>
          <a:stretch/>
        </p:blipFill>
        <p:spPr>
          <a:xfrm>
            <a:off x="-36360" y="0"/>
            <a:ext cx="67608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TextBox 10"/>
          <p:cNvSpPr/>
          <p:nvPr/>
        </p:nvSpPr>
        <p:spPr>
          <a:xfrm rot="10800000">
            <a:off x="75960" y="5094360"/>
            <a:ext cx="369720" cy="17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fbfbf"/>
                </a:solidFill>
                <a:latin typeface="Calibri"/>
              </a:rPr>
              <a:t>EMI INFSO-RI-2616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7" descr=""/>
          <p:cNvPicPr/>
          <p:nvPr/>
        </p:nvPicPr>
        <p:blipFill>
          <a:blip r:embed="rId3"/>
          <a:stretch/>
        </p:blipFill>
        <p:spPr>
          <a:xfrm rot="16200000">
            <a:off x="-173520" y="4502880"/>
            <a:ext cx="836640" cy="35244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1204560" y="841320"/>
            <a:ext cx="748188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109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120456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31/05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, EMI All Hands Meeting 2011, L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A35E2-7889-4CF6-AD42-1A9B8AC3E56F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9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7" descr="EMI-Europ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6"/>
          <p:cNvSpPr/>
          <p:nvPr/>
        </p:nvSpPr>
        <p:spPr>
          <a:xfrm>
            <a:off x="571680" y="407880"/>
            <a:ext cx="8001000" cy="6021360"/>
          </a:xfrm>
          <a:prstGeom prst="rect">
            <a:avLst/>
          </a:prstGeom>
          <a:solidFill>
            <a:srgbClr val="ffffff">
              <a:alpha val="75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706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10253f"/>
                </a:solidFill>
                <a:latin typeface="Arial"/>
              </a:rPr>
              <a:t>Argus</a:t>
            </a:r>
            <a:br>
              <a:rPr sz="4400"/>
            </a:br>
            <a:r>
              <a:rPr b="1" lang="en-GB" sz="4000" spc="-1" strike="noStrike">
                <a:solidFill>
                  <a:srgbClr val="10253f"/>
                </a:solidFill>
                <a:latin typeface="Arial"/>
              </a:rPr>
              <a:t>EMI Authorization Integration</a:t>
            </a:r>
            <a:endParaRPr b="1" lang="en-US" sz="4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371600" y="44625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0253f"/>
                </a:solidFill>
                <a:latin typeface="Calibri"/>
              </a:rPr>
              <a:t>Valery Tschopp (SWITCH)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0253f"/>
                </a:solidFill>
                <a:latin typeface="Calibri"/>
              </a:rPr>
              <a:t>Argus Product Team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pic>
        <p:nvPicPr>
          <p:cNvPr id="140" name="Picture 5" descr="C:\Dokumente und Einstellungen\nl\Eigene Dateien\Aufträge 2009-JSC\EMI-PPT-Template\EMI_Logo_newest.png"/>
          <p:cNvPicPr/>
          <p:nvPr/>
        </p:nvPicPr>
        <p:blipFill>
          <a:blip r:embed="rId2"/>
          <a:stretch/>
        </p:blipFill>
        <p:spPr>
          <a:xfrm>
            <a:off x="3022560" y="1106640"/>
            <a:ext cx="3098880" cy="130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746280" y="824040"/>
            <a:ext cx="824544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Argus as a service to manage consistent authorization policy based decisions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Service Deployment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pic>
        <p:nvPicPr>
          <p:cNvPr id="184" name="Content Placeholder 6" descr="ArgusIntegration.png"/>
          <p:cNvPicPr/>
          <p:nvPr/>
        </p:nvPicPr>
        <p:blipFill>
          <a:blip r:embed="rId1"/>
          <a:srcRect l="0" t="-6279" r="0" b="-6279"/>
          <a:stretch/>
        </p:blipFill>
        <p:spPr>
          <a:xfrm>
            <a:off x="1658880" y="2023920"/>
            <a:ext cx="6485040" cy="4665960"/>
          </a:xfrm>
          <a:prstGeom prst="rect">
            <a:avLst/>
          </a:prstGeom>
          <a:ln w="0">
            <a:noFill/>
          </a:ln>
        </p:spPr>
      </p:pic>
      <p:sp>
        <p:nvSpPr>
          <p:cNvPr id="185" name="Slide Number Placeholder 8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0FE15-DC94-44A2-842B-D9C681A45A97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Date Placeholder 9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31/05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ooter Placeholder 10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, EMI All Hands Meeting 2011, L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1204560" y="824040"/>
            <a:ext cx="748188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Hierarchical distribution of policies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Service Deployment (cont.)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90" name="Slide Number Placeholder 8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91430-DC96-4243-80A2-E80ACDC63976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9" descr="Argus-EMI_Deployment.png"/>
          <p:cNvPicPr/>
          <p:nvPr/>
        </p:nvPicPr>
        <p:blipFill>
          <a:blip r:embed="rId1"/>
          <a:stretch/>
        </p:blipFill>
        <p:spPr>
          <a:xfrm>
            <a:off x="1816200" y="1562040"/>
            <a:ext cx="6468840" cy="4383000"/>
          </a:xfrm>
          <a:prstGeom prst="rect">
            <a:avLst/>
          </a:prstGeom>
          <a:ln w="0">
            <a:noFill/>
          </a:ln>
        </p:spPr>
      </p:pic>
      <p:sp>
        <p:nvSpPr>
          <p:cNvPr id="192" name="Date Placeholder 10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31/05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ooter Placeholder 11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, EMI All Hands Meeting 2011, L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1204560" y="824040"/>
            <a:ext cx="748188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Payload is downloaded on the WN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gLExec runs it under the end-user identity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Pilot Jobs Authorization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96" name="Slide Number Placeholder 8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F9027-1071-42AB-A404-081C9C5C4596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9" descr="PilotJobAuthZ.png"/>
          <p:cNvPicPr/>
          <p:nvPr/>
        </p:nvPicPr>
        <p:blipFill>
          <a:blip r:embed="rId1"/>
          <a:stretch/>
        </p:blipFill>
        <p:spPr>
          <a:xfrm>
            <a:off x="1590840" y="2319480"/>
            <a:ext cx="6719760" cy="3536640"/>
          </a:xfrm>
          <a:prstGeom prst="rect">
            <a:avLst/>
          </a:prstGeom>
          <a:ln w="0">
            <a:noFill/>
          </a:ln>
        </p:spPr>
      </p:pic>
      <p:sp>
        <p:nvSpPr>
          <p:cNvPr id="198" name="Date Placeholder 10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31/05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ooter Placeholder 11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, EMI All Hands Meeting 2011, L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1204560" y="824040"/>
            <a:ext cx="772164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Argus 1.3 (EMI-1 release)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Back-compatible with gLite 3.2 Argus PEP client API libraries (C and Java)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Support for LFC/DPM banning engine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Bug fixes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Next Argus release (EMI Year 2)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Implement the </a:t>
            </a:r>
            <a:r>
              <a:rPr b="0" i="1" lang="en-US" sz="2800" spc="-1" strike="noStrike">
                <a:solidFill>
                  <a:srgbClr val="010920"/>
                </a:solidFill>
                <a:latin typeface="Calibri"/>
              </a:rPr>
              <a:t>EMI Common XACML Authorization Profile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Integration with UNICORE and ARC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Argus Releases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02" name="Slide Number Placeholder 7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5C811-6045-4429-ABA2-1B7EC4771127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Date Placeholder 8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31/05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ooter Placeholder 9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, EMI All Hands Meeting 2011, L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1204560" y="824040"/>
            <a:ext cx="748188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Common XACML Authorization Profile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EMI authorization integration ongoing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Consistent authorization decisions across the whole EMI middleware stack (CE, WN, SE, UNICORE, ARC, …)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Global banning list easy to manage and distribute 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c000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07" name="Slide Number Placeholder 8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94FAF-2EC8-499D-8963-33FDEAAC055F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Date Placeholder 9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31/05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ooter Placeholder 10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, EMI All Hands Meeting 2011, L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1204560" y="824040"/>
            <a:ext cx="748188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GGUS Tickets (ARGUS Support Unit)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10920"/>
                </a:solidFill>
                <a:latin typeface="Courier New"/>
                <a:ea typeface="Courier New"/>
              </a:rPr>
              <a:t>https://ggus.eu</a:t>
            </a:r>
            <a:endParaRPr b="0" lang="en-US" sz="24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Support mailing list (e-group):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92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10920"/>
                </a:solidFill>
                <a:latin typeface="Courier New"/>
                <a:ea typeface="Courier New"/>
              </a:rPr>
              <a:t>argus-support@cern.ch</a:t>
            </a:r>
            <a:endParaRPr b="0" lang="en-US" sz="24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General documentation </a:t>
            </a:r>
            <a:br>
              <a:rPr sz="3200"/>
            </a:b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https://twiki.cern.ch/twiki/bin/view/EGEE/AuthorizationFramework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Argus Support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12" name="Slide Number Placeholder 7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CD009-BCA4-47A1-9794-829A77B39B8F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Date Placeholder 8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31/05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Footer Placeholder 9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, EMI All Hands Meeting 2011, L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355400" y="4188960"/>
            <a:ext cx="7348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Thank you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16" name="Title 13"/>
          <p:cNvSpPr/>
          <p:nvPr/>
        </p:nvSpPr>
        <p:spPr>
          <a:xfrm>
            <a:off x="979560" y="5002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060"/>
                </a:solidFill>
                <a:latin typeface="Calibri"/>
              </a:rPr>
              <a:t>EMI is partially funded by the European Commission under Grant Agreement INFSO-RI-2616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5" descr="C:\Dokumente und Einstellungen\nl\Eigene Dateien\Aufträge 2009-JSC\EMI-PPT-Template\EMI_Logo_newest.png"/>
          <p:cNvPicPr/>
          <p:nvPr/>
        </p:nvPicPr>
        <p:blipFill>
          <a:blip r:embed="rId1"/>
          <a:stretch/>
        </p:blipFill>
        <p:spPr>
          <a:xfrm>
            <a:off x="1006560" y="785880"/>
            <a:ext cx="7572240" cy="3179520"/>
          </a:xfrm>
          <a:prstGeom prst="rect">
            <a:avLst/>
          </a:prstGeom>
          <a:ln w="0">
            <a:noFill/>
          </a:ln>
        </p:spPr>
      </p:pic>
      <p:sp>
        <p:nvSpPr>
          <p:cNvPr id="218" name="Slide Number Placeholder 9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8DEE0-40EA-450C-A631-F0C9A71568D4}" type="slidenum">
              <a:rPr b="0" lang="en-GB" sz="1200" spc="-1" strike="noStrike">
                <a:solidFill>
                  <a:srgbClr val="a6a6a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Date Placeholder 10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a6a6a6"/>
                </a:solidFill>
                <a:latin typeface="Calibri"/>
              </a:rPr>
              <a:t>31/05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ooter Placeholder 11"/>
          <p:cNvSpPr/>
          <p:nvPr/>
        </p:nvSpPr>
        <p:spPr>
          <a:xfrm>
            <a:off x="2319480" y="6357960"/>
            <a:ext cx="3894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6a6a6"/>
                </a:solidFill>
                <a:latin typeface="Calibri"/>
              </a:rPr>
              <a:t>Argus, EMI All Hands Meeting 2011, L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204560" y="824040"/>
            <a:ext cx="748188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Argus Authorization Service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Common XACML Authorization Profile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EMI Authorization Integration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Service Deployment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Argus Releases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Conclusions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43" name="Date Placeholder 3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31/05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ooter Placeholder 4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, EMI All Hands Meeting 2011, L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lide Number Placeholder 5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8D655-048A-4AB5-85E9-DE4BADF1BD40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64720" y="824040"/>
            <a:ext cx="782172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Renders consistent authorization decisions based on XACML policies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920"/>
                </a:solidFill>
                <a:latin typeface="Calibri"/>
              </a:rPr>
              <a:t>Can user X perform action Y on resource Z?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920"/>
                </a:solidFill>
                <a:latin typeface="Calibri"/>
              </a:rPr>
              <a:t>Ban user by DN, FQAN, issuing CA, … !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Argus Authorization Service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pic>
        <p:nvPicPr>
          <p:cNvPr id="148" name="Content Placeholder 6" descr="ARGUS_Components-EMI.png"/>
          <p:cNvPicPr/>
          <p:nvPr/>
        </p:nvPicPr>
        <p:blipFill>
          <a:blip r:embed="rId1"/>
          <a:srcRect l="0" t="-42712" r="0" b="-42712"/>
          <a:stretch/>
        </p:blipFill>
        <p:spPr>
          <a:xfrm>
            <a:off x="865080" y="1670040"/>
            <a:ext cx="8520120" cy="6129360"/>
          </a:xfrm>
          <a:prstGeom prst="rect">
            <a:avLst/>
          </a:prstGeom>
          <a:ln w="0">
            <a:noFill/>
          </a:ln>
        </p:spPr>
      </p:pic>
      <p:sp>
        <p:nvSpPr>
          <p:cNvPr id="149" name="Slide Number Placeholder 8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B605F-FD49-4401-A83A-28068C6E8620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Date Placeholder 9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31/05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ooter Placeholder 10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, EMI All Hands Meeting 2011, L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1204560" y="824040"/>
            <a:ext cx="748188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Argus PAP: Policy Administration Point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Provides site administrators with the tools for authoring policies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Stores and manages authored XACML policies 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Provides managed authorization policies to other authorization service components (other PAPs or PDP)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pap-admin too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Simple Policy Language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Argus Authorization Service (cont.)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54" name="Slide Number Placeholder 7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BFBBD-30AC-454F-B9C0-B8EFBD289EA9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Date Placeholder 8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31/05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ooter Placeholder 9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, EMI All Hands Meeting 2011, L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1204560" y="824040"/>
            <a:ext cx="748188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Argus PDP: Policy Decision Point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XACML policies evaluation engine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Receives authorization decision requests from the PEP Server or other components (UNICORE PDP, …)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Evaluates the authorization decision requests against the XACML policies retrieved from the PAP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Renders the authorization decision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Argus Authorization Service (cont.)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59" name="Slide Number Placeholder 7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B5FF6-D29C-4275-8E1A-C19A5B91F5DC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Date Placeholder 8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31/05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ooter Placeholder 9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, EMI All Hands Meeting 2011, L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607680" y="824040"/>
            <a:ext cx="853596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Argus PEP: Policy Enforcement Point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Client/Server architecture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Lightweight PEP client API libraries (C and Java)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PEP Server receives the authorization decision requests from the PEP clients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Applies additional filters to the requests (PIP)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Asks the PDP to render an authorization decision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Applies the obligation handler (OH) to determine the user mapping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Sends authorization decision (with obligations) back to the PEP clients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Argus Authorization Service (cont.)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64" name="Slide Number Placeholder 7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E735A-FC59-4F26-80D4-0C6CF350587B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Date Placeholder 8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31/05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ooter Placeholder 9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, EMI All Hands Meeting 2011, L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1204560" y="824040"/>
            <a:ext cx="748188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EMI common authorization profile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Define a common set of XACML authorization attributes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Homogenous and consistent authorization decisions across the EMI middleware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Profile released, but still need to be implemented for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109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920"/>
                </a:solidFill>
                <a:latin typeface="Calibri"/>
              </a:rPr>
              <a:t>UNICORE PDP integration in XACML</a:t>
            </a:r>
            <a:endParaRPr b="0" lang="en-US" sz="2400" spc="-1" strike="noStrike">
              <a:solidFill>
                <a:srgbClr val="01092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109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920"/>
                </a:solidFill>
                <a:latin typeface="Calibri"/>
              </a:rPr>
              <a:t>ARC SecHandler integration with PEP client API</a:t>
            </a:r>
            <a:endParaRPr b="0" lang="en-US" sz="24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https://twiki.cern.ch/twiki/bin/view/EMI/EmiJra1T4XACM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Common XACML Authorization Profile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69" name="Slide Number Placeholder 7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07790-DDEC-43E8-939B-FC707AD9E1C7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Date Placeholder 8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31/05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ooter Placeholder 9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, EMI All Hands Meeting 2011, L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1204560" y="824040"/>
            <a:ext cx="748188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EMI-1 release authorization status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Computing Element (CE):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109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920"/>
                </a:solidFill>
                <a:latin typeface="Calibri"/>
              </a:rPr>
              <a:t>CREAM CE integrated with Argus</a:t>
            </a:r>
            <a:endParaRPr b="0" lang="en-US" sz="24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Worker Node (WN):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109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920"/>
                </a:solidFill>
                <a:latin typeface="Calibri"/>
              </a:rPr>
              <a:t>gLExec with LCMAPS PEP plugin for pilot jobs</a:t>
            </a:r>
            <a:endParaRPr b="0" lang="en-US" sz="24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Storage Element (SE):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109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920"/>
                </a:solidFill>
                <a:latin typeface="Calibri"/>
              </a:rPr>
              <a:t>DPM/LFC banning engine</a:t>
            </a:r>
            <a:endParaRPr b="0" lang="en-US" sz="2400" spc="-1" strike="noStrike">
              <a:solidFill>
                <a:srgbClr val="01092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109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920"/>
                </a:solidFill>
                <a:latin typeface="Calibri"/>
              </a:rPr>
              <a:t>dCache authorization plugin (available in EMI-1, not enabled by default)</a:t>
            </a:r>
            <a:endParaRPr b="0" lang="en-US" sz="24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EMI Authorization Integration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74" name="Slide Number Placeholder 7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FFE66-4546-4C39-9621-7A55F18589D3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Date Placeholder 8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31/05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ooter Placeholder 9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, EMI All Hands Meeting 2011, L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1204560" y="824040"/>
            <a:ext cx="748188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Future work (EMI Year 2)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Implement the common XACML authorization profile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109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920"/>
                </a:solidFill>
                <a:latin typeface="Calibri"/>
              </a:rPr>
              <a:t>Argus update to support new profile</a:t>
            </a:r>
            <a:endParaRPr b="0" lang="en-US" sz="2400" spc="-1" strike="noStrike">
              <a:solidFill>
                <a:srgbClr val="01092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1092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920"/>
                </a:solidFill>
                <a:latin typeface="Calibri"/>
              </a:rPr>
              <a:t>Extend the simple policy language</a:t>
            </a:r>
            <a:endParaRPr b="0" lang="en-US" sz="2000" spc="-1" strike="noStrike">
              <a:solidFill>
                <a:srgbClr val="01092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1092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920"/>
                </a:solidFill>
                <a:latin typeface="Calibri"/>
              </a:rPr>
              <a:t>Define the new XACML attributes</a:t>
            </a:r>
            <a:endParaRPr b="0" lang="en-US" sz="2000" spc="-1" strike="noStrike">
              <a:solidFill>
                <a:srgbClr val="01092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109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920"/>
                </a:solidFill>
                <a:latin typeface="Calibri"/>
              </a:rPr>
              <a:t>UNICORE PDP integration in XACML</a:t>
            </a:r>
            <a:endParaRPr b="0" lang="en-US" sz="2400" spc="-1" strike="noStrike">
              <a:solidFill>
                <a:srgbClr val="01092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109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920"/>
                </a:solidFill>
                <a:latin typeface="Calibri"/>
              </a:rPr>
              <a:t>ARC SecHandler integration with PEP client API</a:t>
            </a:r>
            <a:endParaRPr b="0" lang="en-US" sz="24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Storage Element (SE)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109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920"/>
                </a:solidFill>
                <a:latin typeface="Calibri"/>
              </a:rPr>
              <a:t>StoRM authorization (banning)</a:t>
            </a:r>
            <a:endParaRPr b="0" lang="en-US" sz="24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EMI Execution Service (ES) integration???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EMI Authorization Integration (cont.)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C39F6-4D33-4B5F-8209-B11D80275126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Date Placeholder 4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31/05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ooter Placeholder 5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, EMI All Hands Meeting 2011, L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31T07:44:16Z</dcterms:created>
  <dc:creator>Valery Tschopp</dc:creator>
  <dc:description/>
  <cp:keywords/>
  <dc:language>en-US</dc:language>
  <cp:lastModifiedBy>Valery Tschopp</cp:lastModifiedBy>
  <dcterms:modified xsi:type="dcterms:W3CDTF">2011-05-31T07:58:15Z</dcterms:modified>
  <cp:revision>222</cp:revision>
  <dc:subject/>
  <dc:title>Argus - EMI Authorization Integration</dc:title>
</cp:coreProperties>
</file>