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C13A-5D73-405B-BC9B-999DDD301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9478-B66F-417D-AE18-2702FB10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5C4A-18F2-45BA-9DA6-7116BEF7D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0098-DBA7-4A27-9AA0-7104FB733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37E6-7572-4A7B-A081-DD72858B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BA9C-6453-4117-9A63-AD009E6B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6AD1-F76B-416C-B95B-6C6F783F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67EB-AD9B-49E2-9F93-CA9D514C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F720-9FAD-4776-A560-2E596EDF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9327-DBD3-4E8F-890C-F3238BE2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2E73-1AA0-41EE-975D-1ED5AF06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1E92-568E-4218-9B74-ED38E7D9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EA43-6F25-4E2D-9F70-130AD8E4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F810-73D8-4C03-879A-A5DA80A9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F164-3D93-46EE-B5E9-EFA54C70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7179-9993-47E6-A9D8-3097D413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7744-EF1B-4D93-9BB3-796A07134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C9A3A-AEE7-4857-BDDB-9DF90DA88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2FFF0-D31F-4D83-9D69-990B4D75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A0DBF-B048-4ED8-96EC-ABE1D52F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E7095-1C9B-4E8F-84D9-1D603E2E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51C05-3120-4040-A530-1221173A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162A-63DC-46BA-8D9D-98F7AA7D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E1F33-E1AC-47D3-BE0E-063F0F58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6BE1B-06D0-4FA0-924E-2005932A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2F905-3B5E-4AE5-92FB-D8F6A1E3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BAD60-FE16-4285-961D-4CDAC744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90FFD-22DF-4818-A43B-E8836DA8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B8600-FD3E-4693-BA1C-590619AB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BA043-8C34-41FD-8AA1-9285F5D95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6EEB-25D3-46D8-AADD-327F6C58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4F41-27CA-4669-B95D-95260E6E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4442-DC0D-4028-ABB9-5CADAA26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BE7F-D55F-4F88-A2B9-399B4F42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9DC7-95EB-4EFF-B382-40C4433C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C7ED-E8D0-4216-BBBC-7EF82D7B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a6a6a6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1912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2BD6-6B88-4326-BDD5-804220D73970}" type="slidenum">
              <a:rPr b="0" lang="en-GB" sz="12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7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9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0" y="0"/>
            <a:ext cx="1049400" cy="6858000"/>
          </a:xfrm>
          <a:prstGeom prst="rect">
            <a:avLst/>
          </a:prstGeom>
          <a:solidFill>
            <a:srgbClr val="01092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1912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6B65-F81F-4C60-AD6A-7E421F939550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E28C-9EA2-4A58-992A-17493E6C6C1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twiki.cern.ch/twiki/bin/view/EGEE/AuthorizationFramework" TargetMode="External"/><Relationship Id="rId2" Type="http://schemas.openxmlformats.org/officeDocument/2006/relationships/hyperlink" Target="https://twiki.cern.ch/twiki/bin/view/EMI/ArgusSRC" TargetMode="External"/><Relationship Id="rId3" Type="http://schemas.openxmlformats.org/officeDocument/2006/relationships/hyperlink" Target="https://twiki.cern.ch/twiki/bin/view/EGEE/AuthZPAPCLI" TargetMode="External"/><Relationship Id="rId4" Type="http://schemas.openxmlformats.org/officeDocument/2006/relationships/hyperlink" Target="https://twiki.cern.ch/twiki/bin/view/EGEE/SimplifiedPolicyLanguage" TargetMode="External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9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EMI-Europ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571680" y="407880"/>
            <a:ext cx="8001000" cy="6021360"/>
          </a:xfrm>
          <a:prstGeom prst="rect">
            <a:avLst/>
          </a:prstGeom>
          <a:solidFill>
            <a:srgbClr val="ffffff">
              <a:alpha val="7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706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0253f"/>
                </a:solidFill>
                <a:latin typeface="Arial"/>
              </a:rPr>
              <a:t>Argus</a:t>
            </a:r>
            <a:br>
              <a:rPr sz="4400"/>
            </a:br>
            <a:r>
              <a:rPr b="1" lang="en-GB" sz="3600" spc="-1" strike="noStrike">
                <a:solidFill>
                  <a:srgbClr val="10253f"/>
                </a:solidFill>
                <a:latin typeface="Arial"/>
              </a:rPr>
              <a:t>The EMI Authorization Servic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44625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0253f"/>
                </a:solidFill>
                <a:latin typeface="Calibri"/>
              </a:rPr>
              <a:t>Valery Tschopp (SWITCH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0253f"/>
                </a:solidFill>
                <a:latin typeface="Calibri"/>
              </a:rPr>
              <a:t>Argus Product Team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pic>
        <p:nvPicPr>
          <p:cNvPr id="140" name="Picture 5" descr="C:\Dokumente und Einstellungen\nl\Eigene Dateien\Aufträge 2009-JSC\EMI-PPT-Template\EMI_Logo_newest.png"/>
          <p:cNvPicPr/>
          <p:nvPr/>
        </p:nvPicPr>
        <p:blipFill>
          <a:blip r:embed="rId2"/>
          <a:stretch/>
        </p:blipFill>
        <p:spPr>
          <a:xfrm>
            <a:off x="3022560" y="1106640"/>
            <a:ext cx="309888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947880" y="824040"/>
            <a:ext cx="79516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Open ports (firewall): 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: 8150 (pap-admin, policies distribution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P Server: 8154 (PEP client connections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og and audit files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var/log/argus/(pap|pdp|pepd)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Init scripts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argus-pap {start|stop|status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argus-pdp {start|stop|status|reloadpolicy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argus-pepd {start|stop|status|clearcache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  <a:ea typeface="Courier New"/>
              </a:rPr>
              <a:t>Nagios plugins available to monitor the servic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Service Operation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86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940A-6371-4618-8CDD-E0688925B19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204560" y="824040"/>
            <a:ext cx="77677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is designed to answer the questions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920"/>
                </a:solidFill>
                <a:latin typeface="Calibri"/>
              </a:rPr>
              <a:t>Can user X perform action Y on resource Z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920"/>
                </a:solidFill>
                <a:latin typeface="Calibri"/>
              </a:rPr>
              <a:t>Is user X banned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ERMIT decis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llow to authorize users to perform an action on a resourc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DENY decis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llow to ban user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Both can be expressed with XACML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uthorization Policie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1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3ED4-AABB-46C0-9ECF-2849EA49CD4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XACML policies !?!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uthorization Policies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6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A0E7-4108-4A8B-8421-8B24DB6055C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ontent Placeholder 1"/>
          <p:cNvSpPr/>
          <p:nvPr/>
        </p:nvSpPr>
        <p:spPr>
          <a:xfrm>
            <a:off x="933480" y="1555920"/>
            <a:ext cx="78138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Set xmlns:xacml="urn:oasis:names:tc:xacml:2.0:policy:schema:os”PolicyCombiningAlgId="urn:oasis:names:tc:xacml:1.0:policy-combining-algorithm:first-applicable" PolicySetId="9784d9ce-16a9-41b9-9d26-b81a97f93616" Version="1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Targ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Match MatchId="urn:oasis:names:tc:xacml:1.0:function:string-regexp-match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ttributeValue DataType="http://www.w3.org/2001/XMLSchema#string"&gt;.*&lt;/xacml:AttributeValu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AttributeDesignator AttributeId="urn:oasis:names:tc:xacml:1.0:resource:resource-id" DataType="http://www.w3.org/2001/XMLSchema#string" MustBePresent="fals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Matc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Targ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IdReference&gt;public_2d8346b8-5cd2-44ad-9ad1-0eff5d8a6ef1&lt;/xacml:PolicyIdReferen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PolicyS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 xmlns:xacml="urn:oasis:names:tc:xacml:2.0:policy:schema:os” PolicyId="public_2d8346b8-5cd2-44ad-9ad1-0eff5d8a6ef1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CombiningAlgId="urn:oasis:names:tc:xacml:1.0:rule-combining-algorithm:first-applicable" Version="1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Targ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Match MatchId="urn:oasis:names:tc:xacml:1.0:function:string-regexp-match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ttributeValue DataType="http://www.w3.org/2001/XMLSchema#string"&gt;.*&lt;/xacml:AttributeValu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AttributeDesignator AttributeId="urn:oasis:names:tc:xacml:1.0:action:action-id" DataType="http://www.w3.org/2001/XMLSchema#string" MustBePresent="fals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Matc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Targ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ule Effect="Deny" RuleId="43c15124-6635-47ee-b13c-53f672d0de77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roblem?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XACML not easy to read and/or understand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XACML not easy to write, prone to error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ide the XACML language complexity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ntroduce a Simplified Policy Language (SPL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 administrators with simple tool to manage the polici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</a:t>
            </a: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to create, edit, delete permit/deny policy rules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uthorization Policies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2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976F-C887-4BC7-A870-B68898B31C4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Ban a particular user by D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".*" {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".*" {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deny {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subject="/C=CH/O=SWITCH/CN=Valery Tschopp" 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ermit ATLAS users (FQAN) to execute a job on a worker node (WN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"http://grid.switch.ch/wn" {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"http://glite.org/xacml/action/execute" {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fqan="/atlas" 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implified Policy Languag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7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F54D-1AC8-4BD2-86E0-AA3E3B1C6DE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dministrator’s tool to manage the PAP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olicies management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 server management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 authorization management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e way to ban user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e way to create, edit and delete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ap-admin Tool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2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0C53-B971-4019-8FE6-C28B7C17252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25320" y="824040"/>
            <a:ext cx="82915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reate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rmit a user by distinguished name (DN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$ pap-admin add-policy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--resource “http://grid.switch.ch/wn”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--action “http://glite.org/xacml/action/execute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permit subject="CN=Valery Tschopp,O=SWITCH,C=ch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rmit users by primary FQA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$ pap-admin ap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--resource “http://grid.switch.ch/wn”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--action “http://glite.org/xacml/action/execute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permit pfqan=”/atlas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Ban a user for any action and resourc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$ pap-admin ban subject "CN=John Doe,O=ACME,C=org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ap-admin Tool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7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4B8A-86AE-4A78-BBCB-6D98FA01A80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625320" y="824040"/>
            <a:ext cx="82915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isting existing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$ pap-admin lp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Enter the passphrase for the private key /home/tschopp/.globus/userkey.pem:  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default (local):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”.*" {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”.*" {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deny { subject="CN=John Doe,O=ACME,C=org” 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”http://grid.switch.ch/atlas-cluster" {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obligation "http://glite.org/xacml/obligation/local-environment-map" { 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”http://glite.org/xacml/action/execute" {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pfqan="/atlas" 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subject="CN=Valery Tschopp,O=SWITCH,C=ch”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ap-admin Tool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22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83FC-92F2-4D51-9079-617A6558DCA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yload is downloaded on the W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Exec runs it under the end-user identity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ilot Jobs Authorization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27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C96B-4190-447A-A7BF-05A6CD94B3D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PilotJobAuthZ.png"/>
          <p:cNvPicPr/>
          <p:nvPr/>
        </p:nvPicPr>
        <p:blipFill>
          <a:blip r:embed="rId1"/>
          <a:stretch/>
        </p:blipFill>
        <p:spPr>
          <a:xfrm>
            <a:off x="1469880" y="2290680"/>
            <a:ext cx="673740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736560" y="824040"/>
            <a:ext cx="819000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ilot Job Policy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”http://grid.switch.ch/wn" {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obligation "http://glite.org/xacml/obligation/local-environment-map" { 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”http://glite.org/xacml/action/execute" {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pfqan="/atlas/Role=pilot" 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fqan=”/atlas/analysis”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ilot Job Authorization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3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A6A3-10BC-4B32-87B1-142CB85D6B7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Authorization Servic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rvice Deployme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ified Policy Languag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p-admin Too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ilot Jobs Authorizat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1.3 EMI-1 Releas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clusion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42" name="Date Placeholder 2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4AD9-26A7-4574-9278-FF2A00B0F8C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1204560" y="824040"/>
            <a:ext cx="772164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1.3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Compatible with gLite 3.2 Argus PEP client libraries (C and Java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upport for LFC/DPM banning engin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Bug fix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Will be released for EMI-1 (end April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Is it a problem for gLite 3.2 site ?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nstall the Argus 1.3 EMI-1 service (standalone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Keep the existing gLite 3.2 application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1.3 EMI-1 Releas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C62D-AF6F-4FBE-AA0D-3D8716F424B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obal banning list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te specific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xperiment specific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sistent authorization decisions across the whole middleware stack (CE, WN, …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ilot Jobs authorization and mapping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e tool to manage authorizat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D542-0BDC-4BC5-8E50-CC651216D18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000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5" name="Date Placeholder 6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General documentation </a:t>
            </a:r>
            <a:br>
              <a:rPr sz="2800"/>
            </a:b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twiki.cern.ch/twiki/bin/view/EGEE/AuthorizationFramework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ervice Reference Card </a:t>
            </a:r>
            <a:br>
              <a:rPr sz="2800"/>
            </a:b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twiki.cern.ch/twiki/bin/view/EMI/ArgusSRC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 admin CLI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s://twiki.cern.ch/twiki/bin/view/EGEE/AuthZPAPCLI</a:t>
            </a: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implified Policy Languag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s://twiki.cern.ch/twiki/bin/view/EGEE/SimplifiedPolicyLanguage</a:t>
            </a: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Documentation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8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BFC6-B947-4B51-8378-4073EC9819F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GUS Tickets (ARGUS Support Unit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https://gus.fzk.de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upport mailing list (e-group)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argus-support@cern.ch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uppor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3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8AE7-7E03-433B-9B18-FF96E512A90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55400" y="4188960"/>
            <a:ext cx="734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7" name="Slide Number Placeholder 4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428A-D309-4F6C-A163-C15C64BAF22E}" type="slidenum">
              <a:rPr b="0" lang="en-GB" sz="12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5"/>
          <p:cNvSpPr/>
          <p:nvPr/>
        </p:nvSpPr>
        <p:spPr>
          <a:xfrm>
            <a:off x="231948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itle 13"/>
          <p:cNvSpPr/>
          <p:nvPr/>
        </p:nvSpPr>
        <p:spPr>
          <a:xfrm>
            <a:off x="979560" y="5002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Calibri"/>
              </a:rPr>
              <a:t>EMI is partially funded by the European Commission under Grant Agreement INFSO-RI-2616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5" descr="C:\Dokumente und Einstellungen\nl\Eigene Dateien\Aufträge 2009-JSC\EMI-PPT-Template\EMI_Logo_newest.png"/>
          <p:cNvPicPr/>
          <p:nvPr/>
        </p:nvPicPr>
        <p:blipFill>
          <a:blip r:embed="rId1"/>
          <a:stretch/>
        </p:blipFill>
        <p:spPr>
          <a:xfrm>
            <a:off x="1006560" y="785880"/>
            <a:ext cx="7572240" cy="3179520"/>
          </a:xfrm>
          <a:prstGeom prst="rect">
            <a:avLst/>
          </a:prstGeom>
          <a:ln w="0">
            <a:noFill/>
          </a:ln>
        </p:spPr>
      </p:pic>
      <p:sp>
        <p:nvSpPr>
          <p:cNvPr id="261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a6a6a6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64720" y="824040"/>
            <a:ext cx="78217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Renders consistent authorization decisions based on XACML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920"/>
                </a:solidFill>
                <a:latin typeface="Calibri"/>
              </a:rPr>
              <a:t>Can user X perform action Y on resource Z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920"/>
                </a:solidFill>
                <a:latin typeface="Calibri"/>
              </a:rPr>
              <a:t>Ban user by DN, FQAN, issuing CA, … !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8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4BEE-FA59-4806-8604-447262FA6E0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Content Placeholder 6" descr="ARGUS_Components-EMI.png"/>
          <p:cNvPicPr/>
          <p:nvPr/>
        </p:nvPicPr>
        <p:blipFill>
          <a:blip r:embed="rId1"/>
          <a:srcRect l="0" t="-42712" r="0" b="-42712"/>
          <a:stretch/>
        </p:blipFill>
        <p:spPr>
          <a:xfrm>
            <a:off x="865080" y="1670040"/>
            <a:ext cx="852012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AP: Policy Administrat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s site administrators with the tools for authoring policies (pap-admin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tores and manages authored XACML policies 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s managed authorization policies to other authorization service components (other PAPs or PDP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4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9C54-8F56-4E21-B21D-DDCD18A727D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DP: Policy Decis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olicy evaluation engin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Receives authorization requests from the PEP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Evaluates the authorization requests against the XACML policies retrieved from the PAP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Renders the authorization decisio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9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31B2-3C55-423D-B06F-34497B36227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EP: Policy Execut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Client/Server architectur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Lightweight PEP client libraries (C and Java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P Server receives the authorization requests from the PEP client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pplies additional filters to the requests (PIP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sks the PDP to render an authorization decisio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pplies the obligation handler (OH) to determine the user mapping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4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7EA9-6528-43C5-AF0C-D495FBB396A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746280" y="824040"/>
            <a:ext cx="824544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as a service to manage consistent authorization policy based decision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9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3F1E-E47B-4201-BFE5-06491F42FEF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Content Placeholder 6" descr="ArgusIntegration.png"/>
          <p:cNvPicPr/>
          <p:nvPr/>
        </p:nvPicPr>
        <p:blipFill>
          <a:blip r:embed="rId1"/>
          <a:srcRect l="0" t="-6279" r="0" b="-6279"/>
          <a:stretch/>
        </p:blipFill>
        <p:spPr>
          <a:xfrm>
            <a:off x="1658880" y="2023920"/>
            <a:ext cx="6485040" cy="46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Hierarchical distribution of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5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8181-AF8B-46D8-9A56-A046854879B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Content Placeholder 6" descr="Argus-EMI_Deployment.png"/>
          <p:cNvPicPr/>
          <p:nvPr/>
        </p:nvPicPr>
        <p:blipFill>
          <a:blip r:embed="rId1"/>
          <a:srcRect l="0" t="-3086" r="0" b="-3086"/>
          <a:stretch/>
        </p:blipFill>
        <p:spPr>
          <a:xfrm>
            <a:off x="1908000" y="1650960"/>
            <a:ext cx="631044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obal banning list (EGI, NGI, …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ocal site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xperiment specific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81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9738-22C5-48C5-9A3C-AFB522AE0A6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7:49:34Z</dcterms:created>
  <dc:creator>Valery Tschopp</dc:creator>
  <dc:description/>
  <dc:language>en-US</dc:language>
  <cp:lastModifiedBy>Valery Tschopp</cp:lastModifiedBy>
  <dcterms:modified xsi:type="dcterms:W3CDTF">2011-04-12T08:28:33Z</dcterms:modified>
  <cp:revision>144</cp:revision>
  <dc:subject/>
  <dc:title>Argus The EMI Authorization Service</dc:title>
</cp:coreProperties>
</file>